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36E5-CAAD-4CD5-BE19-3CB2AB6DD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5A53-756A-42F5-B9C9-754A48A2968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F7B88-F596-4741-8BE9-B5EEB2A1683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45613-E572-4569-8D6D-B1123610A58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77760" y="329760"/>
            <a:ext cx="11049120" cy="11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37E44-2B8B-4798-9052-307D91C0DBE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FC4B8-3954-4F22-9DD7-7C95C1318A1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8FD32-7C7C-40E9-9AD5-7C4F2825124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72A9D-659B-41BA-8338-CBE5259C469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E3E63-90A4-43DF-BECC-667FC3AEF45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5B49F-B601-4586-AF08-93CB1173A3D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524EB-5B04-4447-8EAD-B6B1E094C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A58C-7092-45D2-8544-17D6DA18F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C35E-2503-4B4E-898B-03829890D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DDFE5-F8E8-4560-92A5-2E96B175B0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F9654-A7B6-4221-8AC3-65F3628E07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56623-985C-47B4-8B1A-1802CB2CE5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B057C-27E1-4472-9994-A8D0753BB4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8ED7-F2E7-4F90-901D-C52FEF383F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77760" y="329760"/>
            <a:ext cx="11049120" cy="11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111E4-5D86-4549-876E-FC168D8006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6E0B-92BA-43DC-B3EA-0B202AF510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4D69-9243-4A17-9217-89EC1DAFE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E00F2-4F8C-4F08-912A-BA0EB33619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EF46C-3C99-40A9-93DD-32146A28BE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3A20C-A07B-4B19-AC14-81B7376A4D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B6B1A-AA2E-4277-8BF6-F77C150BB6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500E6-ADFE-46D8-BE85-B0B01A40D5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475-D5FB-4022-B827-165BA6A318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4138-FAAA-4186-B243-5E0A88A77A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5A6-C745-4555-B366-E838F6D049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4FE-5DCA-460A-99EA-B88E06BB7B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CC2-2AAE-4576-8567-961DAD76D6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C02E2-65DA-469A-85B5-916F4CB71F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77760" y="329760"/>
            <a:ext cx="11049120" cy="11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E93-F815-4EB3-B1CE-5872878F28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43B-389A-4A30-B131-57E1649F69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217-32FA-4ECF-9F70-8719EC68AB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9EF-1BFB-4231-B878-01E65C0732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3D23-3DD2-4421-BC88-E8E8A7856F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00F-9835-4FAA-AAAD-AF553277F7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7F5B-8586-4BA4-82AA-C472C3D7F2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14972-EF6A-42CF-BD07-830ED1E44C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BB56B-8766-43F6-AA1C-240474FE8E1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B2025-7206-410B-92CB-7909D9B94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DE67C-E71E-48DF-812D-32BCAAA9DF8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9F67D-0FAD-4431-BC9C-4175B71701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E5501-DE2A-4CC4-ABF9-05A535C149B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77760" y="329760"/>
            <a:ext cx="11049120" cy="11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4B517-6AB9-4A51-BDBF-F8A019596E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97202-A514-47B4-A6D2-7CD54730C93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F6B1B-F766-4425-926B-5C6FD5B0CF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7E70E-B9F1-45F3-9F15-23AB6D5270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801AB-9D89-4730-BFAC-BFA10D9545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B4F0C-2C77-4AF1-BB23-4B9F439C93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155B0-C260-44E7-89A9-2C24AD3A42C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99DDE-E8D4-4ED8-96B9-317D1A300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F5A7-910D-435F-A6F3-3C3B58ED3EB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AB60C-394E-490C-811A-DFB7C73520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70903-D564-41DF-AEAE-148D3DE1887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81387-D6D6-44CF-A22B-C96A6C8A3B6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A6D94-E84A-4B74-9E36-D0D9AD290E0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77760" y="329760"/>
            <a:ext cx="11049120" cy="11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A7C04-E0BD-4252-B87D-A539A113B38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E8A19-AA93-4DB9-8194-E321FAF3F4D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39EDD-7158-46ED-8BB4-A2DD56D6184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A1A1D-7FE1-4516-8AA6-56EFEEDCB5F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285F8-3F5C-4406-9FD4-F5E8D23C3A6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1F09E-8313-49E8-92E3-5E34AA8EA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77760" y="329760"/>
            <a:ext cx="11049120" cy="11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6C55-B855-4263-8336-9A2735F4F65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13C29-A2A5-4A18-89AF-8A2E7585AA4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7C22-AA19-41D6-A605-659D1D77730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3D3C-62EB-4AEF-AB11-3F31A6F7A7D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2048-B765-47F3-A166-0B3D6FFDB50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1E33-D31E-4367-9704-BCBAF64A111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F3D9-CF3D-45A4-AE13-C77B1D68E78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977760" y="329760"/>
            <a:ext cx="11049120" cy="11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D91C-CE36-495C-8CD1-44ADE77B8D9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6603-E87A-40DF-9BF5-25E5003E3EE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417C-ABB4-4BEF-8985-5428FCF4DE3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D8B0-AD02-40B6-80F3-0D0C01011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C279-0565-4897-9016-E3CFC0A7B54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0500-6E0B-40BB-9550-017C0CE7137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4659-8447-4098-8010-DCB301F728A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56E8-347C-416C-867E-BB1630AB68B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C3A5C7-909A-4489-9286-B0022A24D77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5F9705-DAF6-41D1-9CA1-D6A21A24AAF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34616C-FACC-4FCD-9A76-B0C96B02C55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BE2AA0-3872-4969-B4EF-A28ACDD094F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E6243A-0482-41D1-A4D5-C84DE24FB8F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977760" y="329760"/>
            <a:ext cx="11049120" cy="11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62ACBB-919A-4FB4-8924-28444F95970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B5169B-3AC1-48D8-A5ED-7B552AAE3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EA4A-052B-41F0-AFE8-B4CF323BD02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C3C13A-01AB-4966-A513-0AF2D95CD87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4F834B-02D1-4515-A71A-000415CC01C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684AED-6F80-4803-B508-1D1FFA62CE4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5DF016-E75E-43B3-86D7-671BEA78DE0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711418-5501-4D27-A91F-1C9286B4AB2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86CE1-E2A9-404E-A45C-80E5CBC606F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02891-9C83-4CC0-85F5-9CEADC02A96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93E3E-E2DA-4C2A-82D1-25151B39193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976B1-2CB4-473C-871A-573A8F5FFC1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FA16B-B37A-4ED6-9281-E6F5F9F1C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DA9A-7CBB-4439-93EF-FED6036092C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77760" y="329760"/>
            <a:ext cx="11049120" cy="11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C4ECF-B1AD-4680-8516-18FF2F8B820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E713C-F580-442A-A611-FB277B01D6F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C948CE-1BA8-4A44-B11A-244FE33BA28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BAC36-2BED-4100-975E-8A38969A26F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77760" y="6441120"/>
            <a:ext cx="110491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6064A1-F05B-4711-A67D-B4CC274BD1E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9480" y="281916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7776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639480" y="6441120"/>
            <a:ext cx="53917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AE170-5073-452F-8BE1-A843B7A4737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1348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449200" y="281916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7776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71348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449200" y="6441120"/>
            <a:ext cx="3557520" cy="33073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2236F-4337-4627-A53D-1100E8E666C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01894-05E4-414E-9FDA-B574DD5936C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E13AD-0767-4FC6-AFD8-28F2A8AEB3D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B35C7-D342-41B9-A38B-21D4A65DE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20000"/>
                </a:solidFill>
                <a:latin typeface="Big Caslon"/>
              </a:rPr>
              <a:t>Click to edit the title text format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Click to edit the outline text format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1" marL="630360" indent="-28584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con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2" marL="10303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Thir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3" marL="14875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our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4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if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5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ix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6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ven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518480" y="8889480"/>
            <a:ext cx="307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330000"/>
                </a:solidFill>
                <a:latin typeface="Big Caslon"/>
                <a:ea typeface="Big Caslo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6D88-B5B6-43BA-9F4F-E344DB1B2B2F}" type="slidenum">
              <a:rPr b="0" lang="en-US" sz="1800" spc="-1" strike="noStrike">
                <a:solidFill>
                  <a:srgbClr val="330000"/>
                </a:solidFill>
                <a:latin typeface="Big Caslon"/>
                <a:ea typeface="Big Caslon"/>
              </a:rPr>
              <a:t>&lt;number&gt;</a:t>
            </a:fld>
            <a:endParaRPr b="0" lang="en-US" sz="1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20000"/>
                </a:solidFill>
                <a:latin typeface="Big Caslon"/>
              </a:rPr>
              <a:t>Click to edit the title text format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Click to edit the outline text format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1" marL="630360" indent="-28584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con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2" marL="10303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Thir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3" marL="14875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our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4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if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5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ix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6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ven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0518480" y="8889480"/>
            <a:ext cx="307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330000"/>
                </a:solidFill>
                <a:latin typeface="Big Caslon"/>
                <a:ea typeface="Big Caslo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4B47-52EC-44F2-9DF6-8EE85F96604C}" type="slidenum">
              <a:rPr b="0" lang="en-US" sz="1800" spc="-1" strike="noStrike">
                <a:solidFill>
                  <a:srgbClr val="330000"/>
                </a:solidFill>
                <a:latin typeface="Big Caslon"/>
                <a:ea typeface="Big Caslon"/>
              </a:rPr>
              <a:t>&lt;number&gt;</a:t>
            </a:fld>
            <a:endParaRPr b="0" lang="en-US" sz="1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20000"/>
                </a:solidFill>
                <a:latin typeface="Big Caslon"/>
              </a:rPr>
              <a:t>Click to edit the title text format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Click to edit the outline text format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1" marL="630360" indent="-28584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con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2" marL="10303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Thir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3" marL="14875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our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4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if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5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ix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6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ven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0518480" y="8889480"/>
            <a:ext cx="307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330000"/>
                </a:solidFill>
                <a:latin typeface="Big Caslon"/>
                <a:ea typeface="Big Caslo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F571-5B69-4D17-BBFA-DBE59DA8A7A0}" type="slidenum">
              <a:rPr b="0" lang="en-US" sz="1800" spc="-1" strike="noStrike">
                <a:solidFill>
                  <a:srgbClr val="330000"/>
                </a:solidFill>
                <a:latin typeface="Big Caslon"/>
                <a:ea typeface="Big Caslon"/>
              </a:rPr>
              <a:t>&lt;number&gt;</a:t>
            </a:fld>
            <a:endParaRPr b="0" lang="en-US" sz="1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20000"/>
                </a:solidFill>
                <a:latin typeface="Big Caslon"/>
              </a:rPr>
              <a:t>Click to edit the title text format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Click to edit the outline text format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1" marL="630360" indent="-28584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con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2" marL="10303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Thir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3" marL="14875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our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4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if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5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ix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6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ven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0518480" y="8889480"/>
            <a:ext cx="307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330000"/>
                </a:solidFill>
                <a:latin typeface="Big Caslon"/>
                <a:ea typeface="Big Caslo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9235-A8CD-4150-B262-E31D239961CE}" type="slidenum">
              <a:rPr b="0" lang="en-US" sz="1800" spc="-1" strike="noStrike">
                <a:solidFill>
                  <a:srgbClr val="330000"/>
                </a:solidFill>
                <a:latin typeface="Big Caslon"/>
                <a:ea typeface="Big Caslon"/>
              </a:rPr>
              <a:t>&lt;number&gt;</a:t>
            </a:fld>
            <a:endParaRPr b="0" lang="en-US" sz="1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20000"/>
                </a:solidFill>
                <a:latin typeface="Big Caslon"/>
              </a:rPr>
              <a:t>Click to edit the title text format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Click to edit the outline text format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1" marL="630360" indent="-28584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con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2" marL="10303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Third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3" marL="14875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our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4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Fif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5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ix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6" marL="1944720" indent="-228600">
              <a:spcBef>
                <a:spcPts val="1100"/>
              </a:spcBef>
              <a:buClr>
                <a:srgbClr val="330000"/>
              </a:buClr>
              <a:buFont typeface="Big Casl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Seventh Outline Level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0518480" y="8889480"/>
            <a:ext cx="307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330000"/>
                </a:solidFill>
                <a:latin typeface="Big Caslon"/>
                <a:ea typeface="Big Caslo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2019-1501-4177-8657-91A18942305B}" type="slidenum">
              <a:rPr b="0" lang="en-US" sz="1800" spc="-1" strike="noStrike">
                <a:solidFill>
                  <a:srgbClr val="330000"/>
                </a:solidFill>
                <a:latin typeface="Big Caslon"/>
                <a:ea typeface="Big Caslon"/>
              </a:rPr>
              <a:t>&lt;number&gt;</a:t>
            </a:fld>
            <a:endParaRPr b="0" lang="en-US" sz="1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5"/>
          <p:cNvGrpSpPr/>
          <p:nvPr/>
        </p:nvGrpSpPr>
        <p:grpSpPr>
          <a:xfrm>
            <a:off x="0" y="3467160"/>
            <a:ext cx="13004640" cy="5754600"/>
            <a:chOff x="0" y="3467160"/>
            <a:chExt cx="13004640" cy="5754600"/>
          </a:xfrm>
        </p:grpSpPr>
        <p:sp>
          <p:nvSpPr>
            <p:cNvPr id="196" name="Rectangle 1"/>
            <p:cNvSpPr/>
            <p:nvPr/>
          </p:nvSpPr>
          <p:spPr>
            <a:xfrm rot="20160000">
              <a:off x="4782960" y="5864400"/>
              <a:ext cx="6934320" cy="86364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3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197" name="AutoShape 2"/>
            <p:cNvSpPr/>
            <p:nvPr/>
          </p:nvSpPr>
          <p:spPr>
            <a:xfrm>
              <a:off x="0" y="6019920"/>
              <a:ext cx="6070680" cy="276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714" y="9741"/>
                  </a:lnTo>
                  <a:lnTo>
                    <a:pt x="15814" y="4659"/>
                  </a:lnTo>
                  <a:lnTo>
                    <a:pt x="16296" y="4765"/>
                  </a:lnTo>
                  <a:lnTo>
                    <a:pt x="21383" y="9318"/>
                  </a:lnTo>
                  <a:lnTo>
                    <a:pt x="21600" y="11435"/>
                  </a:lnTo>
                  <a:lnTo>
                    <a:pt x="18514" y="19059"/>
                  </a:lnTo>
                  <a:lnTo>
                    <a:pt x="12729" y="21600"/>
                  </a:lnTo>
                  <a:lnTo>
                    <a:pt x="10414" y="16518"/>
                  </a:lnTo>
                  <a:lnTo>
                    <a:pt x="6943" y="18212"/>
                  </a:lnTo>
                  <a:lnTo>
                    <a:pt x="0" y="9741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198" name="AutoShape 3"/>
            <p:cNvSpPr/>
            <p:nvPr/>
          </p:nvSpPr>
          <p:spPr>
            <a:xfrm>
              <a:off x="7583400" y="3467160"/>
              <a:ext cx="5421240" cy="278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81" y="53"/>
                  </a:moveTo>
                  <a:lnTo>
                    <a:pt x="20511" y="53"/>
                  </a:lnTo>
                  <a:lnTo>
                    <a:pt x="19864" y="263"/>
                  </a:lnTo>
                  <a:lnTo>
                    <a:pt x="19216" y="473"/>
                  </a:lnTo>
                  <a:lnTo>
                    <a:pt x="19000" y="684"/>
                  </a:lnTo>
                  <a:lnTo>
                    <a:pt x="18784" y="999"/>
                  </a:lnTo>
                  <a:lnTo>
                    <a:pt x="18730" y="1105"/>
                  </a:lnTo>
                  <a:lnTo>
                    <a:pt x="18676" y="1210"/>
                  </a:lnTo>
                  <a:lnTo>
                    <a:pt x="17552" y="1736"/>
                  </a:lnTo>
                  <a:lnTo>
                    <a:pt x="17057" y="1946"/>
                  </a:lnTo>
                  <a:lnTo>
                    <a:pt x="16517" y="2051"/>
                  </a:lnTo>
                  <a:lnTo>
                    <a:pt x="15330" y="2367"/>
                  </a:lnTo>
                  <a:lnTo>
                    <a:pt x="14142" y="2682"/>
                  </a:lnTo>
                  <a:lnTo>
                    <a:pt x="12901" y="2893"/>
                  </a:lnTo>
                  <a:lnTo>
                    <a:pt x="11821" y="3103"/>
                  </a:lnTo>
                  <a:lnTo>
                    <a:pt x="11335" y="3208"/>
                  </a:lnTo>
                  <a:lnTo>
                    <a:pt x="10903" y="3314"/>
                  </a:lnTo>
                  <a:lnTo>
                    <a:pt x="10580" y="3314"/>
                  </a:lnTo>
                  <a:lnTo>
                    <a:pt x="10310" y="3419"/>
                  </a:lnTo>
                  <a:lnTo>
                    <a:pt x="10148" y="3419"/>
                  </a:lnTo>
                  <a:lnTo>
                    <a:pt x="10094" y="3419"/>
                  </a:lnTo>
                  <a:lnTo>
                    <a:pt x="10040" y="3524"/>
                  </a:lnTo>
                  <a:lnTo>
                    <a:pt x="9941" y="3629"/>
                  </a:lnTo>
                  <a:lnTo>
                    <a:pt x="9671" y="4050"/>
                  </a:lnTo>
                  <a:lnTo>
                    <a:pt x="9230" y="4576"/>
                  </a:lnTo>
                  <a:lnTo>
                    <a:pt x="8744" y="5102"/>
                  </a:lnTo>
                  <a:lnTo>
                    <a:pt x="8313" y="5628"/>
                  </a:lnTo>
                  <a:lnTo>
                    <a:pt x="7881" y="6049"/>
                  </a:lnTo>
                  <a:lnTo>
                    <a:pt x="7611" y="6364"/>
                  </a:lnTo>
                  <a:lnTo>
                    <a:pt x="7557" y="6469"/>
                  </a:lnTo>
                  <a:lnTo>
                    <a:pt x="7503" y="6469"/>
                  </a:lnTo>
                  <a:lnTo>
                    <a:pt x="6585" y="7311"/>
                  </a:lnTo>
                  <a:lnTo>
                    <a:pt x="5668" y="8030"/>
                  </a:lnTo>
                  <a:lnTo>
                    <a:pt x="5290" y="8345"/>
                  </a:lnTo>
                  <a:lnTo>
                    <a:pt x="4966" y="8556"/>
                  </a:lnTo>
                  <a:lnTo>
                    <a:pt x="4759" y="8766"/>
                  </a:lnTo>
                  <a:lnTo>
                    <a:pt x="4651" y="8871"/>
                  </a:lnTo>
                  <a:lnTo>
                    <a:pt x="4489" y="9187"/>
                  </a:lnTo>
                  <a:lnTo>
                    <a:pt x="4381" y="9503"/>
                  </a:lnTo>
                  <a:lnTo>
                    <a:pt x="4327" y="9818"/>
                  </a:lnTo>
                  <a:lnTo>
                    <a:pt x="4327" y="10134"/>
                  </a:lnTo>
                  <a:lnTo>
                    <a:pt x="4111" y="10344"/>
                  </a:lnTo>
                  <a:lnTo>
                    <a:pt x="3940" y="10449"/>
                  </a:lnTo>
                  <a:lnTo>
                    <a:pt x="3778" y="10765"/>
                  </a:lnTo>
                  <a:lnTo>
                    <a:pt x="3616" y="11186"/>
                  </a:lnTo>
                  <a:lnTo>
                    <a:pt x="3293" y="12238"/>
                  </a:lnTo>
                  <a:lnTo>
                    <a:pt x="3131" y="12764"/>
                  </a:lnTo>
                  <a:lnTo>
                    <a:pt x="2969" y="13290"/>
                  </a:lnTo>
                  <a:lnTo>
                    <a:pt x="2915" y="13605"/>
                  </a:lnTo>
                  <a:lnTo>
                    <a:pt x="2861" y="13710"/>
                  </a:lnTo>
                  <a:lnTo>
                    <a:pt x="2807" y="13816"/>
                  </a:lnTo>
                  <a:lnTo>
                    <a:pt x="2699" y="13921"/>
                  </a:lnTo>
                  <a:lnTo>
                    <a:pt x="2537" y="14131"/>
                  </a:lnTo>
                  <a:lnTo>
                    <a:pt x="2267" y="14447"/>
                  </a:lnTo>
                  <a:lnTo>
                    <a:pt x="1790" y="14973"/>
                  </a:lnTo>
                  <a:lnTo>
                    <a:pt x="1358" y="15499"/>
                  </a:lnTo>
                  <a:lnTo>
                    <a:pt x="756" y="16235"/>
                  </a:lnTo>
                  <a:lnTo>
                    <a:pt x="270" y="16866"/>
                  </a:lnTo>
                  <a:lnTo>
                    <a:pt x="108" y="17077"/>
                  </a:lnTo>
                  <a:lnTo>
                    <a:pt x="0" y="17392"/>
                  </a:lnTo>
                  <a:lnTo>
                    <a:pt x="0" y="17603"/>
                  </a:lnTo>
                  <a:lnTo>
                    <a:pt x="0" y="17918"/>
                  </a:lnTo>
                  <a:lnTo>
                    <a:pt x="108" y="18234"/>
                  </a:lnTo>
                  <a:lnTo>
                    <a:pt x="378" y="18339"/>
                  </a:lnTo>
                  <a:lnTo>
                    <a:pt x="756" y="18339"/>
                  </a:lnTo>
                  <a:lnTo>
                    <a:pt x="1188" y="18129"/>
                  </a:lnTo>
                  <a:lnTo>
                    <a:pt x="1736" y="17918"/>
                  </a:lnTo>
                  <a:lnTo>
                    <a:pt x="2375" y="17603"/>
                  </a:lnTo>
                  <a:lnTo>
                    <a:pt x="3023" y="17182"/>
                  </a:lnTo>
                  <a:lnTo>
                    <a:pt x="3670" y="16656"/>
                  </a:lnTo>
                  <a:lnTo>
                    <a:pt x="4273" y="16130"/>
                  </a:lnTo>
                  <a:lnTo>
                    <a:pt x="4759" y="15709"/>
                  </a:lnTo>
                  <a:lnTo>
                    <a:pt x="5074" y="15394"/>
                  </a:lnTo>
                  <a:lnTo>
                    <a:pt x="5128" y="15288"/>
                  </a:lnTo>
                  <a:lnTo>
                    <a:pt x="5182" y="15288"/>
                  </a:lnTo>
                  <a:lnTo>
                    <a:pt x="5452" y="15288"/>
                  </a:lnTo>
                  <a:lnTo>
                    <a:pt x="5830" y="15183"/>
                  </a:lnTo>
                  <a:lnTo>
                    <a:pt x="6423" y="14868"/>
                  </a:lnTo>
                  <a:lnTo>
                    <a:pt x="7134" y="14552"/>
                  </a:lnTo>
                  <a:lnTo>
                    <a:pt x="7881" y="14236"/>
                  </a:lnTo>
                  <a:lnTo>
                    <a:pt x="8690" y="13921"/>
                  </a:lnTo>
                  <a:lnTo>
                    <a:pt x="9563" y="13710"/>
                  </a:lnTo>
                  <a:lnTo>
                    <a:pt x="10364" y="13605"/>
                  </a:lnTo>
                  <a:lnTo>
                    <a:pt x="10903" y="13710"/>
                  </a:lnTo>
                  <a:lnTo>
                    <a:pt x="11551" y="14131"/>
                  </a:lnTo>
                  <a:lnTo>
                    <a:pt x="12208" y="14657"/>
                  </a:lnTo>
                  <a:lnTo>
                    <a:pt x="12739" y="15288"/>
                  </a:lnTo>
                  <a:lnTo>
                    <a:pt x="12901" y="15604"/>
                  </a:lnTo>
                  <a:lnTo>
                    <a:pt x="13063" y="15919"/>
                  </a:lnTo>
                  <a:lnTo>
                    <a:pt x="13171" y="16340"/>
                  </a:lnTo>
                  <a:lnTo>
                    <a:pt x="13171" y="16656"/>
                  </a:lnTo>
                  <a:lnTo>
                    <a:pt x="13117" y="16971"/>
                  </a:lnTo>
                  <a:lnTo>
                    <a:pt x="12955" y="17392"/>
                  </a:lnTo>
                  <a:lnTo>
                    <a:pt x="12685" y="17603"/>
                  </a:lnTo>
                  <a:lnTo>
                    <a:pt x="12316" y="17918"/>
                  </a:lnTo>
                  <a:lnTo>
                    <a:pt x="11713" y="18234"/>
                  </a:lnTo>
                  <a:lnTo>
                    <a:pt x="11227" y="18655"/>
                  </a:lnTo>
                  <a:lnTo>
                    <a:pt x="10796" y="18970"/>
                  </a:lnTo>
                  <a:lnTo>
                    <a:pt x="10418" y="19286"/>
                  </a:lnTo>
                  <a:lnTo>
                    <a:pt x="10148" y="19601"/>
                  </a:lnTo>
                  <a:lnTo>
                    <a:pt x="9986" y="19812"/>
                  </a:lnTo>
                  <a:lnTo>
                    <a:pt x="9833" y="20127"/>
                  </a:lnTo>
                  <a:lnTo>
                    <a:pt x="9725" y="20338"/>
                  </a:lnTo>
                  <a:lnTo>
                    <a:pt x="9617" y="20864"/>
                  </a:lnTo>
                  <a:lnTo>
                    <a:pt x="9671" y="21179"/>
                  </a:lnTo>
                  <a:lnTo>
                    <a:pt x="9725" y="21390"/>
                  </a:lnTo>
                  <a:lnTo>
                    <a:pt x="9779" y="21495"/>
                  </a:lnTo>
                  <a:lnTo>
                    <a:pt x="9833" y="21600"/>
                  </a:lnTo>
                  <a:lnTo>
                    <a:pt x="9986" y="21600"/>
                  </a:lnTo>
                  <a:lnTo>
                    <a:pt x="10148" y="21495"/>
                  </a:lnTo>
                  <a:lnTo>
                    <a:pt x="10364" y="21495"/>
                  </a:lnTo>
                  <a:lnTo>
                    <a:pt x="10903" y="21390"/>
                  </a:lnTo>
                  <a:lnTo>
                    <a:pt x="11443" y="21284"/>
                  </a:lnTo>
                  <a:lnTo>
                    <a:pt x="11983" y="21179"/>
                  </a:lnTo>
                  <a:lnTo>
                    <a:pt x="12532" y="20969"/>
                  </a:lnTo>
                  <a:lnTo>
                    <a:pt x="12739" y="20864"/>
                  </a:lnTo>
                  <a:lnTo>
                    <a:pt x="12901" y="20758"/>
                  </a:lnTo>
                  <a:lnTo>
                    <a:pt x="13009" y="20653"/>
                  </a:lnTo>
                  <a:lnTo>
                    <a:pt x="13063" y="20653"/>
                  </a:lnTo>
                  <a:lnTo>
                    <a:pt x="13171" y="20548"/>
                  </a:lnTo>
                  <a:lnTo>
                    <a:pt x="13386" y="20443"/>
                  </a:lnTo>
                  <a:lnTo>
                    <a:pt x="13764" y="20127"/>
                  </a:lnTo>
                  <a:lnTo>
                    <a:pt x="14196" y="19812"/>
                  </a:lnTo>
                  <a:lnTo>
                    <a:pt x="15123" y="19181"/>
                  </a:lnTo>
                  <a:lnTo>
                    <a:pt x="15492" y="18865"/>
                  </a:lnTo>
                  <a:lnTo>
                    <a:pt x="15815" y="18655"/>
                  </a:lnTo>
                  <a:lnTo>
                    <a:pt x="16301" y="18234"/>
                  </a:lnTo>
                  <a:lnTo>
                    <a:pt x="16625" y="17603"/>
                  </a:lnTo>
                  <a:lnTo>
                    <a:pt x="16841" y="16866"/>
                  </a:lnTo>
                  <a:lnTo>
                    <a:pt x="17003" y="16340"/>
                  </a:lnTo>
                  <a:lnTo>
                    <a:pt x="17381" y="15183"/>
                  </a:lnTo>
                  <a:lnTo>
                    <a:pt x="17867" y="14026"/>
                  </a:lnTo>
                  <a:lnTo>
                    <a:pt x="18406" y="12974"/>
                  </a:lnTo>
                  <a:lnTo>
                    <a:pt x="19000" y="12132"/>
                  </a:lnTo>
                  <a:lnTo>
                    <a:pt x="19486" y="11396"/>
                  </a:lnTo>
                  <a:lnTo>
                    <a:pt x="19918" y="10870"/>
                  </a:lnTo>
                  <a:lnTo>
                    <a:pt x="20188" y="10449"/>
                  </a:lnTo>
                  <a:lnTo>
                    <a:pt x="20305" y="10344"/>
                  </a:lnTo>
                  <a:lnTo>
                    <a:pt x="21591" y="9082"/>
                  </a:lnTo>
                  <a:lnTo>
                    <a:pt x="21591" y="999"/>
                  </a:lnTo>
                  <a:lnTo>
                    <a:pt x="21600" y="0"/>
                  </a:lnTo>
                  <a:lnTo>
                    <a:pt x="20781" y="53"/>
                  </a:lnTo>
                  <a:close/>
                  <a:moveTo>
                    <a:pt x="20781" y="53"/>
                  </a:moveTo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199" name="Freeform 4"/>
            <p:cNvSpPr/>
            <p:nvPr/>
          </p:nvSpPr>
          <p:spPr>
            <a:xfrm>
              <a:off x="8559720" y="3467160"/>
              <a:ext cx="4444920" cy="171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591" y="4677"/>
                  </a:moveTo>
                  <a:lnTo>
                    <a:pt x="7639" y="5669"/>
                  </a:lnTo>
                  <a:lnTo>
                    <a:pt x="7606" y="6718"/>
                  </a:lnTo>
                  <a:lnTo>
                    <a:pt x="10141" y="7313"/>
                  </a:lnTo>
                  <a:lnTo>
                    <a:pt x="10899" y="7569"/>
                  </a:lnTo>
                  <a:lnTo>
                    <a:pt x="7474" y="8249"/>
                  </a:lnTo>
                  <a:lnTo>
                    <a:pt x="6948" y="8759"/>
                  </a:lnTo>
                  <a:lnTo>
                    <a:pt x="7079" y="9524"/>
                  </a:lnTo>
                  <a:lnTo>
                    <a:pt x="7376" y="9950"/>
                  </a:lnTo>
                  <a:lnTo>
                    <a:pt x="10800" y="9439"/>
                  </a:lnTo>
                  <a:lnTo>
                    <a:pt x="11854" y="10120"/>
                  </a:lnTo>
                  <a:lnTo>
                    <a:pt x="6849" y="13946"/>
                  </a:lnTo>
                  <a:lnTo>
                    <a:pt x="6761" y="15194"/>
                  </a:lnTo>
                  <a:lnTo>
                    <a:pt x="88" y="20523"/>
                  </a:lnTo>
                  <a:lnTo>
                    <a:pt x="0" y="21430"/>
                  </a:lnTo>
                  <a:lnTo>
                    <a:pt x="296" y="21600"/>
                  </a:lnTo>
                  <a:lnTo>
                    <a:pt x="7288" y="15987"/>
                  </a:lnTo>
                  <a:lnTo>
                    <a:pt x="9395" y="17008"/>
                  </a:lnTo>
                  <a:lnTo>
                    <a:pt x="12710" y="14372"/>
                  </a:lnTo>
                  <a:lnTo>
                    <a:pt x="15739" y="13181"/>
                  </a:lnTo>
                  <a:lnTo>
                    <a:pt x="17254" y="10431"/>
                  </a:lnTo>
                  <a:lnTo>
                    <a:pt x="18790" y="9638"/>
                  </a:lnTo>
                  <a:lnTo>
                    <a:pt x="20371" y="9298"/>
                  </a:lnTo>
                  <a:lnTo>
                    <a:pt x="21600" y="9354"/>
                  </a:lnTo>
                  <a:lnTo>
                    <a:pt x="21600" y="0"/>
                  </a:lnTo>
                  <a:lnTo>
                    <a:pt x="21227" y="85"/>
                  </a:lnTo>
                  <a:lnTo>
                    <a:pt x="20107" y="142"/>
                  </a:lnTo>
                  <a:lnTo>
                    <a:pt x="18461" y="992"/>
                  </a:lnTo>
                  <a:lnTo>
                    <a:pt x="18033" y="2041"/>
                  </a:lnTo>
                  <a:lnTo>
                    <a:pt x="15278" y="3373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8124840" y="5591160"/>
              <a:ext cx="42084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080"/>
                  </a:lnTo>
                  <a:lnTo>
                    <a:pt x="21600" y="3240"/>
                  </a:lnTo>
                  <a:lnTo>
                    <a:pt x="21600" y="6480"/>
                  </a:lnTo>
                  <a:lnTo>
                    <a:pt x="20899" y="9720"/>
                  </a:lnTo>
                  <a:lnTo>
                    <a:pt x="18798" y="12960"/>
                  </a:lnTo>
                  <a:lnTo>
                    <a:pt x="15996" y="17280"/>
                  </a:lnTo>
                  <a:lnTo>
                    <a:pt x="11792" y="19440"/>
                  </a:lnTo>
                  <a:lnTo>
                    <a:pt x="5488" y="21600"/>
                  </a:lnTo>
                  <a:lnTo>
                    <a:pt x="3386" y="21600"/>
                  </a:lnTo>
                  <a:lnTo>
                    <a:pt x="1985" y="20520"/>
                  </a:lnTo>
                  <a:lnTo>
                    <a:pt x="0" y="17280"/>
                  </a:lnTo>
                  <a:lnTo>
                    <a:pt x="0" y="14040"/>
                  </a:lnTo>
                  <a:lnTo>
                    <a:pt x="0" y="1296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8531280" y="5402160"/>
              <a:ext cx="41760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080"/>
                  </a:lnTo>
                  <a:lnTo>
                    <a:pt x="20899" y="4320"/>
                  </a:lnTo>
                  <a:lnTo>
                    <a:pt x="19498" y="7560"/>
                  </a:lnTo>
                  <a:lnTo>
                    <a:pt x="17397" y="11880"/>
                  </a:lnTo>
                  <a:lnTo>
                    <a:pt x="15295" y="16200"/>
                  </a:lnTo>
                  <a:lnTo>
                    <a:pt x="11909" y="19440"/>
                  </a:lnTo>
                  <a:lnTo>
                    <a:pt x="7706" y="21600"/>
                  </a:lnTo>
                  <a:lnTo>
                    <a:pt x="2102" y="21600"/>
                  </a:lnTo>
                  <a:lnTo>
                    <a:pt x="0" y="1080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2" name="AutoShape 7"/>
            <p:cNvSpPr/>
            <p:nvPr/>
          </p:nvSpPr>
          <p:spPr>
            <a:xfrm>
              <a:off x="8666280" y="4145040"/>
              <a:ext cx="1193760" cy="62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21129"/>
                  </a:lnTo>
                  <a:lnTo>
                    <a:pt x="246" y="19715"/>
                  </a:lnTo>
                  <a:lnTo>
                    <a:pt x="246" y="18772"/>
                  </a:lnTo>
                  <a:lnTo>
                    <a:pt x="493" y="17830"/>
                  </a:lnTo>
                  <a:lnTo>
                    <a:pt x="739" y="17359"/>
                  </a:lnTo>
                  <a:lnTo>
                    <a:pt x="1478" y="16887"/>
                  </a:lnTo>
                  <a:lnTo>
                    <a:pt x="3162" y="15945"/>
                  </a:lnTo>
                  <a:lnTo>
                    <a:pt x="5626" y="14060"/>
                  </a:lnTo>
                  <a:lnTo>
                    <a:pt x="8583" y="11232"/>
                  </a:lnTo>
                  <a:lnTo>
                    <a:pt x="10307" y="9425"/>
                  </a:lnTo>
                  <a:lnTo>
                    <a:pt x="12278" y="7540"/>
                  </a:lnTo>
                  <a:lnTo>
                    <a:pt x="16179" y="3770"/>
                  </a:lnTo>
                  <a:lnTo>
                    <a:pt x="18151" y="2356"/>
                  </a:lnTo>
                  <a:lnTo>
                    <a:pt x="19629" y="943"/>
                  </a:lnTo>
                  <a:lnTo>
                    <a:pt x="20614" y="471"/>
                  </a:lnTo>
                  <a:lnTo>
                    <a:pt x="21354" y="0"/>
                  </a:lnTo>
                  <a:lnTo>
                    <a:pt x="21600" y="0"/>
                  </a:lnTo>
                  <a:lnTo>
                    <a:pt x="21354" y="471"/>
                  </a:lnTo>
                  <a:lnTo>
                    <a:pt x="20861" y="943"/>
                  </a:lnTo>
                  <a:lnTo>
                    <a:pt x="19875" y="1885"/>
                  </a:lnTo>
                  <a:lnTo>
                    <a:pt x="18890" y="3299"/>
                  </a:lnTo>
                  <a:lnTo>
                    <a:pt x="17904" y="4241"/>
                  </a:lnTo>
                  <a:lnTo>
                    <a:pt x="16179" y="6127"/>
                  </a:lnTo>
                  <a:lnTo>
                    <a:pt x="13962" y="8483"/>
                  </a:lnTo>
                  <a:lnTo>
                    <a:pt x="11293" y="11232"/>
                  </a:lnTo>
                  <a:lnTo>
                    <a:pt x="5379" y="17359"/>
                  </a:lnTo>
                  <a:lnTo>
                    <a:pt x="2669" y="19715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3" name="AutoShape 8"/>
            <p:cNvSpPr/>
            <p:nvPr/>
          </p:nvSpPr>
          <p:spPr>
            <a:xfrm>
              <a:off x="8299440" y="4548240"/>
              <a:ext cx="1627200" cy="690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44" y="15247"/>
                  </a:moveTo>
                  <a:lnTo>
                    <a:pt x="903" y="17788"/>
                  </a:lnTo>
                  <a:lnTo>
                    <a:pt x="361" y="19906"/>
                  </a:lnTo>
                  <a:lnTo>
                    <a:pt x="181" y="21176"/>
                  </a:lnTo>
                  <a:lnTo>
                    <a:pt x="0" y="21600"/>
                  </a:lnTo>
                  <a:lnTo>
                    <a:pt x="1444" y="19482"/>
                  </a:lnTo>
                  <a:lnTo>
                    <a:pt x="2527" y="17788"/>
                  </a:lnTo>
                  <a:lnTo>
                    <a:pt x="3249" y="16518"/>
                  </a:lnTo>
                  <a:lnTo>
                    <a:pt x="3610" y="16094"/>
                  </a:lnTo>
                  <a:lnTo>
                    <a:pt x="3791" y="16094"/>
                  </a:lnTo>
                  <a:lnTo>
                    <a:pt x="4332" y="15671"/>
                  </a:lnTo>
                  <a:lnTo>
                    <a:pt x="5054" y="15247"/>
                  </a:lnTo>
                  <a:lnTo>
                    <a:pt x="5957" y="14400"/>
                  </a:lnTo>
                  <a:lnTo>
                    <a:pt x="8273" y="12706"/>
                  </a:lnTo>
                  <a:lnTo>
                    <a:pt x="11161" y="11012"/>
                  </a:lnTo>
                  <a:lnTo>
                    <a:pt x="13869" y="8894"/>
                  </a:lnTo>
                  <a:lnTo>
                    <a:pt x="16365" y="7200"/>
                  </a:lnTo>
                  <a:lnTo>
                    <a:pt x="17268" y="6353"/>
                  </a:lnTo>
                  <a:lnTo>
                    <a:pt x="18170" y="5929"/>
                  </a:lnTo>
                  <a:lnTo>
                    <a:pt x="18712" y="5506"/>
                  </a:lnTo>
                  <a:lnTo>
                    <a:pt x="18892" y="5082"/>
                  </a:lnTo>
                  <a:lnTo>
                    <a:pt x="19073" y="4659"/>
                  </a:lnTo>
                  <a:lnTo>
                    <a:pt x="19614" y="4235"/>
                  </a:lnTo>
                  <a:lnTo>
                    <a:pt x="20878" y="2118"/>
                  </a:lnTo>
                  <a:lnTo>
                    <a:pt x="21419" y="1271"/>
                  </a:lnTo>
                  <a:lnTo>
                    <a:pt x="21600" y="424"/>
                  </a:lnTo>
                  <a:lnTo>
                    <a:pt x="21419" y="0"/>
                  </a:lnTo>
                  <a:lnTo>
                    <a:pt x="20697" y="0"/>
                  </a:lnTo>
                  <a:lnTo>
                    <a:pt x="18892" y="0"/>
                  </a:lnTo>
                  <a:lnTo>
                    <a:pt x="17448" y="0"/>
                  </a:lnTo>
                  <a:lnTo>
                    <a:pt x="16365" y="0"/>
                  </a:lnTo>
                  <a:lnTo>
                    <a:pt x="15463" y="1271"/>
                  </a:lnTo>
                  <a:lnTo>
                    <a:pt x="14591" y="2965"/>
                  </a:lnTo>
                  <a:lnTo>
                    <a:pt x="14049" y="3812"/>
                  </a:lnTo>
                  <a:lnTo>
                    <a:pt x="13508" y="4235"/>
                  </a:lnTo>
                  <a:lnTo>
                    <a:pt x="12786" y="4235"/>
                  </a:lnTo>
                  <a:lnTo>
                    <a:pt x="11703" y="4659"/>
                  </a:lnTo>
                  <a:lnTo>
                    <a:pt x="10439" y="5929"/>
                  </a:lnTo>
                  <a:lnTo>
                    <a:pt x="9356" y="7624"/>
                  </a:lnTo>
                  <a:lnTo>
                    <a:pt x="8634" y="8894"/>
                  </a:lnTo>
                  <a:lnTo>
                    <a:pt x="8273" y="9318"/>
                  </a:lnTo>
                  <a:lnTo>
                    <a:pt x="7731" y="9741"/>
                  </a:lnTo>
                  <a:lnTo>
                    <a:pt x="6648" y="9741"/>
                  </a:lnTo>
                  <a:lnTo>
                    <a:pt x="5596" y="9741"/>
                  </a:lnTo>
                  <a:lnTo>
                    <a:pt x="5415" y="9741"/>
                  </a:lnTo>
                  <a:lnTo>
                    <a:pt x="5235" y="9741"/>
                  </a:lnTo>
                  <a:lnTo>
                    <a:pt x="3430" y="11435"/>
                  </a:lnTo>
                  <a:lnTo>
                    <a:pt x="1444" y="15247"/>
                  </a:lnTo>
                  <a:close/>
                  <a:moveTo>
                    <a:pt x="1444" y="15247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4" name="AutoShape 9"/>
            <p:cNvSpPr/>
            <p:nvPr/>
          </p:nvSpPr>
          <p:spPr>
            <a:xfrm>
              <a:off x="7580160" y="4267440"/>
              <a:ext cx="5423040" cy="198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87" y="883"/>
                  </a:moveTo>
                  <a:lnTo>
                    <a:pt x="20462" y="1177"/>
                  </a:lnTo>
                  <a:lnTo>
                    <a:pt x="20146" y="1324"/>
                  </a:lnTo>
                  <a:lnTo>
                    <a:pt x="19875" y="1324"/>
                  </a:lnTo>
                  <a:lnTo>
                    <a:pt x="19821" y="1324"/>
                  </a:lnTo>
                  <a:lnTo>
                    <a:pt x="19767" y="1324"/>
                  </a:lnTo>
                  <a:lnTo>
                    <a:pt x="19659" y="1471"/>
                  </a:lnTo>
                  <a:lnTo>
                    <a:pt x="19388" y="1618"/>
                  </a:lnTo>
                  <a:lnTo>
                    <a:pt x="19008" y="1912"/>
                  </a:lnTo>
                  <a:lnTo>
                    <a:pt x="18575" y="2182"/>
                  </a:lnTo>
                  <a:lnTo>
                    <a:pt x="18250" y="2476"/>
                  </a:lnTo>
                  <a:lnTo>
                    <a:pt x="18033" y="2623"/>
                  </a:lnTo>
                  <a:lnTo>
                    <a:pt x="17816" y="2770"/>
                  </a:lnTo>
                  <a:lnTo>
                    <a:pt x="17663" y="2918"/>
                  </a:lnTo>
                  <a:lnTo>
                    <a:pt x="17392" y="3212"/>
                  </a:lnTo>
                  <a:lnTo>
                    <a:pt x="17121" y="3359"/>
                  </a:lnTo>
                  <a:lnTo>
                    <a:pt x="16796" y="4094"/>
                  </a:lnTo>
                  <a:lnTo>
                    <a:pt x="16633" y="4683"/>
                  </a:lnTo>
                  <a:lnTo>
                    <a:pt x="16579" y="5418"/>
                  </a:lnTo>
                  <a:lnTo>
                    <a:pt x="16579" y="6007"/>
                  </a:lnTo>
                  <a:lnTo>
                    <a:pt x="16633" y="6595"/>
                  </a:lnTo>
                  <a:lnTo>
                    <a:pt x="16633" y="7184"/>
                  </a:lnTo>
                  <a:lnTo>
                    <a:pt x="16633" y="7478"/>
                  </a:lnTo>
                  <a:lnTo>
                    <a:pt x="16471" y="7919"/>
                  </a:lnTo>
                  <a:lnTo>
                    <a:pt x="16200" y="8066"/>
                  </a:lnTo>
                  <a:lnTo>
                    <a:pt x="15875" y="7772"/>
                  </a:lnTo>
                  <a:lnTo>
                    <a:pt x="15496" y="7331"/>
                  </a:lnTo>
                  <a:lnTo>
                    <a:pt x="14963" y="6742"/>
                  </a:lnTo>
                  <a:lnTo>
                    <a:pt x="14421" y="6448"/>
                  </a:lnTo>
                  <a:lnTo>
                    <a:pt x="13933" y="6301"/>
                  </a:lnTo>
                  <a:lnTo>
                    <a:pt x="13717" y="6301"/>
                  </a:lnTo>
                  <a:lnTo>
                    <a:pt x="13608" y="6301"/>
                  </a:lnTo>
                  <a:lnTo>
                    <a:pt x="13446" y="6448"/>
                  </a:lnTo>
                  <a:lnTo>
                    <a:pt x="13175" y="6742"/>
                  </a:lnTo>
                  <a:lnTo>
                    <a:pt x="12633" y="7625"/>
                  </a:lnTo>
                  <a:lnTo>
                    <a:pt x="12425" y="8066"/>
                  </a:lnTo>
                  <a:lnTo>
                    <a:pt x="12209" y="8361"/>
                  </a:lnTo>
                  <a:lnTo>
                    <a:pt x="12046" y="8655"/>
                  </a:lnTo>
                  <a:lnTo>
                    <a:pt x="11992" y="8802"/>
                  </a:lnTo>
                  <a:lnTo>
                    <a:pt x="11938" y="8802"/>
                  </a:lnTo>
                  <a:lnTo>
                    <a:pt x="11829" y="8802"/>
                  </a:lnTo>
                  <a:lnTo>
                    <a:pt x="11613" y="8949"/>
                  </a:lnTo>
                  <a:lnTo>
                    <a:pt x="11396" y="8949"/>
                  </a:lnTo>
                  <a:lnTo>
                    <a:pt x="10963" y="9096"/>
                  </a:lnTo>
                  <a:lnTo>
                    <a:pt x="10800" y="9096"/>
                  </a:lnTo>
                  <a:lnTo>
                    <a:pt x="10637" y="8949"/>
                  </a:lnTo>
                  <a:lnTo>
                    <a:pt x="10475" y="8949"/>
                  </a:lnTo>
                  <a:lnTo>
                    <a:pt x="10204" y="8949"/>
                  </a:lnTo>
                  <a:lnTo>
                    <a:pt x="9888" y="8949"/>
                  </a:lnTo>
                  <a:lnTo>
                    <a:pt x="9509" y="9096"/>
                  </a:lnTo>
                  <a:lnTo>
                    <a:pt x="9184" y="9243"/>
                  </a:lnTo>
                  <a:lnTo>
                    <a:pt x="8859" y="9243"/>
                  </a:lnTo>
                  <a:lnTo>
                    <a:pt x="8642" y="9390"/>
                  </a:lnTo>
                  <a:lnTo>
                    <a:pt x="8533" y="9537"/>
                  </a:lnTo>
                  <a:lnTo>
                    <a:pt x="8479" y="9684"/>
                  </a:lnTo>
                  <a:lnTo>
                    <a:pt x="8317" y="9832"/>
                  </a:lnTo>
                  <a:lnTo>
                    <a:pt x="7937" y="9979"/>
                  </a:lnTo>
                  <a:lnTo>
                    <a:pt x="7558" y="10273"/>
                  </a:lnTo>
                  <a:lnTo>
                    <a:pt x="7396" y="10273"/>
                  </a:lnTo>
                  <a:lnTo>
                    <a:pt x="7296" y="10273"/>
                  </a:lnTo>
                  <a:lnTo>
                    <a:pt x="7188" y="10273"/>
                  </a:lnTo>
                  <a:lnTo>
                    <a:pt x="7025" y="10273"/>
                  </a:lnTo>
                  <a:lnTo>
                    <a:pt x="6809" y="10273"/>
                  </a:lnTo>
                  <a:lnTo>
                    <a:pt x="6538" y="10420"/>
                  </a:lnTo>
                  <a:lnTo>
                    <a:pt x="5996" y="10714"/>
                  </a:lnTo>
                  <a:lnTo>
                    <a:pt x="5779" y="11008"/>
                  </a:lnTo>
                  <a:lnTo>
                    <a:pt x="5563" y="11303"/>
                  </a:lnTo>
                  <a:lnTo>
                    <a:pt x="5400" y="11597"/>
                  </a:lnTo>
                  <a:lnTo>
                    <a:pt x="5237" y="11597"/>
                  </a:lnTo>
                  <a:lnTo>
                    <a:pt x="4858" y="11597"/>
                  </a:lnTo>
                  <a:lnTo>
                    <a:pt x="4542" y="11450"/>
                  </a:lnTo>
                  <a:lnTo>
                    <a:pt x="4163" y="11597"/>
                  </a:lnTo>
                  <a:lnTo>
                    <a:pt x="4000" y="11744"/>
                  </a:lnTo>
                  <a:lnTo>
                    <a:pt x="3892" y="12038"/>
                  </a:lnTo>
                  <a:lnTo>
                    <a:pt x="3838" y="12479"/>
                  </a:lnTo>
                  <a:lnTo>
                    <a:pt x="3784" y="13068"/>
                  </a:lnTo>
                  <a:lnTo>
                    <a:pt x="3729" y="13215"/>
                  </a:lnTo>
                  <a:lnTo>
                    <a:pt x="3675" y="13362"/>
                  </a:lnTo>
                  <a:lnTo>
                    <a:pt x="3513" y="13509"/>
                  </a:lnTo>
                  <a:lnTo>
                    <a:pt x="3133" y="13951"/>
                  </a:lnTo>
                  <a:lnTo>
                    <a:pt x="2700" y="14392"/>
                  </a:lnTo>
                  <a:lnTo>
                    <a:pt x="2321" y="14539"/>
                  </a:lnTo>
                  <a:lnTo>
                    <a:pt x="2005" y="14686"/>
                  </a:lnTo>
                  <a:lnTo>
                    <a:pt x="1625" y="15127"/>
                  </a:lnTo>
                  <a:lnTo>
                    <a:pt x="1355" y="15716"/>
                  </a:lnTo>
                  <a:lnTo>
                    <a:pt x="1246" y="15863"/>
                  </a:lnTo>
                  <a:lnTo>
                    <a:pt x="1192" y="16010"/>
                  </a:lnTo>
                  <a:lnTo>
                    <a:pt x="1138" y="16157"/>
                  </a:lnTo>
                  <a:lnTo>
                    <a:pt x="975" y="16157"/>
                  </a:lnTo>
                  <a:lnTo>
                    <a:pt x="867" y="16010"/>
                  </a:lnTo>
                  <a:lnTo>
                    <a:pt x="813" y="16010"/>
                  </a:lnTo>
                  <a:lnTo>
                    <a:pt x="0" y="16451"/>
                  </a:lnTo>
                  <a:lnTo>
                    <a:pt x="108" y="16893"/>
                  </a:lnTo>
                  <a:lnTo>
                    <a:pt x="379" y="17040"/>
                  </a:lnTo>
                  <a:lnTo>
                    <a:pt x="759" y="17040"/>
                  </a:lnTo>
                  <a:lnTo>
                    <a:pt x="1192" y="16746"/>
                  </a:lnTo>
                  <a:lnTo>
                    <a:pt x="1734" y="16451"/>
                  </a:lnTo>
                  <a:lnTo>
                    <a:pt x="2375" y="16010"/>
                  </a:lnTo>
                  <a:lnTo>
                    <a:pt x="3025" y="15422"/>
                  </a:lnTo>
                  <a:lnTo>
                    <a:pt x="3675" y="14686"/>
                  </a:lnTo>
                  <a:lnTo>
                    <a:pt x="4271" y="13951"/>
                  </a:lnTo>
                  <a:lnTo>
                    <a:pt x="4759" y="13362"/>
                  </a:lnTo>
                  <a:lnTo>
                    <a:pt x="5075" y="12921"/>
                  </a:lnTo>
                  <a:lnTo>
                    <a:pt x="5129" y="12774"/>
                  </a:lnTo>
                  <a:lnTo>
                    <a:pt x="5183" y="12774"/>
                  </a:lnTo>
                  <a:lnTo>
                    <a:pt x="5454" y="12774"/>
                  </a:lnTo>
                  <a:lnTo>
                    <a:pt x="5833" y="12627"/>
                  </a:lnTo>
                  <a:lnTo>
                    <a:pt x="6429" y="12185"/>
                  </a:lnTo>
                  <a:lnTo>
                    <a:pt x="7134" y="11744"/>
                  </a:lnTo>
                  <a:lnTo>
                    <a:pt x="7883" y="11303"/>
                  </a:lnTo>
                  <a:lnTo>
                    <a:pt x="8696" y="10861"/>
                  </a:lnTo>
                  <a:lnTo>
                    <a:pt x="9563" y="10567"/>
                  </a:lnTo>
                  <a:lnTo>
                    <a:pt x="10367" y="10420"/>
                  </a:lnTo>
                  <a:lnTo>
                    <a:pt x="10637" y="10420"/>
                  </a:lnTo>
                  <a:lnTo>
                    <a:pt x="10963" y="10714"/>
                  </a:lnTo>
                  <a:lnTo>
                    <a:pt x="11667" y="11303"/>
                  </a:lnTo>
                  <a:lnTo>
                    <a:pt x="12100" y="11744"/>
                  </a:lnTo>
                  <a:lnTo>
                    <a:pt x="12480" y="12332"/>
                  </a:lnTo>
                  <a:lnTo>
                    <a:pt x="12796" y="13068"/>
                  </a:lnTo>
                  <a:lnTo>
                    <a:pt x="13012" y="13803"/>
                  </a:lnTo>
                  <a:lnTo>
                    <a:pt x="13067" y="14392"/>
                  </a:lnTo>
                  <a:lnTo>
                    <a:pt x="12958" y="15127"/>
                  </a:lnTo>
                  <a:lnTo>
                    <a:pt x="12850" y="15422"/>
                  </a:lnTo>
                  <a:lnTo>
                    <a:pt x="12687" y="15716"/>
                  </a:lnTo>
                  <a:lnTo>
                    <a:pt x="12425" y="16010"/>
                  </a:lnTo>
                  <a:lnTo>
                    <a:pt x="12155" y="16304"/>
                  </a:lnTo>
                  <a:lnTo>
                    <a:pt x="11559" y="16746"/>
                  </a:lnTo>
                  <a:lnTo>
                    <a:pt x="11071" y="17187"/>
                  </a:lnTo>
                  <a:lnTo>
                    <a:pt x="10637" y="17628"/>
                  </a:lnTo>
                  <a:lnTo>
                    <a:pt x="10312" y="18217"/>
                  </a:lnTo>
                  <a:lnTo>
                    <a:pt x="10041" y="18511"/>
                  </a:lnTo>
                  <a:lnTo>
                    <a:pt x="9834" y="18952"/>
                  </a:lnTo>
                  <a:lnTo>
                    <a:pt x="9725" y="19393"/>
                  </a:lnTo>
                  <a:lnTo>
                    <a:pt x="9617" y="19835"/>
                  </a:lnTo>
                  <a:lnTo>
                    <a:pt x="9563" y="20423"/>
                  </a:lnTo>
                  <a:lnTo>
                    <a:pt x="9617" y="21012"/>
                  </a:lnTo>
                  <a:lnTo>
                    <a:pt x="9725" y="21306"/>
                  </a:lnTo>
                  <a:lnTo>
                    <a:pt x="9780" y="21453"/>
                  </a:lnTo>
                  <a:lnTo>
                    <a:pt x="9834" y="21600"/>
                  </a:lnTo>
                  <a:lnTo>
                    <a:pt x="9987" y="21600"/>
                  </a:lnTo>
                  <a:lnTo>
                    <a:pt x="10150" y="21453"/>
                  </a:lnTo>
                  <a:lnTo>
                    <a:pt x="10367" y="21453"/>
                  </a:lnTo>
                  <a:lnTo>
                    <a:pt x="10908" y="21306"/>
                  </a:lnTo>
                  <a:lnTo>
                    <a:pt x="11450" y="21159"/>
                  </a:lnTo>
                  <a:lnTo>
                    <a:pt x="11992" y="21159"/>
                  </a:lnTo>
                  <a:lnTo>
                    <a:pt x="12534" y="21012"/>
                  </a:lnTo>
                  <a:lnTo>
                    <a:pt x="12741" y="21012"/>
                  </a:lnTo>
                  <a:lnTo>
                    <a:pt x="12904" y="20864"/>
                  </a:lnTo>
                  <a:lnTo>
                    <a:pt x="13012" y="20864"/>
                  </a:lnTo>
                  <a:lnTo>
                    <a:pt x="13067" y="20864"/>
                  </a:lnTo>
                  <a:lnTo>
                    <a:pt x="13175" y="20717"/>
                  </a:lnTo>
                  <a:lnTo>
                    <a:pt x="13392" y="20423"/>
                  </a:lnTo>
                  <a:lnTo>
                    <a:pt x="13771" y="19982"/>
                  </a:lnTo>
                  <a:lnTo>
                    <a:pt x="14204" y="19393"/>
                  </a:lnTo>
                  <a:lnTo>
                    <a:pt x="15125" y="18217"/>
                  </a:lnTo>
                  <a:lnTo>
                    <a:pt x="15496" y="17775"/>
                  </a:lnTo>
                  <a:lnTo>
                    <a:pt x="15821" y="17481"/>
                  </a:lnTo>
                  <a:lnTo>
                    <a:pt x="16308" y="16893"/>
                  </a:lnTo>
                  <a:lnTo>
                    <a:pt x="16633" y="16010"/>
                  </a:lnTo>
                  <a:lnTo>
                    <a:pt x="16850" y="14980"/>
                  </a:lnTo>
                  <a:lnTo>
                    <a:pt x="17013" y="14245"/>
                  </a:lnTo>
                  <a:lnTo>
                    <a:pt x="17392" y="12627"/>
                  </a:lnTo>
                  <a:lnTo>
                    <a:pt x="17871" y="11008"/>
                  </a:lnTo>
                  <a:lnTo>
                    <a:pt x="18412" y="9537"/>
                  </a:lnTo>
                  <a:lnTo>
                    <a:pt x="19008" y="8361"/>
                  </a:lnTo>
                  <a:lnTo>
                    <a:pt x="19496" y="7331"/>
                  </a:lnTo>
                  <a:lnTo>
                    <a:pt x="19929" y="6595"/>
                  </a:lnTo>
                  <a:lnTo>
                    <a:pt x="20200" y="6007"/>
                  </a:lnTo>
                  <a:lnTo>
                    <a:pt x="20309" y="5860"/>
                  </a:lnTo>
                  <a:lnTo>
                    <a:pt x="21600" y="4094"/>
                  </a:lnTo>
                  <a:lnTo>
                    <a:pt x="21600" y="1471"/>
                  </a:lnTo>
                  <a:lnTo>
                    <a:pt x="21600" y="0"/>
                  </a:lnTo>
                  <a:lnTo>
                    <a:pt x="21167" y="441"/>
                  </a:lnTo>
                  <a:lnTo>
                    <a:pt x="20787" y="883"/>
                  </a:lnTo>
                  <a:close/>
                  <a:moveTo>
                    <a:pt x="20787" y="883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5" name="AutoShape 10"/>
            <p:cNvSpPr/>
            <p:nvPr/>
          </p:nvSpPr>
          <p:spPr>
            <a:xfrm>
              <a:off x="8666280" y="4184640"/>
              <a:ext cx="1303200" cy="58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8" y="20591"/>
                  </a:moveTo>
                  <a:lnTo>
                    <a:pt x="707" y="21096"/>
                  </a:lnTo>
                  <a:lnTo>
                    <a:pt x="236" y="21600"/>
                  </a:lnTo>
                  <a:lnTo>
                    <a:pt x="0" y="21600"/>
                  </a:lnTo>
                  <a:lnTo>
                    <a:pt x="11978" y="9497"/>
                  </a:lnTo>
                  <a:lnTo>
                    <a:pt x="20422" y="0"/>
                  </a:lnTo>
                  <a:lnTo>
                    <a:pt x="20657" y="504"/>
                  </a:lnTo>
                  <a:lnTo>
                    <a:pt x="21364" y="1513"/>
                  </a:lnTo>
                  <a:lnTo>
                    <a:pt x="21600" y="2017"/>
                  </a:lnTo>
                  <a:lnTo>
                    <a:pt x="21600" y="3026"/>
                  </a:lnTo>
                  <a:lnTo>
                    <a:pt x="21364" y="3530"/>
                  </a:lnTo>
                  <a:lnTo>
                    <a:pt x="20657" y="4539"/>
                  </a:lnTo>
                  <a:lnTo>
                    <a:pt x="20186" y="5043"/>
                  </a:lnTo>
                  <a:lnTo>
                    <a:pt x="19715" y="5547"/>
                  </a:lnTo>
                  <a:lnTo>
                    <a:pt x="17594" y="7060"/>
                  </a:lnTo>
                  <a:lnTo>
                    <a:pt x="15002" y="9497"/>
                  </a:lnTo>
                  <a:lnTo>
                    <a:pt x="11978" y="12019"/>
                  </a:lnTo>
                  <a:lnTo>
                    <a:pt x="8915" y="14540"/>
                  </a:lnTo>
                  <a:lnTo>
                    <a:pt x="5852" y="17061"/>
                  </a:lnTo>
                  <a:lnTo>
                    <a:pt x="3260" y="19079"/>
                  </a:lnTo>
                  <a:lnTo>
                    <a:pt x="1178" y="20591"/>
                  </a:lnTo>
                  <a:close/>
                  <a:moveTo>
                    <a:pt x="1178" y="20591"/>
                  </a:move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6" name="Freeform 11"/>
            <p:cNvSpPr/>
            <p:nvPr/>
          </p:nvSpPr>
          <p:spPr>
            <a:xfrm>
              <a:off x="8666280" y="3898800"/>
              <a:ext cx="1617480" cy="86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880" y="338"/>
                  </a:moveTo>
                  <a:lnTo>
                    <a:pt x="17739" y="2369"/>
                  </a:lnTo>
                  <a:lnTo>
                    <a:pt x="15536" y="4737"/>
                  </a:lnTo>
                  <a:lnTo>
                    <a:pt x="15355" y="5076"/>
                  </a:lnTo>
                  <a:lnTo>
                    <a:pt x="14631" y="5752"/>
                  </a:lnTo>
                  <a:lnTo>
                    <a:pt x="13726" y="6768"/>
                  </a:lnTo>
                  <a:lnTo>
                    <a:pt x="12821" y="7783"/>
                  </a:lnTo>
                  <a:lnTo>
                    <a:pt x="11192" y="9475"/>
                  </a:lnTo>
                  <a:lnTo>
                    <a:pt x="9231" y="11167"/>
                  </a:lnTo>
                  <a:lnTo>
                    <a:pt x="5611" y="14156"/>
                  </a:lnTo>
                  <a:lnTo>
                    <a:pt x="3952" y="15171"/>
                  </a:lnTo>
                  <a:lnTo>
                    <a:pt x="2685" y="16186"/>
                  </a:lnTo>
                  <a:lnTo>
                    <a:pt x="1599" y="17201"/>
                  </a:lnTo>
                  <a:lnTo>
                    <a:pt x="1086" y="17539"/>
                  </a:lnTo>
                  <a:lnTo>
                    <a:pt x="362" y="18555"/>
                  </a:lnTo>
                  <a:lnTo>
                    <a:pt x="0" y="19908"/>
                  </a:lnTo>
                  <a:lnTo>
                    <a:pt x="0" y="20923"/>
                  </a:lnTo>
                  <a:lnTo>
                    <a:pt x="0" y="21600"/>
                  </a:lnTo>
                  <a:lnTo>
                    <a:pt x="362" y="20923"/>
                  </a:lnTo>
                  <a:lnTo>
                    <a:pt x="905" y="19908"/>
                  </a:lnTo>
                  <a:lnTo>
                    <a:pt x="1599" y="18893"/>
                  </a:lnTo>
                  <a:lnTo>
                    <a:pt x="2323" y="17878"/>
                  </a:lnTo>
                  <a:lnTo>
                    <a:pt x="3047" y="17539"/>
                  </a:lnTo>
                  <a:lnTo>
                    <a:pt x="3952" y="16863"/>
                  </a:lnTo>
                  <a:lnTo>
                    <a:pt x="6154" y="15171"/>
                  </a:lnTo>
                  <a:lnTo>
                    <a:pt x="7240" y="14156"/>
                  </a:lnTo>
                  <a:lnTo>
                    <a:pt x="8145" y="13479"/>
                  </a:lnTo>
                  <a:lnTo>
                    <a:pt x="8869" y="12858"/>
                  </a:lnTo>
                  <a:lnTo>
                    <a:pt x="9412" y="12520"/>
                  </a:lnTo>
                  <a:lnTo>
                    <a:pt x="9955" y="11843"/>
                  </a:lnTo>
                  <a:lnTo>
                    <a:pt x="11011" y="10490"/>
                  </a:lnTo>
                  <a:lnTo>
                    <a:pt x="12640" y="8798"/>
                  </a:lnTo>
                  <a:lnTo>
                    <a:pt x="14269" y="6768"/>
                  </a:lnTo>
                  <a:lnTo>
                    <a:pt x="15898" y="5076"/>
                  </a:lnTo>
                  <a:lnTo>
                    <a:pt x="17377" y="3384"/>
                  </a:lnTo>
                  <a:lnTo>
                    <a:pt x="18463" y="2369"/>
                  </a:lnTo>
                  <a:lnTo>
                    <a:pt x="18975" y="2030"/>
                  </a:lnTo>
                  <a:lnTo>
                    <a:pt x="19518" y="1692"/>
                  </a:lnTo>
                  <a:lnTo>
                    <a:pt x="20423" y="1015"/>
                  </a:lnTo>
                  <a:lnTo>
                    <a:pt x="21147" y="338"/>
                  </a:lnTo>
                  <a:lnTo>
                    <a:pt x="21509" y="0"/>
                  </a:lnTo>
                  <a:lnTo>
                    <a:pt x="19880" y="338"/>
                  </a:lnTo>
                  <a:lnTo>
                    <a:pt x="21600" y="355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7794720" y="5126040"/>
              <a:ext cx="718920" cy="5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8" y="21600"/>
                  </a:moveTo>
                  <a:lnTo>
                    <a:pt x="0" y="18720"/>
                  </a:lnTo>
                  <a:lnTo>
                    <a:pt x="21396" y="0"/>
                  </a:lnTo>
                  <a:lnTo>
                    <a:pt x="20581" y="2592"/>
                  </a:lnTo>
                  <a:lnTo>
                    <a:pt x="21600" y="403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8" name="AutoShape 13"/>
            <p:cNvSpPr/>
            <p:nvPr/>
          </p:nvSpPr>
          <p:spPr>
            <a:xfrm>
              <a:off x="0" y="6000840"/>
              <a:ext cx="5857920" cy="2106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166" y="15627"/>
                  </a:moveTo>
                  <a:lnTo>
                    <a:pt x="8740" y="15210"/>
                  </a:lnTo>
                  <a:lnTo>
                    <a:pt x="9514" y="15071"/>
                  </a:lnTo>
                  <a:lnTo>
                    <a:pt x="13160" y="15974"/>
                  </a:lnTo>
                  <a:lnTo>
                    <a:pt x="13509" y="17086"/>
                  </a:lnTo>
                  <a:lnTo>
                    <a:pt x="13909" y="16738"/>
                  </a:lnTo>
                  <a:lnTo>
                    <a:pt x="13784" y="15627"/>
                  </a:lnTo>
                  <a:lnTo>
                    <a:pt x="9789" y="14377"/>
                  </a:lnTo>
                  <a:lnTo>
                    <a:pt x="14958" y="12363"/>
                  </a:lnTo>
                  <a:lnTo>
                    <a:pt x="15432" y="13127"/>
                  </a:lnTo>
                  <a:lnTo>
                    <a:pt x="15657" y="13543"/>
                  </a:lnTo>
                  <a:lnTo>
                    <a:pt x="15557" y="14168"/>
                  </a:lnTo>
                  <a:lnTo>
                    <a:pt x="16606" y="19725"/>
                  </a:lnTo>
                  <a:lnTo>
                    <a:pt x="17505" y="19933"/>
                  </a:lnTo>
                  <a:lnTo>
                    <a:pt x="15723" y="12455"/>
                  </a:lnTo>
                  <a:lnTo>
                    <a:pt x="15674" y="12039"/>
                  </a:lnTo>
                  <a:lnTo>
                    <a:pt x="15582" y="11761"/>
                  </a:lnTo>
                  <a:lnTo>
                    <a:pt x="15332" y="11344"/>
                  </a:lnTo>
                  <a:lnTo>
                    <a:pt x="15033" y="11066"/>
                  </a:lnTo>
                  <a:lnTo>
                    <a:pt x="14733" y="10788"/>
                  </a:lnTo>
                  <a:lnTo>
                    <a:pt x="14583" y="10511"/>
                  </a:lnTo>
                  <a:lnTo>
                    <a:pt x="14483" y="10372"/>
                  </a:lnTo>
                  <a:lnTo>
                    <a:pt x="14533" y="10094"/>
                  </a:lnTo>
                  <a:lnTo>
                    <a:pt x="14633" y="10094"/>
                  </a:lnTo>
                  <a:lnTo>
                    <a:pt x="14833" y="9955"/>
                  </a:lnTo>
                  <a:lnTo>
                    <a:pt x="15232" y="9955"/>
                  </a:lnTo>
                  <a:lnTo>
                    <a:pt x="15432" y="9955"/>
                  </a:lnTo>
                  <a:lnTo>
                    <a:pt x="15624" y="9816"/>
                  </a:lnTo>
                  <a:lnTo>
                    <a:pt x="16023" y="9260"/>
                  </a:lnTo>
                  <a:lnTo>
                    <a:pt x="16273" y="9122"/>
                  </a:lnTo>
                  <a:lnTo>
                    <a:pt x="16473" y="9122"/>
                  </a:lnTo>
                  <a:lnTo>
                    <a:pt x="17080" y="9168"/>
                  </a:lnTo>
                  <a:lnTo>
                    <a:pt x="17030" y="10557"/>
                  </a:lnTo>
                  <a:lnTo>
                    <a:pt x="18753" y="16947"/>
                  </a:lnTo>
                  <a:lnTo>
                    <a:pt x="19428" y="18891"/>
                  </a:lnTo>
                  <a:lnTo>
                    <a:pt x="20102" y="21600"/>
                  </a:lnTo>
                  <a:lnTo>
                    <a:pt x="20227" y="21044"/>
                  </a:lnTo>
                  <a:lnTo>
                    <a:pt x="19952" y="19169"/>
                  </a:lnTo>
                  <a:lnTo>
                    <a:pt x="17430" y="9538"/>
                  </a:lnTo>
                  <a:lnTo>
                    <a:pt x="17380" y="9260"/>
                  </a:lnTo>
                  <a:lnTo>
                    <a:pt x="17280" y="8705"/>
                  </a:lnTo>
                  <a:lnTo>
                    <a:pt x="17030" y="8010"/>
                  </a:lnTo>
                  <a:lnTo>
                    <a:pt x="16772" y="7455"/>
                  </a:lnTo>
                  <a:lnTo>
                    <a:pt x="16622" y="7038"/>
                  </a:lnTo>
                  <a:lnTo>
                    <a:pt x="16473" y="6760"/>
                  </a:lnTo>
                  <a:lnTo>
                    <a:pt x="16373" y="6621"/>
                  </a:lnTo>
                  <a:lnTo>
                    <a:pt x="16423" y="6621"/>
                  </a:lnTo>
                  <a:lnTo>
                    <a:pt x="16523" y="6621"/>
                  </a:lnTo>
                  <a:lnTo>
                    <a:pt x="16722" y="6621"/>
                  </a:lnTo>
                  <a:lnTo>
                    <a:pt x="16980" y="6899"/>
                  </a:lnTo>
                  <a:lnTo>
                    <a:pt x="17330" y="7455"/>
                  </a:lnTo>
                  <a:lnTo>
                    <a:pt x="17680" y="8057"/>
                  </a:lnTo>
                  <a:lnTo>
                    <a:pt x="18304" y="8890"/>
                  </a:lnTo>
                  <a:lnTo>
                    <a:pt x="19353" y="9862"/>
                  </a:lnTo>
                  <a:lnTo>
                    <a:pt x="19927" y="10372"/>
                  </a:lnTo>
                  <a:lnTo>
                    <a:pt x="21001" y="12085"/>
                  </a:lnTo>
                  <a:lnTo>
                    <a:pt x="21600" y="11946"/>
                  </a:lnTo>
                  <a:lnTo>
                    <a:pt x="20326" y="10511"/>
                  </a:lnTo>
                  <a:lnTo>
                    <a:pt x="19877" y="9816"/>
                  </a:lnTo>
                  <a:lnTo>
                    <a:pt x="19369" y="8983"/>
                  </a:lnTo>
                  <a:lnTo>
                    <a:pt x="18470" y="7871"/>
                  </a:lnTo>
                  <a:lnTo>
                    <a:pt x="17530" y="6760"/>
                  </a:lnTo>
                  <a:lnTo>
                    <a:pt x="17080" y="6482"/>
                  </a:lnTo>
                  <a:lnTo>
                    <a:pt x="16672" y="6205"/>
                  </a:lnTo>
                  <a:lnTo>
                    <a:pt x="16273" y="6066"/>
                  </a:lnTo>
                  <a:lnTo>
                    <a:pt x="15973" y="6205"/>
                  </a:lnTo>
                  <a:lnTo>
                    <a:pt x="15624" y="6343"/>
                  </a:lnTo>
                  <a:lnTo>
                    <a:pt x="15083" y="6343"/>
                  </a:lnTo>
                  <a:lnTo>
                    <a:pt x="14583" y="6343"/>
                  </a:lnTo>
                  <a:lnTo>
                    <a:pt x="14175" y="6621"/>
                  </a:lnTo>
                  <a:lnTo>
                    <a:pt x="13826" y="6760"/>
                  </a:lnTo>
                  <a:lnTo>
                    <a:pt x="13576" y="7038"/>
                  </a:lnTo>
                  <a:lnTo>
                    <a:pt x="13376" y="7316"/>
                  </a:lnTo>
                  <a:lnTo>
                    <a:pt x="13276" y="7455"/>
                  </a:lnTo>
                  <a:lnTo>
                    <a:pt x="13226" y="7455"/>
                  </a:lnTo>
                  <a:lnTo>
                    <a:pt x="12486" y="7732"/>
                  </a:lnTo>
                  <a:lnTo>
                    <a:pt x="11728" y="8288"/>
                  </a:lnTo>
                  <a:lnTo>
                    <a:pt x="10288" y="9677"/>
                  </a:lnTo>
                  <a:lnTo>
                    <a:pt x="9589" y="10233"/>
                  </a:lnTo>
                  <a:lnTo>
                    <a:pt x="8831" y="10650"/>
                  </a:lnTo>
                  <a:lnTo>
                    <a:pt x="8041" y="10650"/>
                  </a:lnTo>
                  <a:lnTo>
                    <a:pt x="7641" y="10511"/>
                  </a:lnTo>
                  <a:lnTo>
                    <a:pt x="7242" y="10233"/>
                  </a:lnTo>
                  <a:lnTo>
                    <a:pt x="7142" y="10094"/>
                  </a:lnTo>
                  <a:lnTo>
                    <a:pt x="6892" y="9955"/>
                  </a:lnTo>
                  <a:lnTo>
                    <a:pt x="6584" y="9538"/>
                  </a:lnTo>
                  <a:lnTo>
                    <a:pt x="6185" y="8983"/>
                  </a:lnTo>
                  <a:lnTo>
                    <a:pt x="5743" y="8427"/>
                  </a:lnTo>
                  <a:lnTo>
                    <a:pt x="5294" y="7732"/>
                  </a:lnTo>
                  <a:lnTo>
                    <a:pt x="4287" y="6482"/>
                  </a:lnTo>
                  <a:lnTo>
                    <a:pt x="3887" y="5927"/>
                  </a:lnTo>
                  <a:lnTo>
                    <a:pt x="3687" y="5649"/>
                  </a:lnTo>
                  <a:lnTo>
                    <a:pt x="0" y="0"/>
                  </a:lnTo>
                  <a:lnTo>
                    <a:pt x="1024" y="2778"/>
                  </a:lnTo>
                  <a:lnTo>
                    <a:pt x="4869" y="9029"/>
                  </a:lnTo>
                  <a:lnTo>
                    <a:pt x="5893" y="10696"/>
                  </a:lnTo>
                  <a:lnTo>
                    <a:pt x="7067" y="12571"/>
                  </a:lnTo>
                  <a:lnTo>
                    <a:pt x="7342" y="13057"/>
                  </a:lnTo>
                  <a:lnTo>
                    <a:pt x="7466" y="14377"/>
                  </a:lnTo>
                  <a:lnTo>
                    <a:pt x="8166" y="15627"/>
                  </a:lnTo>
                  <a:close/>
                  <a:moveTo>
                    <a:pt x="8166" y="15627"/>
                  </a:move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09" name="AutoShape 14"/>
            <p:cNvSpPr/>
            <p:nvPr/>
          </p:nvSpPr>
          <p:spPr>
            <a:xfrm>
              <a:off x="0" y="6759720"/>
              <a:ext cx="6146640" cy="246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5920"/>
                  </a:moveTo>
                  <a:lnTo>
                    <a:pt x="21537" y="4752"/>
                  </a:lnTo>
                  <a:lnTo>
                    <a:pt x="21069" y="3861"/>
                  </a:lnTo>
                  <a:lnTo>
                    <a:pt x="18800" y="1425"/>
                  </a:lnTo>
                  <a:lnTo>
                    <a:pt x="18268" y="1069"/>
                  </a:lnTo>
                  <a:lnTo>
                    <a:pt x="20505" y="3682"/>
                  </a:lnTo>
                  <a:lnTo>
                    <a:pt x="20553" y="3801"/>
                  </a:lnTo>
                  <a:lnTo>
                    <a:pt x="20601" y="3920"/>
                  </a:lnTo>
                  <a:lnTo>
                    <a:pt x="20791" y="4514"/>
                  </a:lnTo>
                  <a:lnTo>
                    <a:pt x="20934" y="5108"/>
                  </a:lnTo>
                  <a:lnTo>
                    <a:pt x="20989" y="5346"/>
                  </a:lnTo>
                  <a:lnTo>
                    <a:pt x="20934" y="5464"/>
                  </a:lnTo>
                  <a:lnTo>
                    <a:pt x="20648" y="5583"/>
                  </a:lnTo>
                  <a:lnTo>
                    <a:pt x="20267" y="5583"/>
                  </a:lnTo>
                  <a:lnTo>
                    <a:pt x="19887" y="5464"/>
                  </a:lnTo>
                  <a:lnTo>
                    <a:pt x="19458" y="5227"/>
                  </a:lnTo>
                  <a:lnTo>
                    <a:pt x="18990" y="4870"/>
                  </a:lnTo>
                  <a:lnTo>
                    <a:pt x="18562" y="4395"/>
                  </a:lnTo>
                  <a:lnTo>
                    <a:pt x="18411" y="4276"/>
                  </a:lnTo>
                  <a:lnTo>
                    <a:pt x="18221" y="4039"/>
                  </a:lnTo>
                  <a:lnTo>
                    <a:pt x="17221" y="2495"/>
                  </a:lnTo>
                  <a:lnTo>
                    <a:pt x="17174" y="2376"/>
                  </a:lnTo>
                  <a:lnTo>
                    <a:pt x="17086" y="2019"/>
                  </a:lnTo>
                  <a:lnTo>
                    <a:pt x="16753" y="1307"/>
                  </a:lnTo>
                  <a:lnTo>
                    <a:pt x="16373" y="475"/>
                  </a:lnTo>
                  <a:lnTo>
                    <a:pt x="16230" y="119"/>
                  </a:lnTo>
                  <a:lnTo>
                    <a:pt x="16135" y="0"/>
                  </a:lnTo>
                  <a:lnTo>
                    <a:pt x="16563" y="1425"/>
                  </a:lnTo>
                  <a:lnTo>
                    <a:pt x="16706" y="2138"/>
                  </a:lnTo>
                  <a:lnTo>
                    <a:pt x="16706" y="2257"/>
                  </a:lnTo>
                  <a:lnTo>
                    <a:pt x="16753" y="2257"/>
                  </a:lnTo>
                  <a:lnTo>
                    <a:pt x="19085" y="10216"/>
                  </a:lnTo>
                  <a:lnTo>
                    <a:pt x="19133" y="10572"/>
                  </a:lnTo>
                  <a:lnTo>
                    <a:pt x="19133" y="10929"/>
                  </a:lnTo>
                  <a:lnTo>
                    <a:pt x="18990" y="11404"/>
                  </a:lnTo>
                  <a:lnTo>
                    <a:pt x="18752" y="11641"/>
                  </a:lnTo>
                  <a:lnTo>
                    <a:pt x="18411" y="11641"/>
                  </a:lnTo>
                  <a:lnTo>
                    <a:pt x="18078" y="11166"/>
                  </a:lnTo>
                  <a:lnTo>
                    <a:pt x="17745" y="10572"/>
                  </a:lnTo>
                  <a:lnTo>
                    <a:pt x="17459" y="9978"/>
                  </a:lnTo>
                  <a:lnTo>
                    <a:pt x="17412" y="9860"/>
                  </a:lnTo>
                  <a:lnTo>
                    <a:pt x="17364" y="9741"/>
                  </a:lnTo>
                  <a:lnTo>
                    <a:pt x="17221" y="9147"/>
                  </a:lnTo>
                  <a:lnTo>
                    <a:pt x="16991" y="8315"/>
                  </a:lnTo>
                  <a:lnTo>
                    <a:pt x="16658" y="7484"/>
                  </a:lnTo>
                  <a:lnTo>
                    <a:pt x="16325" y="6533"/>
                  </a:lnTo>
                  <a:lnTo>
                    <a:pt x="16182" y="6296"/>
                  </a:lnTo>
                  <a:lnTo>
                    <a:pt x="16087" y="5940"/>
                  </a:lnTo>
                  <a:lnTo>
                    <a:pt x="15936" y="5227"/>
                  </a:lnTo>
                  <a:lnTo>
                    <a:pt x="15793" y="4633"/>
                  </a:lnTo>
                  <a:lnTo>
                    <a:pt x="15746" y="4158"/>
                  </a:lnTo>
                  <a:lnTo>
                    <a:pt x="15651" y="3801"/>
                  </a:lnTo>
                  <a:lnTo>
                    <a:pt x="15603" y="3564"/>
                  </a:lnTo>
                  <a:lnTo>
                    <a:pt x="15460" y="3445"/>
                  </a:lnTo>
                  <a:lnTo>
                    <a:pt x="15127" y="3089"/>
                  </a:lnTo>
                  <a:lnTo>
                    <a:pt x="14754" y="2732"/>
                  </a:lnTo>
                  <a:lnTo>
                    <a:pt x="14564" y="2613"/>
                  </a:lnTo>
                  <a:lnTo>
                    <a:pt x="14469" y="2613"/>
                  </a:lnTo>
                  <a:lnTo>
                    <a:pt x="14326" y="2613"/>
                  </a:lnTo>
                  <a:lnTo>
                    <a:pt x="14278" y="2732"/>
                  </a:lnTo>
                  <a:lnTo>
                    <a:pt x="14231" y="2851"/>
                  </a:lnTo>
                  <a:lnTo>
                    <a:pt x="14612" y="3089"/>
                  </a:lnTo>
                  <a:lnTo>
                    <a:pt x="14850" y="3564"/>
                  </a:lnTo>
                  <a:lnTo>
                    <a:pt x="14984" y="4039"/>
                  </a:lnTo>
                  <a:lnTo>
                    <a:pt x="15032" y="4395"/>
                  </a:lnTo>
                  <a:lnTo>
                    <a:pt x="14984" y="4752"/>
                  </a:lnTo>
                  <a:lnTo>
                    <a:pt x="15080" y="5346"/>
                  </a:lnTo>
                  <a:lnTo>
                    <a:pt x="15222" y="6296"/>
                  </a:lnTo>
                  <a:lnTo>
                    <a:pt x="15413" y="7246"/>
                  </a:lnTo>
                  <a:lnTo>
                    <a:pt x="15793" y="9503"/>
                  </a:lnTo>
                  <a:lnTo>
                    <a:pt x="16031" y="10572"/>
                  </a:lnTo>
                  <a:lnTo>
                    <a:pt x="16182" y="11523"/>
                  </a:lnTo>
                  <a:lnTo>
                    <a:pt x="16373" y="12473"/>
                  </a:lnTo>
                  <a:lnTo>
                    <a:pt x="16468" y="13186"/>
                  </a:lnTo>
                  <a:lnTo>
                    <a:pt x="16515" y="13522"/>
                  </a:lnTo>
                  <a:lnTo>
                    <a:pt x="16420" y="13760"/>
                  </a:lnTo>
                  <a:lnTo>
                    <a:pt x="16277" y="13760"/>
                  </a:lnTo>
                  <a:lnTo>
                    <a:pt x="16031" y="13760"/>
                  </a:lnTo>
                  <a:lnTo>
                    <a:pt x="15841" y="13760"/>
                  </a:lnTo>
                  <a:lnTo>
                    <a:pt x="15651" y="13641"/>
                  </a:lnTo>
                  <a:lnTo>
                    <a:pt x="15508" y="13522"/>
                  </a:lnTo>
                  <a:lnTo>
                    <a:pt x="15460" y="13522"/>
                  </a:lnTo>
                  <a:lnTo>
                    <a:pt x="15460" y="13403"/>
                  </a:lnTo>
                  <a:lnTo>
                    <a:pt x="15413" y="13304"/>
                  </a:lnTo>
                  <a:lnTo>
                    <a:pt x="15175" y="12592"/>
                  </a:lnTo>
                  <a:lnTo>
                    <a:pt x="14326" y="6415"/>
                  </a:lnTo>
                  <a:lnTo>
                    <a:pt x="14088" y="6533"/>
                  </a:lnTo>
                  <a:lnTo>
                    <a:pt x="13850" y="6533"/>
                  </a:lnTo>
                  <a:lnTo>
                    <a:pt x="13509" y="6177"/>
                  </a:lnTo>
                  <a:lnTo>
                    <a:pt x="13271" y="5702"/>
                  </a:lnTo>
                  <a:lnTo>
                    <a:pt x="13223" y="5464"/>
                  </a:lnTo>
                  <a:lnTo>
                    <a:pt x="13128" y="5346"/>
                  </a:lnTo>
                  <a:lnTo>
                    <a:pt x="12985" y="5464"/>
                  </a:lnTo>
                  <a:lnTo>
                    <a:pt x="12938" y="5702"/>
                  </a:lnTo>
                  <a:lnTo>
                    <a:pt x="12890" y="6058"/>
                  </a:lnTo>
                  <a:lnTo>
                    <a:pt x="12890" y="6177"/>
                  </a:lnTo>
                  <a:lnTo>
                    <a:pt x="13033" y="6296"/>
                  </a:lnTo>
                  <a:lnTo>
                    <a:pt x="13128" y="6652"/>
                  </a:lnTo>
                  <a:lnTo>
                    <a:pt x="13223" y="7246"/>
                  </a:lnTo>
                  <a:lnTo>
                    <a:pt x="13271" y="7959"/>
                  </a:lnTo>
                  <a:lnTo>
                    <a:pt x="13271" y="8078"/>
                  </a:lnTo>
                  <a:lnTo>
                    <a:pt x="13271" y="8197"/>
                  </a:lnTo>
                  <a:lnTo>
                    <a:pt x="13612" y="15067"/>
                  </a:lnTo>
                  <a:lnTo>
                    <a:pt x="13612" y="15304"/>
                  </a:lnTo>
                  <a:lnTo>
                    <a:pt x="13612" y="15423"/>
                  </a:lnTo>
                  <a:lnTo>
                    <a:pt x="13557" y="15304"/>
                  </a:lnTo>
                  <a:lnTo>
                    <a:pt x="13509" y="14948"/>
                  </a:lnTo>
                  <a:lnTo>
                    <a:pt x="13461" y="14829"/>
                  </a:lnTo>
                  <a:lnTo>
                    <a:pt x="13414" y="14591"/>
                  </a:lnTo>
                  <a:lnTo>
                    <a:pt x="13319" y="14116"/>
                  </a:lnTo>
                  <a:lnTo>
                    <a:pt x="13176" y="13304"/>
                  </a:lnTo>
                  <a:lnTo>
                    <a:pt x="13033" y="12473"/>
                  </a:lnTo>
                  <a:lnTo>
                    <a:pt x="12795" y="11523"/>
                  </a:lnTo>
                  <a:lnTo>
                    <a:pt x="12605" y="10691"/>
                  </a:lnTo>
                  <a:lnTo>
                    <a:pt x="12375" y="10097"/>
                  </a:lnTo>
                  <a:lnTo>
                    <a:pt x="12184" y="9741"/>
                  </a:lnTo>
                  <a:lnTo>
                    <a:pt x="11851" y="9503"/>
                  </a:lnTo>
                  <a:lnTo>
                    <a:pt x="11470" y="9503"/>
                  </a:lnTo>
                  <a:lnTo>
                    <a:pt x="11082" y="9622"/>
                  </a:lnTo>
                  <a:lnTo>
                    <a:pt x="10701" y="9860"/>
                  </a:lnTo>
                  <a:lnTo>
                    <a:pt x="9900" y="10454"/>
                  </a:lnTo>
                  <a:lnTo>
                    <a:pt x="9186" y="11285"/>
                  </a:lnTo>
                  <a:lnTo>
                    <a:pt x="8757" y="11879"/>
                  </a:lnTo>
                  <a:lnTo>
                    <a:pt x="8226" y="12354"/>
                  </a:lnTo>
                  <a:lnTo>
                    <a:pt x="7901" y="12473"/>
                  </a:lnTo>
                  <a:lnTo>
                    <a:pt x="7520" y="12473"/>
                  </a:lnTo>
                  <a:lnTo>
                    <a:pt x="7139" y="12235"/>
                  </a:lnTo>
                  <a:lnTo>
                    <a:pt x="6663" y="11641"/>
                  </a:lnTo>
                  <a:lnTo>
                    <a:pt x="5664" y="10572"/>
                  </a:lnTo>
                  <a:lnTo>
                    <a:pt x="4617" y="9384"/>
                  </a:lnTo>
                  <a:lnTo>
                    <a:pt x="3514" y="8078"/>
                  </a:lnTo>
                  <a:lnTo>
                    <a:pt x="2523" y="6890"/>
                  </a:lnTo>
                  <a:lnTo>
                    <a:pt x="1571" y="5702"/>
                  </a:lnTo>
                  <a:lnTo>
                    <a:pt x="1182" y="5227"/>
                  </a:lnTo>
                  <a:lnTo>
                    <a:pt x="809" y="4752"/>
                  </a:lnTo>
                  <a:lnTo>
                    <a:pt x="0" y="3702"/>
                  </a:lnTo>
                  <a:lnTo>
                    <a:pt x="0" y="9107"/>
                  </a:lnTo>
                  <a:lnTo>
                    <a:pt x="286" y="9384"/>
                  </a:lnTo>
                  <a:lnTo>
                    <a:pt x="1182" y="10216"/>
                  </a:lnTo>
                  <a:lnTo>
                    <a:pt x="1713" y="10691"/>
                  </a:lnTo>
                  <a:lnTo>
                    <a:pt x="2285" y="11285"/>
                  </a:lnTo>
                  <a:lnTo>
                    <a:pt x="2760" y="11760"/>
                  </a:lnTo>
                  <a:lnTo>
                    <a:pt x="3141" y="12235"/>
                  </a:lnTo>
                  <a:lnTo>
                    <a:pt x="3427" y="12592"/>
                  </a:lnTo>
                  <a:lnTo>
                    <a:pt x="3657" y="12948"/>
                  </a:lnTo>
                  <a:lnTo>
                    <a:pt x="3998" y="13304"/>
                  </a:lnTo>
                  <a:lnTo>
                    <a:pt x="4664" y="13997"/>
                  </a:lnTo>
                  <a:lnTo>
                    <a:pt x="5426" y="14710"/>
                  </a:lnTo>
                  <a:lnTo>
                    <a:pt x="5751" y="14948"/>
                  </a:lnTo>
                  <a:lnTo>
                    <a:pt x="6037" y="15185"/>
                  </a:lnTo>
                  <a:lnTo>
                    <a:pt x="6568" y="15423"/>
                  </a:lnTo>
                  <a:lnTo>
                    <a:pt x="7092" y="15542"/>
                  </a:lnTo>
                  <a:lnTo>
                    <a:pt x="7663" y="15660"/>
                  </a:lnTo>
                  <a:lnTo>
                    <a:pt x="8178" y="15660"/>
                  </a:lnTo>
                  <a:lnTo>
                    <a:pt x="8662" y="15542"/>
                  </a:lnTo>
                  <a:lnTo>
                    <a:pt x="9091" y="15542"/>
                  </a:lnTo>
                  <a:lnTo>
                    <a:pt x="9329" y="15423"/>
                  </a:lnTo>
                  <a:lnTo>
                    <a:pt x="9424" y="15423"/>
                  </a:lnTo>
                  <a:lnTo>
                    <a:pt x="9804" y="15542"/>
                  </a:lnTo>
                  <a:lnTo>
                    <a:pt x="10138" y="15660"/>
                  </a:lnTo>
                  <a:lnTo>
                    <a:pt x="10368" y="15898"/>
                  </a:lnTo>
                  <a:lnTo>
                    <a:pt x="10606" y="16017"/>
                  </a:lnTo>
                  <a:lnTo>
                    <a:pt x="10939" y="16373"/>
                  </a:lnTo>
                  <a:lnTo>
                    <a:pt x="11137" y="16730"/>
                  </a:lnTo>
                  <a:lnTo>
                    <a:pt x="11232" y="17086"/>
                  </a:lnTo>
                  <a:lnTo>
                    <a:pt x="11232" y="17324"/>
                  </a:lnTo>
                  <a:lnTo>
                    <a:pt x="11232" y="17442"/>
                  </a:lnTo>
                  <a:lnTo>
                    <a:pt x="11232" y="17561"/>
                  </a:lnTo>
                  <a:lnTo>
                    <a:pt x="11185" y="17561"/>
                  </a:lnTo>
                  <a:lnTo>
                    <a:pt x="11082" y="17680"/>
                  </a:lnTo>
                  <a:lnTo>
                    <a:pt x="10939" y="17918"/>
                  </a:lnTo>
                  <a:lnTo>
                    <a:pt x="10796" y="18274"/>
                  </a:lnTo>
                  <a:lnTo>
                    <a:pt x="10748" y="18630"/>
                  </a:lnTo>
                  <a:lnTo>
                    <a:pt x="10796" y="19224"/>
                  </a:lnTo>
                  <a:lnTo>
                    <a:pt x="10844" y="19581"/>
                  </a:lnTo>
                  <a:lnTo>
                    <a:pt x="10986" y="19937"/>
                  </a:lnTo>
                  <a:lnTo>
                    <a:pt x="11137" y="20293"/>
                  </a:lnTo>
                  <a:lnTo>
                    <a:pt x="11375" y="20768"/>
                  </a:lnTo>
                  <a:lnTo>
                    <a:pt x="11613" y="21125"/>
                  </a:lnTo>
                  <a:lnTo>
                    <a:pt x="11851" y="21481"/>
                  </a:lnTo>
                  <a:lnTo>
                    <a:pt x="12327" y="21600"/>
                  </a:lnTo>
                  <a:lnTo>
                    <a:pt x="12747" y="21481"/>
                  </a:lnTo>
                  <a:lnTo>
                    <a:pt x="13176" y="21125"/>
                  </a:lnTo>
                  <a:lnTo>
                    <a:pt x="13461" y="20650"/>
                  </a:lnTo>
                  <a:lnTo>
                    <a:pt x="13755" y="20175"/>
                  </a:lnTo>
                  <a:lnTo>
                    <a:pt x="13898" y="19699"/>
                  </a:lnTo>
                  <a:lnTo>
                    <a:pt x="13945" y="19581"/>
                  </a:lnTo>
                  <a:lnTo>
                    <a:pt x="14374" y="19581"/>
                  </a:lnTo>
                  <a:lnTo>
                    <a:pt x="14754" y="19462"/>
                  </a:lnTo>
                  <a:lnTo>
                    <a:pt x="15127" y="19105"/>
                  </a:lnTo>
                  <a:lnTo>
                    <a:pt x="15413" y="18630"/>
                  </a:lnTo>
                  <a:lnTo>
                    <a:pt x="15651" y="18155"/>
                  </a:lnTo>
                  <a:lnTo>
                    <a:pt x="15889" y="17799"/>
                  </a:lnTo>
                  <a:lnTo>
                    <a:pt x="15984" y="17442"/>
                  </a:lnTo>
                  <a:lnTo>
                    <a:pt x="16031" y="17324"/>
                  </a:lnTo>
                  <a:lnTo>
                    <a:pt x="17459" y="17799"/>
                  </a:lnTo>
                  <a:lnTo>
                    <a:pt x="17792" y="17918"/>
                  </a:lnTo>
                  <a:lnTo>
                    <a:pt x="18030" y="17799"/>
                  </a:lnTo>
                  <a:lnTo>
                    <a:pt x="18459" y="17561"/>
                  </a:lnTo>
                  <a:lnTo>
                    <a:pt x="18752" y="17086"/>
                  </a:lnTo>
                  <a:lnTo>
                    <a:pt x="18943" y="16373"/>
                  </a:lnTo>
                  <a:lnTo>
                    <a:pt x="19038" y="15779"/>
                  </a:lnTo>
                  <a:lnTo>
                    <a:pt x="19038" y="15185"/>
                  </a:lnTo>
                  <a:lnTo>
                    <a:pt x="19038" y="14710"/>
                  </a:lnTo>
                  <a:lnTo>
                    <a:pt x="19038" y="14591"/>
                  </a:lnTo>
                  <a:lnTo>
                    <a:pt x="19181" y="14591"/>
                  </a:lnTo>
                  <a:lnTo>
                    <a:pt x="19323" y="14473"/>
                  </a:lnTo>
                  <a:lnTo>
                    <a:pt x="19601" y="13879"/>
                  </a:lnTo>
                  <a:lnTo>
                    <a:pt x="19934" y="13067"/>
                  </a:lnTo>
                  <a:lnTo>
                    <a:pt x="20267" y="11998"/>
                  </a:lnTo>
                  <a:lnTo>
                    <a:pt x="20553" y="10929"/>
                  </a:lnTo>
                  <a:lnTo>
                    <a:pt x="20791" y="9978"/>
                  </a:lnTo>
                  <a:lnTo>
                    <a:pt x="20934" y="9266"/>
                  </a:lnTo>
                  <a:lnTo>
                    <a:pt x="20989" y="9147"/>
                  </a:lnTo>
                  <a:lnTo>
                    <a:pt x="20989" y="9028"/>
                  </a:lnTo>
                  <a:lnTo>
                    <a:pt x="21362" y="7405"/>
                  </a:lnTo>
                  <a:lnTo>
                    <a:pt x="21600" y="5920"/>
                  </a:lnTo>
                  <a:close/>
                  <a:moveTo>
                    <a:pt x="21600" y="592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b9efee"/>
                </a:solidFill>
                <a:latin typeface="Lucida Grande"/>
              </a:rPr>
              <a:t>Click to edit the title text format</a:t>
            </a:r>
            <a:endParaRPr b="1" lang="en-US" sz="6200" spc="-1" strike="noStrike">
              <a:solidFill>
                <a:srgbClr val="b9efee"/>
              </a:solidFill>
              <a:latin typeface="Lucida Gran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ldNum" idx="6"/>
          </p:nvPr>
        </p:nvSpPr>
        <p:spPr>
          <a:xfrm>
            <a:off x="10648800" y="9207360"/>
            <a:ext cx="37152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AC1A-5344-48E3-8DFE-AEC5D5CB7CAE}" type="slidenum">
              <a: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1" marL="630360" indent="-285840">
              <a:spcBef>
                <a:spcPts val="11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2" marL="1030320" indent="-228600">
              <a:spcBef>
                <a:spcPts val="1100"/>
              </a:spcBef>
              <a:buClr>
                <a:srgbClr val="b9efe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3" marL="1487520" indent="-228600">
              <a:spcBef>
                <a:spcPts val="11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4" marL="1944720" indent="-228600">
              <a:spcBef>
                <a:spcPts val="1100"/>
              </a:spcBef>
              <a:buClr>
                <a:srgbClr val="ccff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5" marL="1944720" indent="-228600">
              <a:spcBef>
                <a:spcPts val="11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6" marL="1944720" indent="-228600">
              <a:spcBef>
                <a:spcPts val="11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15"/>
          <p:cNvGrpSpPr/>
          <p:nvPr/>
        </p:nvGrpSpPr>
        <p:grpSpPr>
          <a:xfrm>
            <a:off x="0" y="3467160"/>
            <a:ext cx="13004640" cy="5754600"/>
            <a:chOff x="0" y="3467160"/>
            <a:chExt cx="13004640" cy="5754600"/>
          </a:xfrm>
        </p:grpSpPr>
        <p:sp>
          <p:nvSpPr>
            <p:cNvPr id="250" name="Rectangle 1"/>
            <p:cNvSpPr/>
            <p:nvPr/>
          </p:nvSpPr>
          <p:spPr>
            <a:xfrm rot="20160000">
              <a:off x="4782960" y="5864400"/>
              <a:ext cx="6934320" cy="86364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3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51" name="AutoShape 2"/>
            <p:cNvSpPr/>
            <p:nvPr/>
          </p:nvSpPr>
          <p:spPr>
            <a:xfrm>
              <a:off x="0" y="6019920"/>
              <a:ext cx="6070680" cy="276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714" y="9741"/>
                  </a:lnTo>
                  <a:lnTo>
                    <a:pt x="15814" y="4659"/>
                  </a:lnTo>
                  <a:lnTo>
                    <a:pt x="16296" y="4765"/>
                  </a:lnTo>
                  <a:lnTo>
                    <a:pt x="21383" y="9318"/>
                  </a:lnTo>
                  <a:lnTo>
                    <a:pt x="21600" y="11435"/>
                  </a:lnTo>
                  <a:lnTo>
                    <a:pt x="18514" y="19059"/>
                  </a:lnTo>
                  <a:lnTo>
                    <a:pt x="12729" y="21600"/>
                  </a:lnTo>
                  <a:lnTo>
                    <a:pt x="10414" y="16518"/>
                  </a:lnTo>
                  <a:lnTo>
                    <a:pt x="6943" y="18212"/>
                  </a:lnTo>
                  <a:lnTo>
                    <a:pt x="0" y="9741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52" name="AutoShape 3"/>
            <p:cNvSpPr/>
            <p:nvPr/>
          </p:nvSpPr>
          <p:spPr>
            <a:xfrm>
              <a:off x="7583400" y="3467160"/>
              <a:ext cx="5421240" cy="278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81" y="53"/>
                  </a:moveTo>
                  <a:lnTo>
                    <a:pt x="20511" y="53"/>
                  </a:lnTo>
                  <a:lnTo>
                    <a:pt x="19864" y="263"/>
                  </a:lnTo>
                  <a:lnTo>
                    <a:pt x="19216" y="473"/>
                  </a:lnTo>
                  <a:lnTo>
                    <a:pt x="19000" y="684"/>
                  </a:lnTo>
                  <a:lnTo>
                    <a:pt x="18784" y="999"/>
                  </a:lnTo>
                  <a:lnTo>
                    <a:pt x="18730" y="1105"/>
                  </a:lnTo>
                  <a:lnTo>
                    <a:pt x="18676" y="1210"/>
                  </a:lnTo>
                  <a:lnTo>
                    <a:pt x="17552" y="1736"/>
                  </a:lnTo>
                  <a:lnTo>
                    <a:pt x="17057" y="1946"/>
                  </a:lnTo>
                  <a:lnTo>
                    <a:pt x="16517" y="2051"/>
                  </a:lnTo>
                  <a:lnTo>
                    <a:pt x="15330" y="2367"/>
                  </a:lnTo>
                  <a:lnTo>
                    <a:pt x="14142" y="2682"/>
                  </a:lnTo>
                  <a:lnTo>
                    <a:pt x="12901" y="2893"/>
                  </a:lnTo>
                  <a:lnTo>
                    <a:pt x="11821" y="3103"/>
                  </a:lnTo>
                  <a:lnTo>
                    <a:pt x="11335" y="3208"/>
                  </a:lnTo>
                  <a:lnTo>
                    <a:pt x="10903" y="3314"/>
                  </a:lnTo>
                  <a:lnTo>
                    <a:pt x="10580" y="3314"/>
                  </a:lnTo>
                  <a:lnTo>
                    <a:pt x="10310" y="3419"/>
                  </a:lnTo>
                  <a:lnTo>
                    <a:pt x="10148" y="3419"/>
                  </a:lnTo>
                  <a:lnTo>
                    <a:pt x="10094" y="3419"/>
                  </a:lnTo>
                  <a:lnTo>
                    <a:pt x="10040" y="3524"/>
                  </a:lnTo>
                  <a:lnTo>
                    <a:pt x="9941" y="3629"/>
                  </a:lnTo>
                  <a:lnTo>
                    <a:pt x="9671" y="4050"/>
                  </a:lnTo>
                  <a:lnTo>
                    <a:pt x="9230" y="4576"/>
                  </a:lnTo>
                  <a:lnTo>
                    <a:pt x="8744" y="5102"/>
                  </a:lnTo>
                  <a:lnTo>
                    <a:pt x="8313" y="5628"/>
                  </a:lnTo>
                  <a:lnTo>
                    <a:pt x="7881" y="6049"/>
                  </a:lnTo>
                  <a:lnTo>
                    <a:pt x="7611" y="6364"/>
                  </a:lnTo>
                  <a:lnTo>
                    <a:pt x="7557" y="6469"/>
                  </a:lnTo>
                  <a:lnTo>
                    <a:pt x="7503" y="6469"/>
                  </a:lnTo>
                  <a:lnTo>
                    <a:pt x="6585" y="7311"/>
                  </a:lnTo>
                  <a:lnTo>
                    <a:pt x="5668" y="8030"/>
                  </a:lnTo>
                  <a:lnTo>
                    <a:pt x="5290" y="8345"/>
                  </a:lnTo>
                  <a:lnTo>
                    <a:pt x="4966" y="8556"/>
                  </a:lnTo>
                  <a:lnTo>
                    <a:pt x="4759" y="8766"/>
                  </a:lnTo>
                  <a:lnTo>
                    <a:pt x="4651" y="8871"/>
                  </a:lnTo>
                  <a:lnTo>
                    <a:pt x="4489" y="9187"/>
                  </a:lnTo>
                  <a:lnTo>
                    <a:pt x="4381" y="9503"/>
                  </a:lnTo>
                  <a:lnTo>
                    <a:pt x="4327" y="9818"/>
                  </a:lnTo>
                  <a:lnTo>
                    <a:pt x="4327" y="10134"/>
                  </a:lnTo>
                  <a:lnTo>
                    <a:pt x="4111" y="10344"/>
                  </a:lnTo>
                  <a:lnTo>
                    <a:pt x="3940" y="10449"/>
                  </a:lnTo>
                  <a:lnTo>
                    <a:pt x="3778" y="10765"/>
                  </a:lnTo>
                  <a:lnTo>
                    <a:pt x="3616" y="11186"/>
                  </a:lnTo>
                  <a:lnTo>
                    <a:pt x="3293" y="12238"/>
                  </a:lnTo>
                  <a:lnTo>
                    <a:pt x="3131" y="12764"/>
                  </a:lnTo>
                  <a:lnTo>
                    <a:pt x="2969" y="13290"/>
                  </a:lnTo>
                  <a:lnTo>
                    <a:pt x="2915" y="13605"/>
                  </a:lnTo>
                  <a:lnTo>
                    <a:pt x="2861" y="13710"/>
                  </a:lnTo>
                  <a:lnTo>
                    <a:pt x="2807" y="13816"/>
                  </a:lnTo>
                  <a:lnTo>
                    <a:pt x="2699" y="13921"/>
                  </a:lnTo>
                  <a:lnTo>
                    <a:pt x="2537" y="14131"/>
                  </a:lnTo>
                  <a:lnTo>
                    <a:pt x="2267" y="14447"/>
                  </a:lnTo>
                  <a:lnTo>
                    <a:pt x="1790" y="14973"/>
                  </a:lnTo>
                  <a:lnTo>
                    <a:pt x="1358" y="15499"/>
                  </a:lnTo>
                  <a:lnTo>
                    <a:pt x="756" y="16235"/>
                  </a:lnTo>
                  <a:lnTo>
                    <a:pt x="270" y="16866"/>
                  </a:lnTo>
                  <a:lnTo>
                    <a:pt x="108" y="17077"/>
                  </a:lnTo>
                  <a:lnTo>
                    <a:pt x="0" y="17392"/>
                  </a:lnTo>
                  <a:lnTo>
                    <a:pt x="0" y="17603"/>
                  </a:lnTo>
                  <a:lnTo>
                    <a:pt x="0" y="17918"/>
                  </a:lnTo>
                  <a:lnTo>
                    <a:pt x="108" y="18234"/>
                  </a:lnTo>
                  <a:lnTo>
                    <a:pt x="378" y="18339"/>
                  </a:lnTo>
                  <a:lnTo>
                    <a:pt x="756" y="18339"/>
                  </a:lnTo>
                  <a:lnTo>
                    <a:pt x="1188" y="18129"/>
                  </a:lnTo>
                  <a:lnTo>
                    <a:pt x="1736" y="17918"/>
                  </a:lnTo>
                  <a:lnTo>
                    <a:pt x="2375" y="17603"/>
                  </a:lnTo>
                  <a:lnTo>
                    <a:pt x="3023" y="17182"/>
                  </a:lnTo>
                  <a:lnTo>
                    <a:pt x="3670" y="16656"/>
                  </a:lnTo>
                  <a:lnTo>
                    <a:pt x="4273" y="16130"/>
                  </a:lnTo>
                  <a:lnTo>
                    <a:pt x="4759" y="15709"/>
                  </a:lnTo>
                  <a:lnTo>
                    <a:pt x="5074" y="15394"/>
                  </a:lnTo>
                  <a:lnTo>
                    <a:pt x="5128" y="15288"/>
                  </a:lnTo>
                  <a:lnTo>
                    <a:pt x="5182" y="15288"/>
                  </a:lnTo>
                  <a:lnTo>
                    <a:pt x="5452" y="15288"/>
                  </a:lnTo>
                  <a:lnTo>
                    <a:pt x="5830" y="15183"/>
                  </a:lnTo>
                  <a:lnTo>
                    <a:pt x="6423" y="14868"/>
                  </a:lnTo>
                  <a:lnTo>
                    <a:pt x="7134" y="14552"/>
                  </a:lnTo>
                  <a:lnTo>
                    <a:pt x="7881" y="14236"/>
                  </a:lnTo>
                  <a:lnTo>
                    <a:pt x="8690" y="13921"/>
                  </a:lnTo>
                  <a:lnTo>
                    <a:pt x="9563" y="13710"/>
                  </a:lnTo>
                  <a:lnTo>
                    <a:pt x="10364" y="13605"/>
                  </a:lnTo>
                  <a:lnTo>
                    <a:pt x="10903" y="13710"/>
                  </a:lnTo>
                  <a:lnTo>
                    <a:pt x="11551" y="14131"/>
                  </a:lnTo>
                  <a:lnTo>
                    <a:pt x="12208" y="14657"/>
                  </a:lnTo>
                  <a:lnTo>
                    <a:pt x="12739" y="15288"/>
                  </a:lnTo>
                  <a:lnTo>
                    <a:pt x="12901" y="15604"/>
                  </a:lnTo>
                  <a:lnTo>
                    <a:pt x="13063" y="15919"/>
                  </a:lnTo>
                  <a:lnTo>
                    <a:pt x="13171" y="16340"/>
                  </a:lnTo>
                  <a:lnTo>
                    <a:pt x="13171" y="16656"/>
                  </a:lnTo>
                  <a:lnTo>
                    <a:pt x="13117" y="16971"/>
                  </a:lnTo>
                  <a:lnTo>
                    <a:pt x="12955" y="17392"/>
                  </a:lnTo>
                  <a:lnTo>
                    <a:pt x="12685" y="17603"/>
                  </a:lnTo>
                  <a:lnTo>
                    <a:pt x="12316" y="17918"/>
                  </a:lnTo>
                  <a:lnTo>
                    <a:pt x="11713" y="18234"/>
                  </a:lnTo>
                  <a:lnTo>
                    <a:pt x="11227" y="18655"/>
                  </a:lnTo>
                  <a:lnTo>
                    <a:pt x="10796" y="18970"/>
                  </a:lnTo>
                  <a:lnTo>
                    <a:pt x="10418" y="19286"/>
                  </a:lnTo>
                  <a:lnTo>
                    <a:pt x="10148" y="19601"/>
                  </a:lnTo>
                  <a:lnTo>
                    <a:pt x="9986" y="19812"/>
                  </a:lnTo>
                  <a:lnTo>
                    <a:pt x="9833" y="20127"/>
                  </a:lnTo>
                  <a:lnTo>
                    <a:pt x="9725" y="20338"/>
                  </a:lnTo>
                  <a:lnTo>
                    <a:pt x="9617" y="20864"/>
                  </a:lnTo>
                  <a:lnTo>
                    <a:pt x="9671" y="21179"/>
                  </a:lnTo>
                  <a:lnTo>
                    <a:pt x="9725" y="21390"/>
                  </a:lnTo>
                  <a:lnTo>
                    <a:pt x="9779" y="21495"/>
                  </a:lnTo>
                  <a:lnTo>
                    <a:pt x="9833" y="21600"/>
                  </a:lnTo>
                  <a:lnTo>
                    <a:pt x="9986" y="21600"/>
                  </a:lnTo>
                  <a:lnTo>
                    <a:pt x="10148" y="21495"/>
                  </a:lnTo>
                  <a:lnTo>
                    <a:pt x="10364" y="21495"/>
                  </a:lnTo>
                  <a:lnTo>
                    <a:pt x="10903" y="21390"/>
                  </a:lnTo>
                  <a:lnTo>
                    <a:pt x="11443" y="21284"/>
                  </a:lnTo>
                  <a:lnTo>
                    <a:pt x="11983" y="21179"/>
                  </a:lnTo>
                  <a:lnTo>
                    <a:pt x="12532" y="20969"/>
                  </a:lnTo>
                  <a:lnTo>
                    <a:pt x="12739" y="20864"/>
                  </a:lnTo>
                  <a:lnTo>
                    <a:pt x="12901" y="20758"/>
                  </a:lnTo>
                  <a:lnTo>
                    <a:pt x="13009" y="20653"/>
                  </a:lnTo>
                  <a:lnTo>
                    <a:pt x="13063" y="20653"/>
                  </a:lnTo>
                  <a:lnTo>
                    <a:pt x="13171" y="20548"/>
                  </a:lnTo>
                  <a:lnTo>
                    <a:pt x="13386" y="20443"/>
                  </a:lnTo>
                  <a:lnTo>
                    <a:pt x="13764" y="20127"/>
                  </a:lnTo>
                  <a:lnTo>
                    <a:pt x="14196" y="19812"/>
                  </a:lnTo>
                  <a:lnTo>
                    <a:pt x="15123" y="19181"/>
                  </a:lnTo>
                  <a:lnTo>
                    <a:pt x="15492" y="18865"/>
                  </a:lnTo>
                  <a:lnTo>
                    <a:pt x="15815" y="18655"/>
                  </a:lnTo>
                  <a:lnTo>
                    <a:pt x="16301" y="18234"/>
                  </a:lnTo>
                  <a:lnTo>
                    <a:pt x="16625" y="17603"/>
                  </a:lnTo>
                  <a:lnTo>
                    <a:pt x="16841" y="16866"/>
                  </a:lnTo>
                  <a:lnTo>
                    <a:pt x="17003" y="16340"/>
                  </a:lnTo>
                  <a:lnTo>
                    <a:pt x="17381" y="15183"/>
                  </a:lnTo>
                  <a:lnTo>
                    <a:pt x="17867" y="14026"/>
                  </a:lnTo>
                  <a:lnTo>
                    <a:pt x="18406" y="12974"/>
                  </a:lnTo>
                  <a:lnTo>
                    <a:pt x="19000" y="12132"/>
                  </a:lnTo>
                  <a:lnTo>
                    <a:pt x="19486" y="11396"/>
                  </a:lnTo>
                  <a:lnTo>
                    <a:pt x="19918" y="10870"/>
                  </a:lnTo>
                  <a:lnTo>
                    <a:pt x="20188" y="10449"/>
                  </a:lnTo>
                  <a:lnTo>
                    <a:pt x="20305" y="10344"/>
                  </a:lnTo>
                  <a:lnTo>
                    <a:pt x="21591" y="9082"/>
                  </a:lnTo>
                  <a:lnTo>
                    <a:pt x="21591" y="999"/>
                  </a:lnTo>
                  <a:lnTo>
                    <a:pt x="21600" y="0"/>
                  </a:lnTo>
                  <a:lnTo>
                    <a:pt x="20781" y="53"/>
                  </a:lnTo>
                  <a:close/>
                  <a:moveTo>
                    <a:pt x="20781" y="53"/>
                  </a:moveTo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53" name="Freeform 4"/>
            <p:cNvSpPr/>
            <p:nvPr/>
          </p:nvSpPr>
          <p:spPr>
            <a:xfrm>
              <a:off x="8559720" y="3467160"/>
              <a:ext cx="4444920" cy="171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591" y="4677"/>
                  </a:moveTo>
                  <a:lnTo>
                    <a:pt x="7639" y="5669"/>
                  </a:lnTo>
                  <a:lnTo>
                    <a:pt x="7606" y="6718"/>
                  </a:lnTo>
                  <a:lnTo>
                    <a:pt x="10141" y="7313"/>
                  </a:lnTo>
                  <a:lnTo>
                    <a:pt x="10899" y="7569"/>
                  </a:lnTo>
                  <a:lnTo>
                    <a:pt x="7474" y="8249"/>
                  </a:lnTo>
                  <a:lnTo>
                    <a:pt x="6948" y="8759"/>
                  </a:lnTo>
                  <a:lnTo>
                    <a:pt x="7079" y="9524"/>
                  </a:lnTo>
                  <a:lnTo>
                    <a:pt x="7376" y="9950"/>
                  </a:lnTo>
                  <a:lnTo>
                    <a:pt x="10800" y="9439"/>
                  </a:lnTo>
                  <a:lnTo>
                    <a:pt x="11854" y="10120"/>
                  </a:lnTo>
                  <a:lnTo>
                    <a:pt x="6849" y="13946"/>
                  </a:lnTo>
                  <a:lnTo>
                    <a:pt x="6761" y="15194"/>
                  </a:lnTo>
                  <a:lnTo>
                    <a:pt x="88" y="20523"/>
                  </a:lnTo>
                  <a:lnTo>
                    <a:pt x="0" y="21430"/>
                  </a:lnTo>
                  <a:lnTo>
                    <a:pt x="296" y="21600"/>
                  </a:lnTo>
                  <a:lnTo>
                    <a:pt x="7288" y="15987"/>
                  </a:lnTo>
                  <a:lnTo>
                    <a:pt x="9395" y="17008"/>
                  </a:lnTo>
                  <a:lnTo>
                    <a:pt x="12710" y="14372"/>
                  </a:lnTo>
                  <a:lnTo>
                    <a:pt x="15739" y="13181"/>
                  </a:lnTo>
                  <a:lnTo>
                    <a:pt x="17254" y="10431"/>
                  </a:lnTo>
                  <a:lnTo>
                    <a:pt x="18790" y="9638"/>
                  </a:lnTo>
                  <a:lnTo>
                    <a:pt x="20371" y="9298"/>
                  </a:lnTo>
                  <a:lnTo>
                    <a:pt x="21600" y="9354"/>
                  </a:lnTo>
                  <a:lnTo>
                    <a:pt x="21600" y="0"/>
                  </a:lnTo>
                  <a:lnTo>
                    <a:pt x="21227" y="85"/>
                  </a:lnTo>
                  <a:lnTo>
                    <a:pt x="20107" y="142"/>
                  </a:lnTo>
                  <a:lnTo>
                    <a:pt x="18461" y="992"/>
                  </a:lnTo>
                  <a:lnTo>
                    <a:pt x="18033" y="2041"/>
                  </a:lnTo>
                  <a:lnTo>
                    <a:pt x="15278" y="3373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54" name="AutoShape 5"/>
            <p:cNvSpPr/>
            <p:nvPr/>
          </p:nvSpPr>
          <p:spPr>
            <a:xfrm>
              <a:off x="8124840" y="5591160"/>
              <a:ext cx="42084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080"/>
                  </a:lnTo>
                  <a:lnTo>
                    <a:pt x="21600" y="3240"/>
                  </a:lnTo>
                  <a:lnTo>
                    <a:pt x="21600" y="6480"/>
                  </a:lnTo>
                  <a:lnTo>
                    <a:pt x="20899" y="9720"/>
                  </a:lnTo>
                  <a:lnTo>
                    <a:pt x="18798" y="12960"/>
                  </a:lnTo>
                  <a:lnTo>
                    <a:pt x="15996" y="17280"/>
                  </a:lnTo>
                  <a:lnTo>
                    <a:pt x="11792" y="19440"/>
                  </a:lnTo>
                  <a:lnTo>
                    <a:pt x="5488" y="21600"/>
                  </a:lnTo>
                  <a:lnTo>
                    <a:pt x="3386" y="21600"/>
                  </a:lnTo>
                  <a:lnTo>
                    <a:pt x="1985" y="20520"/>
                  </a:lnTo>
                  <a:lnTo>
                    <a:pt x="0" y="17280"/>
                  </a:lnTo>
                  <a:lnTo>
                    <a:pt x="0" y="14040"/>
                  </a:lnTo>
                  <a:lnTo>
                    <a:pt x="0" y="1296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55" name="AutoShape 6"/>
            <p:cNvSpPr/>
            <p:nvPr/>
          </p:nvSpPr>
          <p:spPr>
            <a:xfrm>
              <a:off x="8531280" y="5402160"/>
              <a:ext cx="41760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080"/>
                  </a:lnTo>
                  <a:lnTo>
                    <a:pt x="20899" y="4320"/>
                  </a:lnTo>
                  <a:lnTo>
                    <a:pt x="19498" y="7560"/>
                  </a:lnTo>
                  <a:lnTo>
                    <a:pt x="17397" y="11880"/>
                  </a:lnTo>
                  <a:lnTo>
                    <a:pt x="15295" y="16200"/>
                  </a:lnTo>
                  <a:lnTo>
                    <a:pt x="11909" y="19440"/>
                  </a:lnTo>
                  <a:lnTo>
                    <a:pt x="7706" y="21600"/>
                  </a:lnTo>
                  <a:lnTo>
                    <a:pt x="2102" y="21600"/>
                  </a:lnTo>
                  <a:lnTo>
                    <a:pt x="0" y="1080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56" name="AutoShape 7"/>
            <p:cNvSpPr/>
            <p:nvPr/>
          </p:nvSpPr>
          <p:spPr>
            <a:xfrm>
              <a:off x="8666280" y="4145040"/>
              <a:ext cx="1193760" cy="62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21129"/>
                  </a:lnTo>
                  <a:lnTo>
                    <a:pt x="246" y="19715"/>
                  </a:lnTo>
                  <a:lnTo>
                    <a:pt x="246" y="18772"/>
                  </a:lnTo>
                  <a:lnTo>
                    <a:pt x="493" y="17830"/>
                  </a:lnTo>
                  <a:lnTo>
                    <a:pt x="739" y="17359"/>
                  </a:lnTo>
                  <a:lnTo>
                    <a:pt x="1478" y="16887"/>
                  </a:lnTo>
                  <a:lnTo>
                    <a:pt x="3162" y="15945"/>
                  </a:lnTo>
                  <a:lnTo>
                    <a:pt x="5626" y="14060"/>
                  </a:lnTo>
                  <a:lnTo>
                    <a:pt x="8583" y="11232"/>
                  </a:lnTo>
                  <a:lnTo>
                    <a:pt x="10307" y="9425"/>
                  </a:lnTo>
                  <a:lnTo>
                    <a:pt x="12278" y="7540"/>
                  </a:lnTo>
                  <a:lnTo>
                    <a:pt x="16179" y="3770"/>
                  </a:lnTo>
                  <a:lnTo>
                    <a:pt x="18151" y="2356"/>
                  </a:lnTo>
                  <a:lnTo>
                    <a:pt x="19629" y="943"/>
                  </a:lnTo>
                  <a:lnTo>
                    <a:pt x="20614" y="471"/>
                  </a:lnTo>
                  <a:lnTo>
                    <a:pt x="21354" y="0"/>
                  </a:lnTo>
                  <a:lnTo>
                    <a:pt x="21600" y="0"/>
                  </a:lnTo>
                  <a:lnTo>
                    <a:pt x="21354" y="471"/>
                  </a:lnTo>
                  <a:lnTo>
                    <a:pt x="20861" y="943"/>
                  </a:lnTo>
                  <a:lnTo>
                    <a:pt x="19875" y="1885"/>
                  </a:lnTo>
                  <a:lnTo>
                    <a:pt x="18890" y="3299"/>
                  </a:lnTo>
                  <a:lnTo>
                    <a:pt x="17904" y="4241"/>
                  </a:lnTo>
                  <a:lnTo>
                    <a:pt x="16179" y="6127"/>
                  </a:lnTo>
                  <a:lnTo>
                    <a:pt x="13962" y="8483"/>
                  </a:lnTo>
                  <a:lnTo>
                    <a:pt x="11293" y="11232"/>
                  </a:lnTo>
                  <a:lnTo>
                    <a:pt x="5379" y="17359"/>
                  </a:lnTo>
                  <a:lnTo>
                    <a:pt x="2669" y="19715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57" name="AutoShape 8"/>
            <p:cNvSpPr/>
            <p:nvPr/>
          </p:nvSpPr>
          <p:spPr>
            <a:xfrm>
              <a:off x="8299440" y="4548240"/>
              <a:ext cx="1627200" cy="690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44" y="15247"/>
                  </a:moveTo>
                  <a:lnTo>
                    <a:pt x="903" y="17788"/>
                  </a:lnTo>
                  <a:lnTo>
                    <a:pt x="361" y="19906"/>
                  </a:lnTo>
                  <a:lnTo>
                    <a:pt x="181" y="21176"/>
                  </a:lnTo>
                  <a:lnTo>
                    <a:pt x="0" y="21600"/>
                  </a:lnTo>
                  <a:lnTo>
                    <a:pt x="1444" y="19482"/>
                  </a:lnTo>
                  <a:lnTo>
                    <a:pt x="2527" y="17788"/>
                  </a:lnTo>
                  <a:lnTo>
                    <a:pt x="3249" y="16518"/>
                  </a:lnTo>
                  <a:lnTo>
                    <a:pt x="3610" y="16094"/>
                  </a:lnTo>
                  <a:lnTo>
                    <a:pt x="3791" y="16094"/>
                  </a:lnTo>
                  <a:lnTo>
                    <a:pt x="4332" y="15671"/>
                  </a:lnTo>
                  <a:lnTo>
                    <a:pt x="5054" y="15247"/>
                  </a:lnTo>
                  <a:lnTo>
                    <a:pt x="5957" y="14400"/>
                  </a:lnTo>
                  <a:lnTo>
                    <a:pt x="8273" y="12706"/>
                  </a:lnTo>
                  <a:lnTo>
                    <a:pt x="11161" y="11012"/>
                  </a:lnTo>
                  <a:lnTo>
                    <a:pt x="13869" y="8894"/>
                  </a:lnTo>
                  <a:lnTo>
                    <a:pt x="16365" y="7200"/>
                  </a:lnTo>
                  <a:lnTo>
                    <a:pt x="17268" y="6353"/>
                  </a:lnTo>
                  <a:lnTo>
                    <a:pt x="18170" y="5929"/>
                  </a:lnTo>
                  <a:lnTo>
                    <a:pt x="18712" y="5506"/>
                  </a:lnTo>
                  <a:lnTo>
                    <a:pt x="18892" y="5082"/>
                  </a:lnTo>
                  <a:lnTo>
                    <a:pt x="19073" y="4659"/>
                  </a:lnTo>
                  <a:lnTo>
                    <a:pt x="19614" y="4235"/>
                  </a:lnTo>
                  <a:lnTo>
                    <a:pt x="20878" y="2118"/>
                  </a:lnTo>
                  <a:lnTo>
                    <a:pt x="21419" y="1271"/>
                  </a:lnTo>
                  <a:lnTo>
                    <a:pt x="21600" y="424"/>
                  </a:lnTo>
                  <a:lnTo>
                    <a:pt x="21419" y="0"/>
                  </a:lnTo>
                  <a:lnTo>
                    <a:pt x="20697" y="0"/>
                  </a:lnTo>
                  <a:lnTo>
                    <a:pt x="18892" y="0"/>
                  </a:lnTo>
                  <a:lnTo>
                    <a:pt x="17448" y="0"/>
                  </a:lnTo>
                  <a:lnTo>
                    <a:pt x="16365" y="0"/>
                  </a:lnTo>
                  <a:lnTo>
                    <a:pt x="15463" y="1271"/>
                  </a:lnTo>
                  <a:lnTo>
                    <a:pt x="14591" y="2965"/>
                  </a:lnTo>
                  <a:lnTo>
                    <a:pt x="14049" y="3812"/>
                  </a:lnTo>
                  <a:lnTo>
                    <a:pt x="13508" y="4235"/>
                  </a:lnTo>
                  <a:lnTo>
                    <a:pt x="12786" y="4235"/>
                  </a:lnTo>
                  <a:lnTo>
                    <a:pt x="11703" y="4659"/>
                  </a:lnTo>
                  <a:lnTo>
                    <a:pt x="10439" y="5929"/>
                  </a:lnTo>
                  <a:lnTo>
                    <a:pt x="9356" y="7624"/>
                  </a:lnTo>
                  <a:lnTo>
                    <a:pt x="8634" y="8894"/>
                  </a:lnTo>
                  <a:lnTo>
                    <a:pt x="8273" y="9318"/>
                  </a:lnTo>
                  <a:lnTo>
                    <a:pt x="7731" y="9741"/>
                  </a:lnTo>
                  <a:lnTo>
                    <a:pt x="6648" y="9741"/>
                  </a:lnTo>
                  <a:lnTo>
                    <a:pt x="5596" y="9741"/>
                  </a:lnTo>
                  <a:lnTo>
                    <a:pt x="5415" y="9741"/>
                  </a:lnTo>
                  <a:lnTo>
                    <a:pt x="5235" y="9741"/>
                  </a:lnTo>
                  <a:lnTo>
                    <a:pt x="3430" y="11435"/>
                  </a:lnTo>
                  <a:lnTo>
                    <a:pt x="1444" y="15247"/>
                  </a:lnTo>
                  <a:close/>
                  <a:moveTo>
                    <a:pt x="1444" y="15247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58" name="AutoShape 9"/>
            <p:cNvSpPr/>
            <p:nvPr/>
          </p:nvSpPr>
          <p:spPr>
            <a:xfrm>
              <a:off x="7580160" y="4267440"/>
              <a:ext cx="5423040" cy="198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87" y="883"/>
                  </a:moveTo>
                  <a:lnTo>
                    <a:pt x="20462" y="1177"/>
                  </a:lnTo>
                  <a:lnTo>
                    <a:pt x="20146" y="1324"/>
                  </a:lnTo>
                  <a:lnTo>
                    <a:pt x="19875" y="1324"/>
                  </a:lnTo>
                  <a:lnTo>
                    <a:pt x="19821" y="1324"/>
                  </a:lnTo>
                  <a:lnTo>
                    <a:pt x="19767" y="1324"/>
                  </a:lnTo>
                  <a:lnTo>
                    <a:pt x="19659" y="1471"/>
                  </a:lnTo>
                  <a:lnTo>
                    <a:pt x="19388" y="1618"/>
                  </a:lnTo>
                  <a:lnTo>
                    <a:pt x="19008" y="1912"/>
                  </a:lnTo>
                  <a:lnTo>
                    <a:pt x="18575" y="2182"/>
                  </a:lnTo>
                  <a:lnTo>
                    <a:pt x="18250" y="2476"/>
                  </a:lnTo>
                  <a:lnTo>
                    <a:pt x="18033" y="2623"/>
                  </a:lnTo>
                  <a:lnTo>
                    <a:pt x="17816" y="2770"/>
                  </a:lnTo>
                  <a:lnTo>
                    <a:pt x="17663" y="2918"/>
                  </a:lnTo>
                  <a:lnTo>
                    <a:pt x="17392" y="3212"/>
                  </a:lnTo>
                  <a:lnTo>
                    <a:pt x="17121" y="3359"/>
                  </a:lnTo>
                  <a:lnTo>
                    <a:pt x="16796" y="4094"/>
                  </a:lnTo>
                  <a:lnTo>
                    <a:pt x="16633" y="4683"/>
                  </a:lnTo>
                  <a:lnTo>
                    <a:pt x="16579" y="5418"/>
                  </a:lnTo>
                  <a:lnTo>
                    <a:pt x="16579" y="6007"/>
                  </a:lnTo>
                  <a:lnTo>
                    <a:pt x="16633" y="6595"/>
                  </a:lnTo>
                  <a:lnTo>
                    <a:pt x="16633" y="7184"/>
                  </a:lnTo>
                  <a:lnTo>
                    <a:pt x="16633" y="7478"/>
                  </a:lnTo>
                  <a:lnTo>
                    <a:pt x="16471" y="7919"/>
                  </a:lnTo>
                  <a:lnTo>
                    <a:pt x="16200" y="8066"/>
                  </a:lnTo>
                  <a:lnTo>
                    <a:pt x="15875" y="7772"/>
                  </a:lnTo>
                  <a:lnTo>
                    <a:pt x="15496" y="7331"/>
                  </a:lnTo>
                  <a:lnTo>
                    <a:pt x="14963" y="6742"/>
                  </a:lnTo>
                  <a:lnTo>
                    <a:pt x="14421" y="6448"/>
                  </a:lnTo>
                  <a:lnTo>
                    <a:pt x="13933" y="6301"/>
                  </a:lnTo>
                  <a:lnTo>
                    <a:pt x="13717" y="6301"/>
                  </a:lnTo>
                  <a:lnTo>
                    <a:pt x="13608" y="6301"/>
                  </a:lnTo>
                  <a:lnTo>
                    <a:pt x="13446" y="6448"/>
                  </a:lnTo>
                  <a:lnTo>
                    <a:pt x="13175" y="6742"/>
                  </a:lnTo>
                  <a:lnTo>
                    <a:pt x="12633" y="7625"/>
                  </a:lnTo>
                  <a:lnTo>
                    <a:pt x="12425" y="8066"/>
                  </a:lnTo>
                  <a:lnTo>
                    <a:pt x="12209" y="8361"/>
                  </a:lnTo>
                  <a:lnTo>
                    <a:pt x="12046" y="8655"/>
                  </a:lnTo>
                  <a:lnTo>
                    <a:pt x="11992" y="8802"/>
                  </a:lnTo>
                  <a:lnTo>
                    <a:pt x="11938" y="8802"/>
                  </a:lnTo>
                  <a:lnTo>
                    <a:pt x="11829" y="8802"/>
                  </a:lnTo>
                  <a:lnTo>
                    <a:pt x="11613" y="8949"/>
                  </a:lnTo>
                  <a:lnTo>
                    <a:pt x="11396" y="8949"/>
                  </a:lnTo>
                  <a:lnTo>
                    <a:pt x="10963" y="9096"/>
                  </a:lnTo>
                  <a:lnTo>
                    <a:pt x="10800" y="9096"/>
                  </a:lnTo>
                  <a:lnTo>
                    <a:pt x="10637" y="8949"/>
                  </a:lnTo>
                  <a:lnTo>
                    <a:pt x="10475" y="8949"/>
                  </a:lnTo>
                  <a:lnTo>
                    <a:pt x="10204" y="8949"/>
                  </a:lnTo>
                  <a:lnTo>
                    <a:pt x="9888" y="8949"/>
                  </a:lnTo>
                  <a:lnTo>
                    <a:pt x="9509" y="9096"/>
                  </a:lnTo>
                  <a:lnTo>
                    <a:pt x="9184" y="9243"/>
                  </a:lnTo>
                  <a:lnTo>
                    <a:pt x="8859" y="9243"/>
                  </a:lnTo>
                  <a:lnTo>
                    <a:pt x="8642" y="9390"/>
                  </a:lnTo>
                  <a:lnTo>
                    <a:pt x="8533" y="9537"/>
                  </a:lnTo>
                  <a:lnTo>
                    <a:pt x="8479" y="9684"/>
                  </a:lnTo>
                  <a:lnTo>
                    <a:pt x="8317" y="9832"/>
                  </a:lnTo>
                  <a:lnTo>
                    <a:pt x="7937" y="9979"/>
                  </a:lnTo>
                  <a:lnTo>
                    <a:pt x="7558" y="10273"/>
                  </a:lnTo>
                  <a:lnTo>
                    <a:pt x="7396" y="10273"/>
                  </a:lnTo>
                  <a:lnTo>
                    <a:pt x="7296" y="10273"/>
                  </a:lnTo>
                  <a:lnTo>
                    <a:pt x="7188" y="10273"/>
                  </a:lnTo>
                  <a:lnTo>
                    <a:pt x="7025" y="10273"/>
                  </a:lnTo>
                  <a:lnTo>
                    <a:pt x="6809" y="10273"/>
                  </a:lnTo>
                  <a:lnTo>
                    <a:pt x="6538" y="10420"/>
                  </a:lnTo>
                  <a:lnTo>
                    <a:pt x="5996" y="10714"/>
                  </a:lnTo>
                  <a:lnTo>
                    <a:pt x="5779" y="11008"/>
                  </a:lnTo>
                  <a:lnTo>
                    <a:pt x="5563" y="11303"/>
                  </a:lnTo>
                  <a:lnTo>
                    <a:pt x="5400" y="11597"/>
                  </a:lnTo>
                  <a:lnTo>
                    <a:pt x="5237" y="11597"/>
                  </a:lnTo>
                  <a:lnTo>
                    <a:pt x="4858" y="11597"/>
                  </a:lnTo>
                  <a:lnTo>
                    <a:pt x="4542" y="11450"/>
                  </a:lnTo>
                  <a:lnTo>
                    <a:pt x="4163" y="11597"/>
                  </a:lnTo>
                  <a:lnTo>
                    <a:pt x="4000" y="11744"/>
                  </a:lnTo>
                  <a:lnTo>
                    <a:pt x="3892" y="12038"/>
                  </a:lnTo>
                  <a:lnTo>
                    <a:pt x="3838" y="12479"/>
                  </a:lnTo>
                  <a:lnTo>
                    <a:pt x="3784" y="13068"/>
                  </a:lnTo>
                  <a:lnTo>
                    <a:pt x="3729" y="13215"/>
                  </a:lnTo>
                  <a:lnTo>
                    <a:pt x="3675" y="13362"/>
                  </a:lnTo>
                  <a:lnTo>
                    <a:pt x="3513" y="13509"/>
                  </a:lnTo>
                  <a:lnTo>
                    <a:pt x="3133" y="13951"/>
                  </a:lnTo>
                  <a:lnTo>
                    <a:pt x="2700" y="14392"/>
                  </a:lnTo>
                  <a:lnTo>
                    <a:pt x="2321" y="14539"/>
                  </a:lnTo>
                  <a:lnTo>
                    <a:pt x="2005" y="14686"/>
                  </a:lnTo>
                  <a:lnTo>
                    <a:pt x="1625" y="15127"/>
                  </a:lnTo>
                  <a:lnTo>
                    <a:pt x="1355" y="15716"/>
                  </a:lnTo>
                  <a:lnTo>
                    <a:pt x="1246" y="15863"/>
                  </a:lnTo>
                  <a:lnTo>
                    <a:pt x="1192" y="16010"/>
                  </a:lnTo>
                  <a:lnTo>
                    <a:pt x="1138" y="16157"/>
                  </a:lnTo>
                  <a:lnTo>
                    <a:pt x="975" y="16157"/>
                  </a:lnTo>
                  <a:lnTo>
                    <a:pt x="867" y="16010"/>
                  </a:lnTo>
                  <a:lnTo>
                    <a:pt x="813" y="16010"/>
                  </a:lnTo>
                  <a:lnTo>
                    <a:pt x="0" y="16451"/>
                  </a:lnTo>
                  <a:lnTo>
                    <a:pt x="108" y="16893"/>
                  </a:lnTo>
                  <a:lnTo>
                    <a:pt x="379" y="17040"/>
                  </a:lnTo>
                  <a:lnTo>
                    <a:pt x="759" y="17040"/>
                  </a:lnTo>
                  <a:lnTo>
                    <a:pt x="1192" y="16746"/>
                  </a:lnTo>
                  <a:lnTo>
                    <a:pt x="1734" y="16451"/>
                  </a:lnTo>
                  <a:lnTo>
                    <a:pt x="2375" y="16010"/>
                  </a:lnTo>
                  <a:lnTo>
                    <a:pt x="3025" y="15422"/>
                  </a:lnTo>
                  <a:lnTo>
                    <a:pt x="3675" y="14686"/>
                  </a:lnTo>
                  <a:lnTo>
                    <a:pt x="4271" y="13951"/>
                  </a:lnTo>
                  <a:lnTo>
                    <a:pt x="4759" y="13362"/>
                  </a:lnTo>
                  <a:lnTo>
                    <a:pt x="5075" y="12921"/>
                  </a:lnTo>
                  <a:lnTo>
                    <a:pt x="5129" y="12774"/>
                  </a:lnTo>
                  <a:lnTo>
                    <a:pt x="5183" y="12774"/>
                  </a:lnTo>
                  <a:lnTo>
                    <a:pt x="5454" y="12774"/>
                  </a:lnTo>
                  <a:lnTo>
                    <a:pt x="5833" y="12627"/>
                  </a:lnTo>
                  <a:lnTo>
                    <a:pt x="6429" y="12185"/>
                  </a:lnTo>
                  <a:lnTo>
                    <a:pt x="7134" y="11744"/>
                  </a:lnTo>
                  <a:lnTo>
                    <a:pt x="7883" y="11303"/>
                  </a:lnTo>
                  <a:lnTo>
                    <a:pt x="8696" y="10861"/>
                  </a:lnTo>
                  <a:lnTo>
                    <a:pt x="9563" y="10567"/>
                  </a:lnTo>
                  <a:lnTo>
                    <a:pt x="10367" y="10420"/>
                  </a:lnTo>
                  <a:lnTo>
                    <a:pt x="10637" y="10420"/>
                  </a:lnTo>
                  <a:lnTo>
                    <a:pt x="10963" y="10714"/>
                  </a:lnTo>
                  <a:lnTo>
                    <a:pt x="11667" y="11303"/>
                  </a:lnTo>
                  <a:lnTo>
                    <a:pt x="12100" y="11744"/>
                  </a:lnTo>
                  <a:lnTo>
                    <a:pt x="12480" y="12332"/>
                  </a:lnTo>
                  <a:lnTo>
                    <a:pt x="12796" y="13068"/>
                  </a:lnTo>
                  <a:lnTo>
                    <a:pt x="13012" y="13803"/>
                  </a:lnTo>
                  <a:lnTo>
                    <a:pt x="13067" y="14392"/>
                  </a:lnTo>
                  <a:lnTo>
                    <a:pt x="12958" y="15127"/>
                  </a:lnTo>
                  <a:lnTo>
                    <a:pt x="12850" y="15422"/>
                  </a:lnTo>
                  <a:lnTo>
                    <a:pt x="12687" y="15716"/>
                  </a:lnTo>
                  <a:lnTo>
                    <a:pt x="12425" y="16010"/>
                  </a:lnTo>
                  <a:lnTo>
                    <a:pt x="12155" y="16304"/>
                  </a:lnTo>
                  <a:lnTo>
                    <a:pt x="11559" y="16746"/>
                  </a:lnTo>
                  <a:lnTo>
                    <a:pt x="11071" y="17187"/>
                  </a:lnTo>
                  <a:lnTo>
                    <a:pt x="10637" y="17628"/>
                  </a:lnTo>
                  <a:lnTo>
                    <a:pt x="10312" y="18217"/>
                  </a:lnTo>
                  <a:lnTo>
                    <a:pt x="10041" y="18511"/>
                  </a:lnTo>
                  <a:lnTo>
                    <a:pt x="9834" y="18952"/>
                  </a:lnTo>
                  <a:lnTo>
                    <a:pt x="9725" y="19393"/>
                  </a:lnTo>
                  <a:lnTo>
                    <a:pt x="9617" y="19835"/>
                  </a:lnTo>
                  <a:lnTo>
                    <a:pt x="9563" y="20423"/>
                  </a:lnTo>
                  <a:lnTo>
                    <a:pt x="9617" y="21012"/>
                  </a:lnTo>
                  <a:lnTo>
                    <a:pt x="9725" y="21306"/>
                  </a:lnTo>
                  <a:lnTo>
                    <a:pt x="9780" y="21453"/>
                  </a:lnTo>
                  <a:lnTo>
                    <a:pt x="9834" y="21600"/>
                  </a:lnTo>
                  <a:lnTo>
                    <a:pt x="9987" y="21600"/>
                  </a:lnTo>
                  <a:lnTo>
                    <a:pt x="10150" y="21453"/>
                  </a:lnTo>
                  <a:lnTo>
                    <a:pt x="10367" y="21453"/>
                  </a:lnTo>
                  <a:lnTo>
                    <a:pt x="10908" y="21306"/>
                  </a:lnTo>
                  <a:lnTo>
                    <a:pt x="11450" y="21159"/>
                  </a:lnTo>
                  <a:lnTo>
                    <a:pt x="11992" y="21159"/>
                  </a:lnTo>
                  <a:lnTo>
                    <a:pt x="12534" y="21012"/>
                  </a:lnTo>
                  <a:lnTo>
                    <a:pt x="12741" y="21012"/>
                  </a:lnTo>
                  <a:lnTo>
                    <a:pt x="12904" y="20864"/>
                  </a:lnTo>
                  <a:lnTo>
                    <a:pt x="13012" y="20864"/>
                  </a:lnTo>
                  <a:lnTo>
                    <a:pt x="13067" y="20864"/>
                  </a:lnTo>
                  <a:lnTo>
                    <a:pt x="13175" y="20717"/>
                  </a:lnTo>
                  <a:lnTo>
                    <a:pt x="13392" y="20423"/>
                  </a:lnTo>
                  <a:lnTo>
                    <a:pt x="13771" y="19982"/>
                  </a:lnTo>
                  <a:lnTo>
                    <a:pt x="14204" y="19393"/>
                  </a:lnTo>
                  <a:lnTo>
                    <a:pt x="15125" y="18217"/>
                  </a:lnTo>
                  <a:lnTo>
                    <a:pt x="15496" y="17775"/>
                  </a:lnTo>
                  <a:lnTo>
                    <a:pt x="15821" y="17481"/>
                  </a:lnTo>
                  <a:lnTo>
                    <a:pt x="16308" y="16893"/>
                  </a:lnTo>
                  <a:lnTo>
                    <a:pt x="16633" y="16010"/>
                  </a:lnTo>
                  <a:lnTo>
                    <a:pt x="16850" y="14980"/>
                  </a:lnTo>
                  <a:lnTo>
                    <a:pt x="17013" y="14245"/>
                  </a:lnTo>
                  <a:lnTo>
                    <a:pt x="17392" y="12627"/>
                  </a:lnTo>
                  <a:lnTo>
                    <a:pt x="17871" y="11008"/>
                  </a:lnTo>
                  <a:lnTo>
                    <a:pt x="18412" y="9537"/>
                  </a:lnTo>
                  <a:lnTo>
                    <a:pt x="19008" y="8361"/>
                  </a:lnTo>
                  <a:lnTo>
                    <a:pt x="19496" y="7331"/>
                  </a:lnTo>
                  <a:lnTo>
                    <a:pt x="19929" y="6595"/>
                  </a:lnTo>
                  <a:lnTo>
                    <a:pt x="20200" y="6007"/>
                  </a:lnTo>
                  <a:lnTo>
                    <a:pt x="20309" y="5860"/>
                  </a:lnTo>
                  <a:lnTo>
                    <a:pt x="21600" y="4094"/>
                  </a:lnTo>
                  <a:lnTo>
                    <a:pt x="21600" y="1471"/>
                  </a:lnTo>
                  <a:lnTo>
                    <a:pt x="21600" y="0"/>
                  </a:lnTo>
                  <a:lnTo>
                    <a:pt x="21167" y="441"/>
                  </a:lnTo>
                  <a:lnTo>
                    <a:pt x="20787" y="883"/>
                  </a:lnTo>
                  <a:close/>
                  <a:moveTo>
                    <a:pt x="20787" y="883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59" name="AutoShape 10"/>
            <p:cNvSpPr/>
            <p:nvPr/>
          </p:nvSpPr>
          <p:spPr>
            <a:xfrm>
              <a:off x="8666280" y="4184640"/>
              <a:ext cx="1303200" cy="58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8" y="20591"/>
                  </a:moveTo>
                  <a:lnTo>
                    <a:pt x="707" y="21096"/>
                  </a:lnTo>
                  <a:lnTo>
                    <a:pt x="236" y="21600"/>
                  </a:lnTo>
                  <a:lnTo>
                    <a:pt x="0" y="21600"/>
                  </a:lnTo>
                  <a:lnTo>
                    <a:pt x="11978" y="9497"/>
                  </a:lnTo>
                  <a:lnTo>
                    <a:pt x="20422" y="0"/>
                  </a:lnTo>
                  <a:lnTo>
                    <a:pt x="20657" y="504"/>
                  </a:lnTo>
                  <a:lnTo>
                    <a:pt x="21364" y="1513"/>
                  </a:lnTo>
                  <a:lnTo>
                    <a:pt x="21600" y="2017"/>
                  </a:lnTo>
                  <a:lnTo>
                    <a:pt x="21600" y="3026"/>
                  </a:lnTo>
                  <a:lnTo>
                    <a:pt x="21364" y="3530"/>
                  </a:lnTo>
                  <a:lnTo>
                    <a:pt x="20657" y="4539"/>
                  </a:lnTo>
                  <a:lnTo>
                    <a:pt x="20186" y="5043"/>
                  </a:lnTo>
                  <a:lnTo>
                    <a:pt x="19715" y="5547"/>
                  </a:lnTo>
                  <a:lnTo>
                    <a:pt x="17594" y="7060"/>
                  </a:lnTo>
                  <a:lnTo>
                    <a:pt x="15002" y="9497"/>
                  </a:lnTo>
                  <a:lnTo>
                    <a:pt x="11978" y="12019"/>
                  </a:lnTo>
                  <a:lnTo>
                    <a:pt x="8915" y="14540"/>
                  </a:lnTo>
                  <a:lnTo>
                    <a:pt x="5852" y="17061"/>
                  </a:lnTo>
                  <a:lnTo>
                    <a:pt x="3260" y="19079"/>
                  </a:lnTo>
                  <a:lnTo>
                    <a:pt x="1178" y="20591"/>
                  </a:lnTo>
                  <a:close/>
                  <a:moveTo>
                    <a:pt x="1178" y="20591"/>
                  </a:move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60" name="Freeform 11"/>
            <p:cNvSpPr/>
            <p:nvPr/>
          </p:nvSpPr>
          <p:spPr>
            <a:xfrm>
              <a:off x="8666280" y="3898800"/>
              <a:ext cx="1617480" cy="86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880" y="338"/>
                  </a:moveTo>
                  <a:lnTo>
                    <a:pt x="17739" y="2369"/>
                  </a:lnTo>
                  <a:lnTo>
                    <a:pt x="15536" y="4737"/>
                  </a:lnTo>
                  <a:lnTo>
                    <a:pt x="15355" y="5076"/>
                  </a:lnTo>
                  <a:lnTo>
                    <a:pt x="14631" y="5752"/>
                  </a:lnTo>
                  <a:lnTo>
                    <a:pt x="13726" y="6768"/>
                  </a:lnTo>
                  <a:lnTo>
                    <a:pt x="12821" y="7783"/>
                  </a:lnTo>
                  <a:lnTo>
                    <a:pt x="11192" y="9475"/>
                  </a:lnTo>
                  <a:lnTo>
                    <a:pt x="9231" y="11167"/>
                  </a:lnTo>
                  <a:lnTo>
                    <a:pt x="5611" y="14156"/>
                  </a:lnTo>
                  <a:lnTo>
                    <a:pt x="3952" y="15171"/>
                  </a:lnTo>
                  <a:lnTo>
                    <a:pt x="2685" y="16186"/>
                  </a:lnTo>
                  <a:lnTo>
                    <a:pt x="1599" y="17201"/>
                  </a:lnTo>
                  <a:lnTo>
                    <a:pt x="1086" y="17539"/>
                  </a:lnTo>
                  <a:lnTo>
                    <a:pt x="362" y="18555"/>
                  </a:lnTo>
                  <a:lnTo>
                    <a:pt x="0" y="19908"/>
                  </a:lnTo>
                  <a:lnTo>
                    <a:pt x="0" y="20923"/>
                  </a:lnTo>
                  <a:lnTo>
                    <a:pt x="0" y="21600"/>
                  </a:lnTo>
                  <a:lnTo>
                    <a:pt x="362" y="20923"/>
                  </a:lnTo>
                  <a:lnTo>
                    <a:pt x="905" y="19908"/>
                  </a:lnTo>
                  <a:lnTo>
                    <a:pt x="1599" y="18893"/>
                  </a:lnTo>
                  <a:lnTo>
                    <a:pt x="2323" y="17878"/>
                  </a:lnTo>
                  <a:lnTo>
                    <a:pt x="3047" y="17539"/>
                  </a:lnTo>
                  <a:lnTo>
                    <a:pt x="3952" y="16863"/>
                  </a:lnTo>
                  <a:lnTo>
                    <a:pt x="6154" y="15171"/>
                  </a:lnTo>
                  <a:lnTo>
                    <a:pt x="7240" y="14156"/>
                  </a:lnTo>
                  <a:lnTo>
                    <a:pt x="8145" y="13479"/>
                  </a:lnTo>
                  <a:lnTo>
                    <a:pt x="8869" y="12858"/>
                  </a:lnTo>
                  <a:lnTo>
                    <a:pt x="9412" y="12520"/>
                  </a:lnTo>
                  <a:lnTo>
                    <a:pt x="9955" y="11843"/>
                  </a:lnTo>
                  <a:lnTo>
                    <a:pt x="11011" y="10490"/>
                  </a:lnTo>
                  <a:lnTo>
                    <a:pt x="12640" y="8798"/>
                  </a:lnTo>
                  <a:lnTo>
                    <a:pt x="14269" y="6768"/>
                  </a:lnTo>
                  <a:lnTo>
                    <a:pt x="15898" y="5076"/>
                  </a:lnTo>
                  <a:lnTo>
                    <a:pt x="17377" y="3384"/>
                  </a:lnTo>
                  <a:lnTo>
                    <a:pt x="18463" y="2369"/>
                  </a:lnTo>
                  <a:lnTo>
                    <a:pt x="18975" y="2030"/>
                  </a:lnTo>
                  <a:lnTo>
                    <a:pt x="19518" y="1692"/>
                  </a:lnTo>
                  <a:lnTo>
                    <a:pt x="20423" y="1015"/>
                  </a:lnTo>
                  <a:lnTo>
                    <a:pt x="21147" y="338"/>
                  </a:lnTo>
                  <a:lnTo>
                    <a:pt x="21509" y="0"/>
                  </a:lnTo>
                  <a:lnTo>
                    <a:pt x="19880" y="338"/>
                  </a:lnTo>
                  <a:lnTo>
                    <a:pt x="21600" y="355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61" name="Freeform 12"/>
            <p:cNvSpPr/>
            <p:nvPr/>
          </p:nvSpPr>
          <p:spPr>
            <a:xfrm>
              <a:off x="7794720" y="5126040"/>
              <a:ext cx="718920" cy="5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8" y="21600"/>
                  </a:moveTo>
                  <a:lnTo>
                    <a:pt x="0" y="18720"/>
                  </a:lnTo>
                  <a:lnTo>
                    <a:pt x="21396" y="0"/>
                  </a:lnTo>
                  <a:lnTo>
                    <a:pt x="20581" y="2592"/>
                  </a:lnTo>
                  <a:lnTo>
                    <a:pt x="21600" y="403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62" name="AutoShape 13"/>
            <p:cNvSpPr/>
            <p:nvPr/>
          </p:nvSpPr>
          <p:spPr>
            <a:xfrm>
              <a:off x="0" y="6000840"/>
              <a:ext cx="5857920" cy="2106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166" y="15627"/>
                  </a:moveTo>
                  <a:lnTo>
                    <a:pt x="8740" y="15210"/>
                  </a:lnTo>
                  <a:lnTo>
                    <a:pt x="9514" y="15071"/>
                  </a:lnTo>
                  <a:lnTo>
                    <a:pt x="13160" y="15974"/>
                  </a:lnTo>
                  <a:lnTo>
                    <a:pt x="13509" y="17086"/>
                  </a:lnTo>
                  <a:lnTo>
                    <a:pt x="13909" y="16738"/>
                  </a:lnTo>
                  <a:lnTo>
                    <a:pt x="13784" y="15627"/>
                  </a:lnTo>
                  <a:lnTo>
                    <a:pt x="9789" y="14377"/>
                  </a:lnTo>
                  <a:lnTo>
                    <a:pt x="14958" y="12363"/>
                  </a:lnTo>
                  <a:lnTo>
                    <a:pt x="15432" y="13127"/>
                  </a:lnTo>
                  <a:lnTo>
                    <a:pt x="15657" y="13543"/>
                  </a:lnTo>
                  <a:lnTo>
                    <a:pt x="15557" y="14168"/>
                  </a:lnTo>
                  <a:lnTo>
                    <a:pt x="16606" y="19725"/>
                  </a:lnTo>
                  <a:lnTo>
                    <a:pt x="17505" y="19933"/>
                  </a:lnTo>
                  <a:lnTo>
                    <a:pt x="15723" y="12455"/>
                  </a:lnTo>
                  <a:lnTo>
                    <a:pt x="15674" y="12039"/>
                  </a:lnTo>
                  <a:lnTo>
                    <a:pt x="15582" y="11761"/>
                  </a:lnTo>
                  <a:lnTo>
                    <a:pt x="15332" y="11344"/>
                  </a:lnTo>
                  <a:lnTo>
                    <a:pt x="15033" y="11066"/>
                  </a:lnTo>
                  <a:lnTo>
                    <a:pt x="14733" y="10788"/>
                  </a:lnTo>
                  <a:lnTo>
                    <a:pt x="14583" y="10511"/>
                  </a:lnTo>
                  <a:lnTo>
                    <a:pt x="14483" y="10372"/>
                  </a:lnTo>
                  <a:lnTo>
                    <a:pt x="14533" y="10094"/>
                  </a:lnTo>
                  <a:lnTo>
                    <a:pt x="14633" y="10094"/>
                  </a:lnTo>
                  <a:lnTo>
                    <a:pt x="14833" y="9955"/>
                  </a:lnTo>
                  <a:lnTo>
                    <a:pt x="15232" y="9955"/>
                  </a:lnTo>
                  <a:lnTo>
                    <a:pt x="15432" y="9955"/>
                  </a:lnTo>
                  <a:lnTo>
                    <a:pt x="15624" y="9816"/>
                  </a:lnTo>
                  <a:lnTo>
                    <a:pt x="16023" y="9260"/>
                  </a:lnTo>
                  <a:lnTo>
                    <a:pt x="16273" y="9122"/>
                  </a:lnTo>
                  <a:lnTo>
                    <a:pt x="16473" y="9122"/>
                  </a:lnTo>
                  <a:lnTo>
                    <a:pt x="17080" y="9168"/>
                  </a:lnTo>
                  <a:lnTo>
                    <a:pt x="17030" y="10557"/>
                  </a:lnTo>
                  <a:lnTo>
                    <a:pt x="18753" y="16947"/>
                  </a:lnTo>
                  <a:lnTo>
                    <a:pt x="19428" y="18891"/>
                  </a:lnTo>
                  <a:lnTo>
                    <a:pt x="20102" y="21600"/>
                  </a:lnTo>
                  <a:lnTo>
                    <a:pt x="20227" y="21044"/>
                  </a:lnTo>
                  <a:lnTo>
                    <a:pt x="19952" y="19169"/>
                  </a:lnTo>
                  <a:lnTo>
                    <a:pt x="17430" y="9538"/>
                  </a:lnTo>
                  <a:lnTo>
                    <a:pt x="17380" y="9260"/>
                  </a:lnTo>
                  <a:lnTo>
                    <a:pt x="17280" y="8705"/>
                  </a:lnTo>
                  <a:lnTo>
                    <a:pt x="17030" y="8010"/>
                  </a:lnTo>
                  <a:lnTo>
                    <a:pt x="16772" y="7455"/>
                  </a:lnTo>
                  <a:lnTo>
                    <a:pt x="16622" y="7038"/>
                  </a:lnTo>
                  <a:lnTo>
                    <a:pt x="16473" y="6760"/>
                  </a:lnTo>
                  <a:lnTo>
                    <a:pt x="16373" y="6621"/>
                  </a:lnTo>
                  <a:lnTo>
                    <a:pt x="16423" y="6621"/>
                  </a:lnTo>
                  <a:lnTo>
                    <a:pt x="16523" y="6621"/>
                  </a:lnTo>
                  <a:lnTo>
                    <a:pt x="16722" y="6621"/>
                  </a:lnTo>
                  <a:lnTo>
                    <a:pt x="16980" y="6899"/>
                  </a:lnTo>
                  <a:lnTo>
                    <a:pt x="17330" y="7455"/>
                  </a:lnTo>
                  <a:lnTo>
                    <a:pt x="17680" y="8057"/>
                  </a:lnTo>
                  <a:lnTo>
                    <a:pt x="18304" y="8890"/>
                  </a:lnTo>
                  <a:lnTo>
                    <a:pt x="19353" y="9862"/>
                  </a:lnTo>
                  <a:lnTo>
                    <a:pt x="19927" y="10372"/>
                  </a:lnTo>
                  <a:lnTo>
                    <a:pt x="21001" y="12085"/>
                  </a:lnTo>
                  <a:lnTo>
                    <a:pt x="21600" y="11946"/>
                  </a:lnTo>
                  <a:lnTo>
                    <a:pt x="20326" y="10511"/>
                  </a:lnTo>
                  <a:lnTo>
                    <a:pt x="19877" y="9816"/>
                  </a:lnTo>
                  <a:lnTo>
                    <a:pt x="19369" y="8983"/>
                  </a:lnTo>
                  <a:lnTo>
                    <a:pt x="18470" y="7871"/>
                  </a:lnTo>
                  <a:lnTo>
                    <a:pt x="17530" y="6760"/>
                  </a:lnTo>
                  <a:lnTo>
                    <a:pt x="17080" y="6482"/>
                  </a:lnTo>
                  <a:lnTo>
                    <a:pt x="16672" y="6205"/>
                  </a:lnTo>
                  <a:lnTo>
                    <a:pt x="16273" y="6066"/>
                  </a:lnTo>
                  <a:lnTo>
                    <a:pt x="15973" y="6205"/>
                  </a:lnTo>
                  <a:lnTo>
                    <a:pt x="15624" y="6343"/>
                  </a:lnTo>
                  <a:lnTo>
                    <a:pt x="15083" y="6343"/>
                  </a:lnTo>
                  <a:lnTo>
                    <a:pt x="14583" y="6343"/>
                  </a:lnTo>
                  <a:lnTo>
                    <a:pt x="14175" y="6621"/>
                  </a:lnTo>
                  <a:lnTo>
                    <a:pt x="13826" y="6760"/>
                  </a:lnTo>
                  <a:lnTo>
                    <a:pt x="13576" y="7038"/>
                  </a:lnTo>
                  <a:lnTo>
                    <a:pt x="13376" y="7316"/>
                  </a:lnTo>
                  <a:lnTo>
                    <a:pt x="13276" y="7455"/>
                  </a:lnTo>
                  <a:lnTo>
                    <a:pt x="13226" y="7455"/>
                  </a:lnTo>
                  <a:lnTo>
                    <a:pt x="12486" y="7732"/>
                  </a:lnTo>
                  <a:lnTo>
                    <a:pt x="11728" y="8288"/>
                  </a:lnTo>
                  <a:lnTo>
                    <a:pt x="10288" y="9677"/>
                  </a:lnTo>
                  <a:lnTo>
                    <a:pt x="9589" y="10233"/>
                  </a:lnTo>
                  <a:lnTo>
                    <a:pt x="8831" y="10650"/>
                  </a:lnTo>
                  <a:lnTo>
                    <a:pt x="8041" y="10650"/>
                  </a:lnTo>
                  <a:lnTo>
                    <a:pt x="7641" y="10511"/>
                  </a:lnTo>
                  <a:lnTo>
                    <a:pt x="7242" y="10233"/>
                  </a:lnTo>
                  <a:lnTo>
                    <a:pt x="7142" y="10094"/>
                  </a:lnTo>
                  <a:lnTo>
                    <a:pt x="6892" y="9955"/>
                  </a:lnTo>
                  <a:lnTo>
                    <a:pt x="6584" y="9538"/>
                  </a:lnTo>
                  <a:lnTo>
                    <a:pt x="6185" y="8983"/>
                  </a:lnTo>
                  <a:lnTo>
                    <a:pt x="5743" y="8427"/>
                  </a:lnTo>
                  <a:lnTo>
                    <a:pt x="5294" y="7732"/>
                  </a:lnTo>
                  <a:lnTo>
                    <a:pt x="4287" y="6482"/>
                  </a:lnTo>
                  <a:lnTo>
                    <a:pt x="3887" y="5927"/>
                  </a:lnTo>
                  <a:lnTo>
                    <a:pt x="3687" y="5649"/>
                  </a:lnTo>
                  <a:lnTo>
                    <a:pt x="0" y="0"/>
                  </a:lnTo>
                  <a:lnTo>
                    <a:pt x="1024" y="2778"/>
                  </a:lnTo>
                  <a:lnTo>
                    <a:pt x="4869" y="9029"/>
                  </a:lnTo>
                  <a:lnTo>
                    <a:pt x="5893" y="10696"/>
                  </a:lnTo>
                  <a:lnTo>
                    <a:pt x="7067" y="12571"/>
                  </a:lnTo>
                  <a:lnTo>
                    <a:pt x="7342" y="13057"/>
                  </a:lnTo>
                  <a:lnTo>
                    <a:pt x="7466" y="14377"/>
                  </a:lnTo>
                  <a:lnTo>
                    <a:pt x="8166" y="15627"/>
                  </a:lnTo>
                  <a:close/>
                  <a:moveTo>
                    <a:pt x="8166" y="15627"/>
                  </a:move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263" name="AutoShape 14"/>
            <p:cNvSpPr/>
            <p:nvPr/>
          </p:nvSpPr>
          <p:spPr>
            <a:xfrm>
              <a:off x="0" y="6759720"/>
              <a:ext cx="6146640" cy="246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5920"/>
                  </a:moveTo>
                  <a:lnTo>
                    <a:pt x="21537" y="4752"/>
                  </a:lnTo>
                  <a:lnTo>
                    <a:pt x="21069" y="3861"/>
                  </a:lnTo>
                  <a:lnTo>
                    <a:pt x="18800" y="1425"/>
                  </a:lnTo>
                  <a:lnTo>
                    <a:pt x="18268" y="1069"/>
                  </a:lnTo>
                  <a:lnTo>
                    <a:pt x="20505" y="3682"/>
                  </a:lnTo>
                  <a:lnTo>
                    <a:pt x="20553" y="3801"/>
                  </a:lnTo>
                  <a:lnTo>
                    <a:pt x="20601" y="3920"/>
                  </a:lnTo>
                  <a:lnTo>
                    <a:pt x="20791" y="4514"/>
                  </a:lnTo>
                  <a:lnTo>
                    <a:pt x="20934" y="5108"/>
                  </a:lnTo>
                  <a:lnTo>
                    <a:pt x="20989" y="5346"/>
                  </a:lnTo>
                  <a:lnTo>
                    <a:pt x="20934" y="5464"/>
                  </a:lnTo>
                  <a:lnTo>
                    <a:pt x="20648" y="5583"/>
                  </a:lnTo>
                  <a:lnTo>
                    <a:pt x="20267" y="5583"/>
                  </a:lnTo>
                  <a:lnTo>
                    <a:pt x="19887" y="5464"/>
                  </a:lnTo>
                  <a:lnTo>
                    <a:pt x="19458" y="5227"/>
                  </a:lnTo>
                  <a:lnTo>
                    <a:pt x="18990" y="4870"/>
                  </a:lnTo>
                  <a:lnTo>
                    <a:pt x="18562" y="4395"/>
                  </a:lnTo>
                  <a:lnTo>
                    <a:pt x="18411" y="4276"/>
                  </a:lnTo>
                  <a:lnTo>
                    <a:pt x="18221" y="4039"/>
                  </a:lnTo>
                  <a:lnTo>
                    <a:pt x="17221" y="2495"/>
                  </a:lnTo>
                  <a:lnTo>
                    <a:pt x="17174" y="2376"/>
                  </a:lnTo>
                  <a:lnTo>
                    <a:pt x="17086" y="2019"/>
                  </a:lnTo>
                  <a:lnTo>
                    <a:pt x="16753" y="1307"/>
                  </a:lnTo>
                  <a:lnTo>
                    <a:pt x="16373" y="475"/>
                  </a:lnTo>
                  <a:lnTo>
                    <a:pt x="16230" y="119"/>
                  </a:lnTo>
                  <a:lnTo>
                    <a:pt x="16135" y="0"/>
                  </a:lnTo>
                  <a:lnTo>
                    <a:pt x="16563" y="1425"/>
                  </a:lnTo>
                  <a:lnTo>
                    <a:pt x="16706" y="2138"/>
                  </a:lnTo>
                  <a:lnTo>
                    <a:pt x="16706" y="2257"/>
                  </a:lnTo>
                  <a:lnTo>
                    <a:pt x="16753" y="2257"/>
                  </a:lnTo>
                  <a:lnTo>
                    <a:pt x="19085" y="10216"/>
                  </a:lnTo>
                  <a:lnTo>
                    <a:pt x="19133" y="10572"/>
                  </a:lnTo>
                  <a:lnTo>
                    <a:pt x="19133" y="10929"/>
                  </a:lnTo>
                  <a:lnTo>
                    <a:pt x="18990" y="11404"/>
                  </a:lnTo>
                  <a:lnTo>
                    <a:pt x="18752" y="11641"/>
                  </a:lnTo>
                  <a:lnTo>
                    <a:pt x="18411" y="11641"/>
                  </a:lnTo>
                  <a:lnTo>
                    <a:pt x="18078" y="11166"/>
                  </a:lnTo>
                  <a:lnTo>
                    <a:pt x="17745" y="10572"/>
                  </a:lnTo>
                  <a:lnTo>
                    <a:pt x="17459" y="9978"/>
                  </a:lnTo>
                  <a:lnTo>
                    <a:pt x="17412" y="9860"/>
                  </a:lnTo>
                  <a:lnTo>
                    <a:pt x="17364" y="9741"/>
                  </a:lnTo>
                  <a:lnTo>
                    <a:pt x="17221" y="9147"/>
                  </a:lnTo>
                  <a:lnTo>
                    <a:pt x="16991" y="8315"/>
                  </a:lnTo>
                  <a:lnTo>
                    <a:pt x="16658" y="7484"/>
                  </a:lnTo>
                  <a:lnTo>
                    <a:pt x="16325" y="6533"/>
                  </a:lnTo>
                  <a:lnTo>
                    <a:pt x="16182" y="6296"/>
                  </a:lnTo>
                  <a:lnTo>
                    <a:pt x="16087" y="5940"/>
                  </a:lnTo>
                  <a:lnTo>
                    <a:pt x="15936" y="5227"/>
                  </a:lnTo>
                  <a:lnTo>
                    <a:pt x="15793" y="4633"/>
                  </a:lnTo>
                  <a:lnTo>
                    <a:pt x="15746" y="4158"/>
                  </a:lnTo>
                  <a:lnTo>
                    <a:pt x="15651" y="3801"/>
                  </a:lnTo>
                  <a:lnTo>
                    <a:pt x="15603" y="3564"/>
                  </a:lnTo>
                  <a:lnTo>
                    <a:pt x="15460" y="3445"/>
                  </a:lnTo>
                  <a:lnTo>
                    <a:pt x="15127" y="3089"/>
                  </a:lnTo>
                  <a:lnTo>
                    <a:pt x="14754" y="2732"/>
                  </a:lnTo>
                  <a:lnTo>
                    <a:pt x="14564" y="2613"/>
                  </a:lnTo>
                  <a:lnTo>
                    <a:pt x="14469" y="2613"/>
                  </a:lnTo>
                  <a:lnTo>
                    <a:pt x="14326" y="2613"/>
                  </a:lnTo>
                  <a:lnTo>
                    <a:pt x="14278" y="2732"/>
                  </a:lnTo>
                  <a:lnTo>
                    <a:pt x="14231" y="2851"/>
                  </a:lnTo>
                  <a:lnTo>
                    <a:pt x="14612" y="3089"/>
                  </a:lnTo>
                  <a:lnTo>
                    <a:pt x="14850" y="3564"/>
                  </a:lnTo>
                  <a:lnTo>
                    <a:pt x="14984" y="4039"/>
                  </a:lnTo>
                  <a:lnTo>
                    <a:pt x="15032" y="4395"/>
                  </a:lnTo>
                  <a:lnTo>
                    <a:pt x="14984" y="4752"/>
                  </a:lnTo>
                  <a:lnTo>
                    <a:pt x="15080" y="5346"/>
                  </a:lnTo>
                  <a:lnTo>
                    <a:pt x="15222" y="6296"/>
                  </a:lnTo>
                  <a:lnTo>
                    <a:pt x="15413" y="7246"/>
                  </a:lnTo>
                  <a:lnTo>
                    <a:pt x="15793" y="9503"/>
                  </a:lnTo>
                  <a:lnTo>
                    <a:pt x="16031" y="10572"/>
                  </a:lnTo>
                  <a:lnTo>
                    <a:pt x="16182" y="11523"/>
                  </a:lnTo>
                  <a:lnTo>
                    <a:pt x="16373" y="12473"/>
                  </a:lnTo>
                  <a:lnTo>
                    <a:pt x="16468" y="13186"/>
                  </a:lnTo>
                  <a:lnTo>
                    <a:pt x="16515" y="13522"/>
                  </a:lnTo>
                  <a:lnTo>
                    <a:pt x="16420" y="13760"/>
                  </a:lnTo>
                  <a:lnTo>
                    <a:pt x="16277" y="13760"/>
                  </a:lnTo>
                  <a:lnTo>
                    <a:pt x="16031" y="13760"/>
                  </a:lnTo>
                  <a:lnTo>
                    <a:pt x="15841" y="13760"/>
                  </a:lnTo>
                  <a:lnTo>
                    <a:pt x="15651" y="13641"/>
                  </a:lnTo>
                  <a:lnTo>
                    <a:pt x="15508" y="13522"/>
                  </a:lnTo>
                  <a:lnTo>
                    <a:pt x="15460" y="13522"/>
                  </a:lnTo>
                  <a:lnTo>
                    <a:pt x="15460" y="13403"/>
                  </a:lnTo>
                  <a:lnTo>
                    <a:pt x="15413" y="13304"/>
                  </a:lnTo>
                  <a:lnTo>
                    <a:pt x="15175" y="12592"/>
                  </a:lnTo>
                  <a:lnTo>
                    <a:pt x="14326" y="6415"/>
                  </a:lnTo>
                  <a:lnTo>
                    <a:pt x="14088" y="6533"/>
                  </a:lnTo>
                  <a:lnTo>
                    <a:pt x="13850" y="6533"/>
                  </a:lnTo>
                  <a:lnTo>
                    <a:pt x="13509" y="6177"/>
                  </a:lnTo>
                  <a:lnTo>
                    <a:pt x="13271" y="5702"/>
                  </a:lnTo>
                  <a:lnTo>
                    <a:pt x="13223" y="5464"/>
                  </a:lnTo>
                  <a:lnTo>
                    <a:pt x="13128" y="5346"/>
                  </a:lnTo>
                  <a:lnTo>
                    <a:pt x="12985" y="5464"/>
                  </a:lnTo>
                  <a:lnTo>
                    <a:pt x="12938" y="5702"/>
                  </a:lnTo>
                  <a:lnTo>
                    <a:pt x="12890" y="6058"/>
                  </a:lnTo>
                  <a:lnTo>
                    <a:pt x="12890" y="6177"/>
                  </a:lnTo>
                  <a:lnTo>
                    <a:pt x="13033" y="6296"/>
                  </a:lnTo>
                  <a:lnTo>
                    <a:pt x="13128" y="6652"/>
                  </a:lnTo>
                  <a:lnTo>
                    <a:pt x="13223" y="7246"/>
                  </a:lnTo>
                  <a:lnTo>
                    <a:pt x="13271" y="7959"/>
                  </a:lnTo>
                  <a:lnTo>
                    <a:pt x="13271" y="8078"/>
                  </a:lnTo>
                  <a:lnTo>
                    <a:pt x="13271" y="8197"/>
                  </a:lnTo>
                  <a:lnTo>
                    <a:pt x="13612" y="15067"/>
                  </a:lnTo>
                  <a:lnTo>
                    <a:pt x="13612" y="15304"/>
                  </a:lnTo>
                  <a:lnTo>
                    <a:pt x="13612" y="15423"/>
                  </a:lnTo>
                  <a:lnTo>
                    <a:pt x="13557" y="15304"/>
                  </a:lnTo>
                  <a:lnTo>
                    <a:pt x="13509" y="14948"/>
                  </a:lnTo>
                  <a:lnTo>
                    <a:pt x="13461" y="14829"/>
                  </a:lnTo>
                  <a:lnTo>
                    <a:pt x="13414" y="14591"/>
                  </a:lnTo>
                  <a:lnTo>
                    <a:pt x="13319" y="14116"/>
                  </a:lnTo>
                  <a:lnTo>
                    <a:pt x="13176" y="13304"/>
                  </a:lnTo>
                  <a:lnTo>
                    <a:pt x="13033" y="12473"/>
                  </a:lnTo>
                  <a:lnTo>
                    <a:pt x="12795" y="11523"/>
                  </a:lnTo>
                  <a:lnTo>
                    <a:pt x="12605" y="10691"/>
                  </a:lnTo>
                  <a:lnTo>
                    <a:pt x="12375" y="10097"/>
                  </a:lnTo>
                  <a:lnTo>
                    <a:pt x="12184" y="9741"/>
                  </a:lnTo>
                  <a:lnTo>
                    <a:pt x="11851" y="9503"/>
                  </a:lnTo>
                  <a:lnTo>
                    <a:pt x="11470" y="9503"/>
                  </a:lnTo>
                  <a:lnTo>
                    <a:pt x="11082" y="9622"/>
                  </a:lnTo>
                  <a:lnTo>
                    <a:pt x="10701" y="9860"/>
                  </a:lnTo>
                  <a:lnTo>
                    <a:pt x="9900" y="10454"/>
                  </a:lnTo>
                  <a:lnTo>
                    <a:pt x="9186" y="11285"/>
                  </a:lnTo>
                  <a:lnTo>
                    <a:pt x="8757" y="11879"/>
                  </a:lnTo>
                  <a:lnTo>
                    <a:pt x="8226" y="12354"/>
                  </a:lnTo>
                  <a:lnTo>
                    <a:pt x="7901" y="12473"/>
                  </a:lnTo>
                  <a:lnTo>
                    <a:pt x="7520" y="12473"/>
                  </a:lnTo>
                  <a:lnTo>
                    <a:pt x="7139" y="12235"/>
                  </a:lnTo>
                  <a:lnTo>
                    <a:pt x="6663" y="11641"/>
                  </a:lnTo>
                  <a:lnTo>
                    <a:pt x="5664" y="10572"/>
                  </a:lnTo>
                  <a:lnTo>
                    <a:pt x="4617" y="9384"/>
                  </a:lnTo>
                  <a:lnTo>
                    <a:pt x="3514" y="8078"/>
                  </a:lnTo>
                  <a:lnTo>
                    <a:pt x="2523" y="6890"/>
                  </a:lnTo>
                  <a:lnTo>
                    <a:pt x="1571" y="5702"/>
                  </a:lnTo>
                  <a:lnTo>
                    <a:pt x="1182" y="5227"/>
                  </a:lnTo>
                  <a:lnTo>
                    <a:pt x="809" y="4752"/>
                  </a:lnTo>
                  <a:lnTo>
                    <a:pt x="0" y="3702"/>
                  </a:lnTo>
                  <a:lnTo>
                    <a:pt x="0" y="9107"/>
                  </a:lnTo>
                  <a:lnTo>
                    <a:pt x="286" y="9384"/>
                  </a:lnTo>
                  <a:lnTo>
                    <a:pt x="1182" y="10216"/>
                  </a:lnTo>
                  <a:lnTo>
                    <a:pt x="1713" y="10691"/>
                  </a:lnTo>
                  <a:lnTo>
                    <a:pt x="2285" y="11285"/>
                  </a:lnTo>
                  <a:lnTo>
                    <a:pt x="2760" y="11760"/>
                  </a:lnTo>
                  <a:lnTo>
                    <a:pt x="3141" y="12235"/>
                  </a:lnTo>
                  <a:lnTo>
                    <a:pt x="3427" y="12592"/>
                  </a:lnTo>
                  <a:lnTo>
                    <a:pt x="3657" y="12948"/>
                  </a:lnTo>
                  <a:lnTo>
                    <a:pt x="3998" y="13304"/>
                  </a:lnTo>
                  <a:lnTo>
                    <a:pt x="4664" y="13997"/>
                  </a:lnTo>
                  <a:lnTo>
                    <a:pt x="5426" y="14710"/>
                  </a:lnTo>
                  <a:lnTo>
                    <a:pt x="5751" y="14948"/>
                  </a:lnTo>
                  <a:lnTo>
                    <a:pt x="6037" y="15185"/>
                  </a:lnTo>
                  <a:lnTo>
                    <a:pt x="6568" y="15423"/>
                  </a:lnTo>
                  <a:lnTo>
                    <a:pt x="7092" y="15542"/>
                  </a:lnTo>
                  <a:lnTo>
                    <a:pt x="7663" y="15660"/>
                  </a:lnTo>
                  <a:lnTo>
                    <a:pt x="8178" y="15660"/>
                  </a:lnTo>
                  <a:lnTo>
                    <a:pt x="8662" y="15542"/>
                  </a:lnTo>
                  <a:lnTo>
                    <a:pt x="9091" y="15542"/>
                  </a:lnTo>
                  <a:lnTo>
                    <a:pt x="9329" y="15423"/>
                  </a:lnTo>
                  <a:lnTo>
                    <a:pt x="9424" y="15423"/>
                  </a:lnTo>
                  <a:lnTo>
                    <a:pt x="9804" y="15542"/>
                  </a:lnTo>
                  <a:lnTo>
                    <a:pt x="10138" y="15660"/>
                  </a:lnTo>
                  <a:lnTo>
                    <a:pt x="10368" y="15898"/>
                  </a:lnTo>
                  <a:lnTo>
                    <a:pt x="10606" y="16017"/>
                  </a:lnTo>
                  <a:lnTo>
                    <a:pt x="10939" y="16373"/>
                  </a:lnTo>
                  <a:lnTo>
                    <a:pt x="11137" y="16730"/>
                  </a:lnTo>
                  <a:lnTo>
                    <a:pt x="11232" y="17086"/>
                  </a:lnTo>
                  <a:lnTo>
                    <a:pt x="11232" y="17324"/>
                  </a:lnTo>
                  <a:lnTo>
                    <a:pt x="11232" y="17442"/>
                  </a:lnTo>
                  <a:lnTo>
                    <a:pt x="11232" y="17561"/>
                  </a:lnTo>
                  <a:lnTo>
                    <a:pt x="11185" y="17561"/>
                  </a:lnTo>
                  <a:lnTo>
                    <a:pt x="11082" y="17680"/>
                  </a:lnTo>
                  <a:lnTo>
                    <a:pt x="10939" y="17918"/>
                  </a:lnTo>
                  <a:lnTo>
                    <a:pt x="10796" y="18274"/>
                  </a:lnTo>
                  <a:lnTo>
                    <a:pt x="10748" y="18630"/>
                  </a:lnTo>
                  <a:lnTo>
                    <a:pt x="10796" y="19224"/>
                  </a:lnTo>
                  <a:lnTo>
                    <a:pt x="10844" y="19581"/>
                  </a:lnTo>
                  <a:lnTo>
                    <a:pt x="10986" y="19937"/>
                  </a:lnTo>
                  <a:lnTo>
                    <a:pt x="11137" y="20293"/>
                  </a:lnTo>
                  <a:lnTo>
                    <a:pt x="11375" y="20768"/>
                  </a:lnTo>
                  <a:lnTo>
                    <a:pt x="11613" y="21125"/>
                  </a:lnTo>
                  <a:lnTo>
                    <a:pt x="11851" y="21481"/>
                  </a:lnTo>
                  <a:lnTo>
                    <a:pt x="12327" y="21600"/>
                  </a:lnTo>
                  <a:lnTo>
                    <a:pt x="12747" y="21481"/>
                  </a:lnTo>
                  <a:lnTo>
                    <a:pt x="13176" y="21125"/>
                  </a:lnTo>
                  <a:lnTo>
                    <a:pt x="13461" y="20650"/>
                  </a:lnTo>
                  <a:lnTo>
                    <a:pt x="13755" y="20175"/>
                  </a:lnTo>
                  <a:lnTo>
                    <a:pt x="13898" y="19699"/>
                  </a:lnTo>
                  <a:lnTo>
                    <a:pt x="13945" y="19581"/>
                  </a:lnTo>
                  <a:lnTo>
                    <a:pt x="14374" y="19581"/>
                  </a:lnTo>
                  <a:lnTo>
                    <a:pt x="14754" y="19462"/>
                  </a:lnTo>
                  <a:lnTo>
                    <a:pt x="15127" y="19105"/>
                  </a:lnTo>
                  <a:lnTo>
                    <a:pt x="15413" y="18630"/>
                  </a:lnTo>
                  <a:lnTo>
                    <a:pt x="15651" y="18155"/>
                  </a:lnTo>
                  <a:lnTo>
                    <a:pt x="15889" y="17799"/>
                  </a:lnTo>
                  <a:lnTo>
                    <a:pt x="15984" y="17442"/>
                  </a:lnTo>
                  <a:lnTo>
                    <a:pt x="16031" y="17324"/>
                  </a:lnTo>
                  <a:lnTo>
                    <a:pt x="17459" y="17799"/>
                  </a:lnTo>
                  <a:lnTo>
                    <a:pt x="17792" y="17918"/>
                  </a:lnTo>
                  <a:lnTo>
                    <a:pt x="18030" y="17799"/>
                  </a:lnTo>
                  <a:lnTo>
                    <a:pt x="18459" y="17561"/>
                  </a:lnTo>
                  <a:lnTo>
                    <a:pt x="18752" y="17086"/>
                  </a:lnTo>
                  <a:lnTo>
                    <a:pt x="18943" y="16373"/>
                  </a:lnTo>
                  <a:lnTo>
                    <a:pt x="19038" y="15779"/>
                  </a:lnTo>
                  <a:lnTo>
                    <a:pt x="19038" y="15185"/>
                  </a:lnTo>
                  <a:lnTo>
                    <a:pt x="19038" y="14710"/>
                  </a:lnTo>
                  <a:lnTo>
                    <a:pt x="19038" y="14591"/>
                  </a:lnTo>
                  <a:lnTo>
                    <a:pt x="19181" y="14591"/>
                  </a:lnTo>
                  <a:lnTo>
                    <a:pt x="19323" y="14473"/>
                  </a:lnTo>
                  <a:lnTo>
                    <a:pt x="19601" y="13879"/>
                  </a:lnTo>
                  <a:lnTo>
                    <a:pt x="19934" y="13067"/>
                  </a:lnTo>
                  <a:lnTo>
                    <a:pt x="20267" y="11998"/>
                  </a:lnTo>
                  <a:lnTo>
                    <a:pt x="20553" y="10929"/>
                  </a:lnTo>
                  <a:lnTo>
                    <a:pt x="20791" y="9978"/>
                  </a:lnTo>
                  <a:lnTo>
                    <a:pt x="20934" y="9266"/>
                  </a:lnTo>
                  <a:lnTo>
                    <a:pt x="20989" y="9147"/>
                  </a:lnTo>
                  <a:lnTo>
                    <a:pt x="20989" y="9028"/>
                  </a:lnTo>
                  <a:lnTo>
                    <a:pt x="21362" y="7405"/>
                  </a:lnTo>
                  <a:lnTo>
                    <a:pt x="21600" y="5920"/>
                  </a:lnTo>
                  <a:close/>
                  <a:moveTo>
                    <a:pt x="21600" y="592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b9efee"/>
                </a:solidFill>
                <a:latin typeface="Lucida Grande"/>
              </a:rPr>
              <a:t>Click to edit the title text format</a:t>
            </a:r>
            <a:endParaRPr b="1" lang="en-US" sz="6200" spc="-1" strike="noStrike">
              <a:solidFill>
                <a:srgbClr val="b9efee"/>
              </a:solidFill>
              <a:latin typeface="Lucida Gran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Num" idx="7"/>
          </p:nvPr>
        </p:nvSpPr>
        <p:spPr>
          <a:xfrm>
            <a:off x="10648800" y="9207360"/>
            <a:ext cx="37152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52DD-AA67-4751-AC6A-ECD09D3F22E0}" type="slidenum">
              <a: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1" marL="630360" indent="-285840">
              <a:spcBef>
                <a:spcPts val="11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2" marL="1030320" indent="-228600">
              <a:spcBef>
                <a:spcPts val="1100"/>
              </a:spcBef>
              <a:buClr>
                <a:srgbClr val="b9efe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3" marL="1487520" indent="-228600">
              <a:spcBef>
                <a:spcPts val="11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4" marL="1944720" indent="-228600">
              <a:spcBef>
                <a:spcPts val="1100"/>
              </a:spcBef>
              <a:buClr>
                <a:srgbClr val="ccff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5" marL="1944720" indent="-228600">
              <a:spcBef>
                <a:spcPts val="11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6" marL="1944720" indent="-228600">
              <a:spcBef>
                <a:spcPts val="11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15"/>
          <p:cNvGrpSpPr/>
          <p:nvPr/>
        </p:nvGrpSpPr>
        <p:grpSpPr>
          <a:xfrm>
            <a:off x="0" y="3467160"/>
            <a:ext cx="13004640" cy="5754600"/>
            <a:chOff x="0" y="3467160"/>
            <a:chExt cx="13004640" cy="5754600"/>
          </a:xfrm>
        </p:grpSpPr>
        <p:sp>
          <p:nvSpPr>
            <p:cNvPr id="304" name="Rectangle 1"/>
            <p:cNvSpPr/>
            <p:nvPr/>
          </p:nvSpPr>
          <p:spPr>
            <a:xfrm rot="20160000">
              <a:off x="4782960" y="5864400"/>
              <a:ext cx="6934320" cy="86364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3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05" name="AutoShape 2"/>
            <p:cNvSpPr/>
            <p:nvPr/>
          </p:nvSpPr>
          <p:spPr>
            <a:xfrm>
              <a:off x="0" y="6019920"/>
              <a:ext cx="6070680" cy="276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714" y="9741"/>
                  </a:lnTo>
                  <a:lnTo>
                    <a:pt x="15814" y="4659"/>
                  </a:lnTo>
                  <a:lnTo>
                    <a:pt x="16296" y="4765"/>
                  </a:lnTo>
                  <a:lnTo>
                    <a:pt x="21383" y="9318"/>
                  </a:lnTo>
                  <a:lnTo>
                    <a:pt x="21600" y="11435"/>
                  </a:lnTo>
                  <a:lnTo>
                    <a:pt x="18514" y="19059"/>
                  </a:lnTo>
                  <a:lnTo>
                    <a:pt x="12729" y="21600"/>
                  </a:lnTo>
                  <a:lnTo>
                    <a:pt x="10414" y="16518"/>
                  </a:lnTo>
                  <a:lnTo>
                    <a:pt x="6943" y="18212"/>
                  </a:lnTo>
                  <a:lnTo>
                    <a:pt x="0" y="9741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06" name="AutoShape 3"/>
            <p:cNvSpPr/>
            <p:nvPr/>
          </p:nvSpPr>
          <p:spPr>
            <a:xfrm>
              <a:off x="7583400" y="3467160"/>
              <a:ext cx="5421240" cy="278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81" y="53"/>
                  </a:moveTo>
                  <a:lnTo>
                    <a:pt x="20511" y="53"/>
                  </a:lnTo>
                  <a:lnTo>
                    <a:pt x="19864" y="263"/>
                  </a:lnTo>
                  <a:lnTo>
                    <a:pt x="19216" y="473"/>
                  </a:lnTo>
                  <a:lnTo>
                    <a:pt x="19000" y="684"/>
                  </a:lnTo>
                  <a:lnTo>
                    <a:pt x="18784" y="999"/>
                  </a:lnTo>
                  <a:lnTo>
                    <a:pt x="18730" y="1105"/>
                  </a:lnTo>
                  <a:lnTo>
                    <a:pt x="18676" y="1210"/>
                  </a:lnTo>
                  <a:lnTo>
                    <a:pt x="17552" y="1736"/>
                  </a:lnTo>
                  <a:lnTo>
                    <a:pt x="17057" y="1946"/>
                  </a:lnTo>
                  <a:lnTo>
                    <a:pt x="16517" y="2051"/>
                  </a:lnTo>
                  <a:lnTo>
                    <a:pt x="15330" y="2367"/>
                  </a:lnTo>
                  <a:lnTo>
                    <a:pt x="14142" y="2682"/>
                  </a:lnTo>
                  <a:lnTo>
                    <a:pt x="12901" y="2893"/>
                  </a:lnTo>
                  <a:lnTo>
                    <a:pt x="11821" y="3103"/>
                  </a:lnTo>
                  <a:lnTo>
                    <a:pt x="11335" y="3208"/>
                  </a:lnTo>
                  <a:lnTo>
                    <a:pt x="10903" y="3314"/>
                  </a:lnTo>
                  <a:lnTo>
                    <a:pt x="10580" y="3314"/>
                  </a:lnTo>
                  <a:lnTo>
                    <a:pt x="10310" y="3419"/>
                  </a:lnTo>
                  <a:lnTo>
                    <a:pt x="10148" y="3419"/>
                  </a:lnTo>
                  <a:lnTo>
                    <a:pt x="10094" y="3419"/>
                  </a:lnTo>
                  <a:lnTo>
                    <a:pt x="10040" y="3524"/>
                  </a:lnTo>
                  <a:lnTo>
                    <a:pt x="9941" y="3629"/>
                  </a:lnTo>
                  <a:lnTo>
                    <a:pt x="9671" y="4050"/>
                  </a:lnTo>
                  <a:lnTo>
                    <a:pt x="9230" y="4576"/>
                  </a:lnTo>
                  <a:lnTo>
                    <a:pt x="8744" y="5102"/>
                  </a:lnTo>
                  <a:lnTo>
                    <a:pt x="8313" y="5628"/>
                  </a:lnTo>
                  <a:lnTo>
                    <a:pt x="7881" y="6049"/>
                  </a:lnTo>
                  <a:lnTo>
                    <a:pt x="7611" y="6364"/>
                  </a:lnTo>
                  <a:lnTo>
                    <a:pt x="7557" y="6469"/>
                  </a:lnTo>
                  <a:lnTo>
                    <a:pt x="7503" y="6469"/>
                  </a:lnTo>
                  <a:lnTo>
                    <a:pt x="6585" y="7311"/>
                  </a:lnTo>
                  <a:lnTo>
                    <a:pt x="5668" y="8030"/>
                  </a:lnTo>
                  <a:lnTo>
                    <a:pt x="5290" y="8345"/>
                  </a:lnTo>
                  <a:lnTo>
                    <a:pt x="4966" y="8556"/>
                  </a:lnTo>
                  <a:lnTo>
                    <a:pt x="4759" y="8766"/>
                  </a:lnTo>
                  <a:lnTo>
                    <a:pt x="4651" y="8871"/>
                  </a:lnTo>
                  <a:lnTo>
                    <a:pt x="4489" y="9187"/>
                  </a:lnTo>
                  <a:lnTo>
                    <a:pt x="4381" y="9503"/>
                  </a:lnTo>
                  <a:lnTo>
                    <a:pt x="4327" y="9818"/>
                  </a:lnTo>
                  <a:lnTo>
                    <a:pt x="4327" y="10134"/>
                  </a:lnTo>
                  <a:lnTo>
                    <a:pt x="4111" y="10344"/>
                  </a:lnTo>
                  <a:lnTo>
                    <a:pt x="3940" y="10449"/>
                  </a:lnTo>
                  <a:lnTo>
                    <a:pt x="3778" y="10765"/>
                  </a:lnTo>
                  <a:lnTo>
                    <a:pt x="3616" y="11186"/>
                  </a:lnTo>
                  <a:lnTo>
                    <a:pt x="3293" y="12238"/>
                  </a:lnTo>
                  <a:lnTo>
                    <a:pt x="3131" y="12764"/>
                  </a:lnTo>
                  <a:lnTo>
                    <a:pt x="2969" y="13290"/>
                  </a:lnTo>
                  <a:lnTo>
                    <a:pt x="2915" y="13605"/>
                  </a:lnTo>
                  <a:lnTo>
                    <a:pt x="2861" y="13710"/>
                  </a:lnTo>
                  <a:lnTo>
                    <a:pt x="2807" y="13816"/>
                  </a:lnTo>
                  <a:lnTo>
                    <a:pt x="2699" y="13921"/>
                  </a:lnTo>
                  <a:lnTo>
                    <a:pt x="2537" y="14131"/>
                  </a:lnTo>
                  <a:lnTo>
                    <a:pt x="2267" y="14447"/>
                  </a:lnTo>
                  <a:lnTo>
                    <a:pt x="1790" y="14973"/>
                  </a:lnTo>
                  <a:lnTo>
                    <a:pt x="1358" y="15499"/>
                  </a:lnTo>
                  <a:lnTo>
                    <a:pt x="756" y="16235"/>
                  </a:lnTo>
                  <a:lnTo>
                    <a:pt x="270" y="16866"/>
                  </a:lnTo>
                  <a:lnTo>
                    <a:pt x="108" y="17077"/>
                  </a:lnTo>
                  <a:lnTo>
                    <a:pt x="0" y="17392"/>
                  </a:lnTo>
                  <a:lnTo>
                    <a:pt x="0" y="17603"/>
                  </a:lnTo>
                  <a:lnTo>
                    <a:pt x="0" y="17918"/>
                  </a:lnTo>
                  <a:lnTo>
                    <a:pt x="108" y="18234"/>
                  </a:lnTo>
                  <a:lnTo>
                    <a:pt x="378" y="18339"/>
                  </a:lnTo>
                  <a:lnTo>
                    <a:pt x="756" y="18339"/>
                  </a:lnTo>
                  <a:lnTo>
                    <a:pt x="1188" y="18129"/>
                  </a:lnTo>
                  <a:lnTo>
                    <a:pt x="1736" y="17918"/>
                  </a:lnTo>
                  <a:lnTo>
                    <a:pt x="2375" y="17603"/>
                  </a:lnTo>
                  <a:lnTo>
                    <a:pt x="3023" y="17182"/>
                  </a:lnTo>
                  <a:lnTo>
                    <a:pt x="3670" y="16656"/>
                  </a:lnTo>
                  <a:lnTo>
                    <a:pt x="4273" y="16130"/>
                  </a:lnTo>
                  <a:lnTo>
                    <a:pt x="4759" y="15709"/>
                  </a:lnTo>
                  <a:lnTo>
                    <a:pt x="5074" y="15394"/>
                  </a:lnTo>
                  <a:lnTo>
                    <a:pt x="5128" y="15288"/>
                  </a:lnTo>
                  <a:lnTo>
                    <a:pt x="5182" y="15288"/>
                  </a:lnTo>
                  <a:lnTo>
                    <a:pt x="5452" y="15288"/>
                  </a:lnTo>
                  <a:lnTo>
                    <a:pt x="5830" y="15183"/>
                  </a:lnTo>
                  <a:lnTo>
                    <a:pt x="6423" y="14868"/>
                  </a:lnTo>
                  <a:lnTo>
                    <a:pt x="7134" y="14552"/>
                  </a:lnTo>
                  <a:lnTo>
                    <a:pt x="7881" y="14236"/>
                  </a:lnTo>
                  <a:lnTo>
                    <a:pt x="8690" y="13921"/>
                  </a:lnTo>
                  <a:lnTo>
                    <a:pt x="9563" y="13710"/>
                  </a:lnTo>
                  <a:lnTo>
                    <a:pt x="10364" y="13605"/>
                  </a:lnTo>
                  <a:lnTo>
                    <a:pt x="10903" y="13710"/>
                  </a:lnTo>
                  <a:lnTo>
                    <a:pt x="11551" y="14131"/>
                  </a:lnTo>
                  <a:lnTo>
                    <a:pt x="12208" y="14657"/>
                  </a:lnTo>
                  <a:lnTo>
                    <a:pt x="12739" y="15288"/>
                  </a:lnTo>
                  <a:lnTo>
                    <a:pt x="12901" y="15604"/>
                  </a:lnTo>
                  <a:lnTo>
                    <a:pt x="13063" y="15919"/>
                  </a:lnTo>
                  <a:lnTo>
                    <a:pt x="13171" y="16340"/>
                  </a:lnTo>
                  <a:lnTo>
                    <a:pt x="13171" y="16656"/>
                  </a:lnTo>
                  <a:lnTo>
                    <a:pt x="13117" y="16971"/>
                  </a:lnTo>
                  <a:lnTo>
                    <a:pt x="12955" y="17392"/>
                  </a:lnTo>
                  <a:lnTo>
                    <a:pt x="12685" y="17603"/>
                  </a:lnTo>
                  <a:lnTo>
                    <a:pt x="12316" y="17918"/>
                  </a:lnTo>
                  <a:lnTo>
                    <a:pt x="11713" y="18234"/>
                  </a:lnTo>
                  <a:lnTo>
                    <a:pt x="11227" y="18655"/>
                  </a:lnTo>
                  <a:lnTo>
                    <a:pt x="10796" y="18970"/>
                  </a:lnTo>
                  <a:lnTo>
                    <a:pt x="10418" y="19286"/>
                  </a:lnTo>
                  <a:lnTo>
                    <a:pt x="10148" y="19601"/>
                  </a:lnTo>
                  <a:lnTo>
                    <a:pt x="9986" y="19812"/>
                  </a:lnTo>
                  <a:lnTo>
                    <a:pt x="9833" y="20127"/>
                  </a:lnTo>
                  <a:lnTo>
                    <a:pt x="9725" y="20338"/>
                  </a:lnTo>
                  <a:lnTo>
                    <a:pt x="9617" y="20864"/>
                  </a:lnTo>
                  <a:lnTo>
                    <a:pt x="9671" y="21179"/>
                  </a:lnTo>
                  <a:lnTo>
                    <a:pt x="9725" y="21390"/>
                  </a:lnTo>
                  <a:lnTo>
                    <a:pt x="9779" y="21495"/>
                  </a:lnTo>
                  <a:lnTo>
                    <a:pt x="9833" y="21600"/>
                  </a:lnTo>
                  <a:lnTo>
                    <a:pt x="9986" y="21600"/>
                  </a:lnTo>
                  <a:lnTo>
                    <a:pt x="10148" y="21495"/>
                  </a:lnTo>
                  <a:lnTo>
                    <a:pt x="10364" y="21495"/>
                  </a:lnTo>
                  <a:lnTo>
                    <a:pt x="10903" y="21390"/>
                  </a:lnTo>
                  <a:lnTo>
                    <a:pt x="11443" y="21284"/>
                  </a:lnTo>
                  <a:lnTo>
                    <a:pt x="11983" y="21179"/>
                  </a:lnTo>
                  <a:lnTo>
                    <a:pt x="12532" y="20969"/>
                  </a:lnTo>
                  <a:lnTo>
                    <a:pt x="12739" y="20864"/>
                  </a:lnTo>
                  <a:lnTo>
                    <a:pt x="12901" y="20758"/>
                  </a:lnTo>
                  <a:lnTo>
                    <a:pt x="13009" y="20653"/>
                  </a:lnTo>
                  <a:lnTo>
                    <a:pt x="13063" y="20653"/>
                  </a:lnTo>
                  <a:lnTo>
                    <a:pt x="13171" y="20548"/>
                  </a:lnTo>
                  <a:lnTo>
                    <a:pt x="13386" y="20443"/>
                  </a:lnTo>
                  <a:lnTo>
                    <a:pt x="13764" y="20127"/>
                  </a:lnTo>
                  <a:lnTo>
                    <a:pt x="14196" y="19812"/>
                  </a:lnTo>
                  <a:lnTo>
                    <a:pt x="15123" y="19181"/>
                  </a:lnTo>
                  <a:lnTo>
                    <a:pt x="15492" y="18865"/>
                  </a:lnTo>
                  <a:lnTo>
                    <a:pt x="15815" y="18655"/>
                  </a:lnTo>
                  <a:lnTo>
                    <a:pt x="16301" y="18234"/>
                  </a:lnTo>
                  <a:lnTo>
                    <a:pt x="16625" y="17603"/>
                  </a:lnTo>
                  <a:lnTo>
                    <a:pt x="16841" y="16866"/>
                  </a:lnTo>
                  <a:lnTo>
                    <a:pt x="17003" y="16340"/>
                  </a:lnTo>
                  <a:lnTo>
                    <a:pt x="17381" y="15183"/>
                  </a:lnTo>
                  <a:lnTo>
                    <a:pt x="17867" y="14026"/>
                  </a:lnTo>
                  <a:lnTo>
                    <a:pt x="18406" y="12974"/>
                  </a:lnTo>
                  <a:lnTo>
                    <a:pt x="19000" y="12132"/>
                  </a:lnTo>
                  <a:lnTo>
                    <a:pt x="19486" y="11396"/>
                  </a:lnTo>
                  <a:lnTo>
                    <a:pt x="19918" y="10870"/>
                  </a:lnTo>
                  <a:lnTo>
                    <a:pt x="20188" y="10449"/>
                  </a:lnTo>
                  <a:lnTo>
                    <a:pt x="20305" y="10344"/>
                  </a:lnTo>
                  <a:lnTo>
                    <a:pt x="21591" y="9082"/>
                  </a:lnTo>
                  <a:lnTo>
                    <a:pt x="21591" y="999"/>
                  </a:lnTo>
                  <a:lnTo>
                    <a:pt x="21600" y="0"/>
                  </a:lnTo>
                  <a:lnTo>
                    <a:pt x="20781" y="53"/>
                  </a:lnTo>
                  <a:close/>
                  <a:moveTo>
                    <a:pt x="20781" y="53"/>
                  </a:moveTo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8559720" y="3467160"/>
              <a:ext cx="4444920" cy="171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591" y="4677"/>
                  </a:moveTo>
                  <a:lnTo>
                    <a:pt x="7639" y="5669"/>
                  </a:lnTo>
                  <a:lnTo>
                    <a:pt x="7606" y="6718"/>
                  </a:lnTo>
                  <a:lnTo>
                    <a:pt x="10141" y="7313"/>
                  </a:lnTo>
                  <a:lnTo>
                    <a:pt x="10899" y="7569"/>
                  </a:lnTo>
                  <a:lnTo>
                    <a:pt x="7474" y="8249"/>
                  </a:lnTo>
                  <a:lnTo>
                    <a:pt x="6948" y="8759"/>
                  </a:lnTo>
                  <a:lnTo>
                    <a:pt x="7079" y="9524"/>
                  </a:lnTo>
                  <a:lnTo>
                    <a:pt x="7376" y="9950"/>
                  </a:lnTo>
                  <a:lnTo>
                    <a:pt x="10800" y="9439"/>
                  </a:lnTo>
                  <a:lnTo>
                    <a:pt x="11854" y="10120"/>
                  </a:lnTo>
                  <a:lnTo>
                    <a:pt x="6849" y="13946"/>
                  </a:lnTo>
                  <a:lnTo>
                    <a:pt x="6761" y="15194"/>
                  </a:lnTo>
                  <a:lnTo>
                    <a:pt x="88" y="20523"/>
                  </a:lnTo>
                  <a:lnTo>
                    <a:pt x="0" y="21430"/>
                  </a:lnTo>
                  <a:lnTo>
                    <a:pt x="296" y="21600"/>
                  </a:lnTo>
                  <a:lnTo>
                    <a:pt x="7288" y="15987"/>
                  </a:lnTo>
                  <a:lnTo>
                    <a:pt x="9395" y="17008"/>
                  </a:lnTo>
                  <a:lnTo>
                    <a:pt x="12710" y="14372"/>
                  </a:lnTo>
                  <a:lnTo>
                    <a:pt x="15739" y="13181"/>
                  </a:lnTo>
                  <a:lnTo>
                    <a:pt x="17254" y="10431"/>
                  </a:lnTo>
                  <a:lnTo>
                    <a:pt x="18790" y="9638"/>
                  </a:lnTo>
                  <a:lnTo>
                    <a:pt x="20371" y="9298"/>
                  </a:lnTo>
                  <a:lnTo>
                    <a:pt x="21600" y="9354"/>
                  </a:lnTo>
                  <a:lnTo>
                    <a:pt x="21600" y="0"/>
                  </a:lnTo>
                  <a:lnTo>
                    <a:pt x="21227" y="85"/>
                  </a:lnTo>
                  <a:lnTo>
                    <a:pt x="20107" y="142"/>
                  </a:lnTo>
                  <a:lnTo>
                    <a:pt x="18461" y="992"/>
                  </a:lnTo>
                  <a:lnTo>
                    <a:pt x="18033" y="2041"/>
                  </a:lnTo>
                  <a:lnTo>
                    <a:pt x="15278" y="3373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08" name="AutoShape 5"/>
            <p:cNvSpPr/>
            <p:nvPr/>
          </p:nvSpPr>
          <p:spPr>
            <a:xfrm>
              <a:off x="8124840" y="5591160"/>
              <a:ext cx="42084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080"/>
                  </a:lnTo>
                  <a:lnTo>
                    <a:pt x="21600" y="3240"/>
                  </a:lnTo>
                  <a:lnTo>
                    <a:pt x="21600" y="6480"/>
                  </a:lnTo>
                  <a:lnTo>
                    <a:pt x="20899" y="9720"/>
                  </a:lnTo>
                  <a:lnTo>
                    <a:pt x="18798" y="12960"/>
                  </a:lnTo>
                  <a:lnTo>
                    <a:pt x="15996" y="17280"/>
                  </a:lnTo>
                  <a:lnTo>
                    <a:pt x="11792" y="19440"/>
                  </a:lnTo>
                  <a:lnTo>
                    <a:pt x="5488" y="21600"/>
                  </a:lnTo>
                  <a:lnTo>
                    <a:pt x="3386" y="21600"/>
                  </a:lnTo>
                  <a:lnTo>
                    <a:pt x="1985" y="20520"/>
                  </a:lnTo>
                  <a:lnTo>
                    <a:pt x="0" y="17280"/>
                  </a:lnTo>
                  <a:lnTo>
                    <a:pt x="0" y="14040"/>
                  </a:lnTo>
                  <a:lnTo>
                    <a:pt x="0" y="1296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09" name="AutoShape 6"/>
            <p:cNvSpPr/>
            <p:nvPr/>
          </p:nvSpPr>
          <p:spPr>
            <a:xfrm>
              <a:off x="8531280" y="5402160"/>
              <a:ext cx="41760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080"/>
                  </a:lnTo>
                  <a:lnTo>
                    <a:pt x="20899" y="4320"/>
                  </a:lnTo>
                  <a:lnTo>
                    <a:pt x="19498" y="7560"/>
                  </a:lnTo>
                  <a:lnTo>
                    <a:pt x="17397" y="11880"/>
                  </a:lnTo>
                  <a:lnTo>
                    <a:pt x="15295" y="16200"/>
                  </a:lnTo>
                  <a:lnTo>
                    <a:pt x="11909" y="19440"/>
                  </a:lnTo>
                  <a:lnTo>
                    <a:pt x="7706" y="21600"/>
                  </a:lnTo>
                  <a:lnTo>
                    <a:pt x="2102" y="21600"/>
                  </a:lnTo>
                  <a:lnTo>
                    <a:pt x="0" y="1080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10" name="AutoShape 7"/>
            <p:cNvSpPr/>
            <p:nvPr/>
          </p:nvSpPr>
          <p:spPr>
            <a:xfrm>
              <a:off x="8666280" y="4145040"/>
              <a:ext cx="1193760" cy="62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21129"/>
                  </a:lnTo>
                  <a:lnTo>
                    <a:pt x="246" y="19715"/>
                  </a:lnTo>
                  <a:lnTo>
                    <a:pt x="246" y="18772"/>
                  </a:lnTo>
                  <a:lnTo>
                    <a:pt x="493" y="17830"/>
                  </a:lnTo>
                  <a:lnTo>
                    <a:pt x="739" y="17359"/>
                  </a:lnTo>
                  <a:lnTo>
                    <a:pt x="1478" y="16887"/>
                  </a:lnTo>
                  <a:lnTo>
                    <a:pt x="3162" y="15945"/>
                  </a:lnTo>
                  <a:lnTo>
                    <a:pt x="5626" y="14060"/>
                  </a:lnTo>
                  <a:lnTo>
                    <a:pt x="8583" y="11232"/>
                  </a:lnTo>
                  <a:lnTo>
                    <a:pt x="10307" y="9425"/>
                  </a:lnTo>
                  <a:lnTo>
                    <a:pt x="12278" y="7540"/>
                  </a:lnTo>
                  <a:lnTo>
                    <a:pt x="16179" y="3770"/>
                  </a:lnTo>
                  <a:lnTo>
                    <a:pt x="18151" y="2356"/>
                  </a:lnTo>
                  <a:lnTo>
                    <a:pt x="19629" y="943"/>
                  </a:lnTo>
                  <a:lnTo>
                    <a:pt x="20614" y="471"/>
                  </a:lnTo>
                  <a:lnTo>
                    <a:pt x="21354" y="0"/>
                  </a:lnTo>
                  <a:lnTo>
                    <a:pt x="21600" y="0"/>
                  </a:lnTo>
                  <a:lnTo>
                    <a:pt x="21354" y="471"/>
                  </a:lnTo>
                  <a:lnTo>
                    <a:pt x="20861" y="943"/>
                  </a:lnTo>
                  <a:lnTo>
                    <a:pt x="19875" y="1885"/>
                  </a:lnTo>
                  <a:lnTo>
                    <a:pt x="18890" y="3299"/>
                  </a:lnTo>
                  <a:lnTo>
                    <a:pt x="17904" y="4241"/>
                  </a:lnTo>
                  <a:lnTo>
                    <a:pt x="16179" y="6127"/>
                  </a:lnTo>
                  <a:lnTo>
                    <a:pt x="13962" y="8483"/>
                  </a:lnTo>
                  <a:lnTo>
                    <a:pt x="11293" y="11232"/>
                  </a:lnTo>
                  <a:lnTo>
                    <a:pt x="5379" y="17359"/>
                  </a:lnTo>
                  <a:lnTo>
                    <a:pt x="2669" y="19715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11" name="AutoShape 8"/>
            <p:cNvSpPr/>
            <p:nvPr/>
          </p:nvSpPr>
          <p:spPr>
            <a:xfrm>
              <a:off x="8299440" y="4548240"/>
              <a:ext cx="1627200" cy="690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44" y="15247"/>
                  </a:moveTo>
                  <a:lnTo>
                    <a:pt x="903" y="17788"/>
                  </a:lnTo>
                  <a:lnTo>
                    <a:pt x="361" y="19906"/>
                  </a:lnTo>
                  <a:lnTo>
                    <a:pt x="181" y="21176"/>
                  </a:lnTo>
                  <a:lnTo>
                    <a:pt x="0" y="21600"/>
                  </a:lnTo>
                  <a:lnTo>
                    <a:pt x="1444" y="19482"/>
                  </a:lnTo>
                  <a:lnTo>
                    <a:pt x="2527" y="17788"/>
                  </a:lnTo>
                  <a:lnTo>
                    <a:pt x="3249" y="16518"/>
                  </a:lnTo>
                  <a:lnTo>
                    <a:pt x="3610" y="16094"/>
                  </a:lnTo>
                  <a:lnTo>
                    <a:pt x="3791" y="16094"/>
                  </a:lnTo>
                  <a:lnTo>
                    <a:pt x="4332" y="15671"/>
                  </a:lnTo>
                  <a:lnTo>
                    <a:pt x="5054" y="15247"/>
                  </a:lnTo>
                  <a:lnTo>
                    <a:pt x="5957" y="14400"/>
                  </a:lnTo>
                  <a:lnTo>
                    <a:pt x="8273" y="12706"/>
                  </a:lnTo>
                  <a:lnTo>
                    <a:pt x="11161" y="11012"/>
                  </a:lnTo>
                  <a:lnTo>
                    <a:pt x="13869" y="8894"/>
                  </a:lnTo>
                  <a:lnTo>
                    <a:pt x="16365" y="7200"/>
                  </a:lnTo>
                  <a:lnTo>
                    <a:pt x="17268" y="6353"/>
                  </a:lnTo>
                  <a:lnTo>
                    <a:pt x="18170" y="5929"/>
                  </a:lnTo>
                  <a:lnTo>
                    <a:pt x="18712" y="5506"/>
                  </a:lnTo>
                  <a:lnTo>
                    <a:pt x="18892" y="5082"/>
                  </a:lnTo>
                  <a:lnTo>
                    <a:pt x="19073" y="4659"/>
                  </a:lnTo>
                  <a:lnTo>
                    <a:pt x="19614" y="4235"/>
                  </a:lnTo>
                  <a:lnTo>
                    <a:pt x="20878" y="2118"/>
                  </a:lnTo>
                  <a:lnTo>
                    <a:pt x="21419" y="1271"/>
                  </a:lnTo>
                  <a:lnTo>
                    <a:pt x="21600" y="424"/>
                  </a:lnTo>
                  <a:lnTo>
                    <a:pt x="21419" y="0"/>
                  </a:lnTo>
                  <a:lnTo>
                    <a:pt x="20697" y="0"/>
                  </a:lnTo>
                  <a:lnTo>
                    <a:pt x="18892" y="0"/>
                  </a:lnTo>
                  <a:lnTo>
                    <a:pt x="17448" y="0"/>
                  </a:lnTo>
                  <a:lnTo>
                    <a:pt x="16365" y="0"/>
                  </a:lnTo>
                  <a:lnTo>
                    <a:pt x="15463" y="1271"/>
                  </a:lnTo>
                  <a:lnTo>
                    <a:pt x="14591" y="2965"/>
                  </a:lnTo>
                  <a:lnTo>
                    <a:pt x="14049" y="3812"/>
                  </a:lnTo>
                  <a:lnTo>
                    <a:pt x="13508" y="4235"/>
                  </a:lnTo>
                  <a:lnTo>
                    <a:pt x="12786" y="4235"/>
                  </a:lnTo>
                  <a:lnTo>
                    <a:pt x="11703" y="4659"/>
                  </a:lnTo>
                  <a:lnTo>
                    <a:pt x="10439" y="5929"/>
                  </a:lnTo>
                  <a:lnTo>
                    <a:pt x="9356" y="7624"/>
                  </a:lnTo>
                  <a:lnTo>
                    <a:pt x="8634" y="8894"/>
                  </a:lnTo>
                  <a:lnTo>
                    <a:pt x="8273" y="9318"/>
                  </a:lnTo>
                  <a:lnTo>
                    <a:pt x="7731" y="9741"/>
                  </a:lnTo>
                  <a:lnTo>
                    <a:pt x="6648" y="9741"/>
                  </a:lnTo>
                  <a:lnTo>
                    <a:pt x="5596" y="9741"/>
                  </a:lnTo>
                  <a:lnTo>
                    <a:pt x="5415" y="9741"/>
                  </a:lnTo>
                  <a:lnTo>
                    <a:pt x="5235" y="9741"/>
                  </a:lnTo>
                  <a:lnTo>
                    <a:pt x="3430" y="11435"/>
                  </a:lnTo>
                  <a:lnTo>
                    <a:pt x="1444" y="15247"/>
                  </a:lnTo>
                  <a:close/>
                  <a:moveTo>
                    <a:pt x="1444" y="15247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12" name="AutoShape 9"/>
            <p:cNvSpPr/>
            <p:nvPr/>
          </p:nvSpPr>
          <p:spPr>
            <a:xfrm>
              <a:off x="7580160" y="4267440"/>
              <a:ext cx="5423040" cy="198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87" y="883"/>
                  </a:moveTo>
                  <a:lnTo>
                    <a:pt x="20462" y="1177"/>
                  </a:lnTo>
                  <a:lnTo>
                    <a:pt x="20146" y="1324"/>
                  </a:lnTo>
                  <a:lnTo>
                    <a:pt x="19875" y="1324"/>
                  </a:lnTo>
                  <a:lnTo>
                    <a:pt x="19821" y="1324"/>
                  </a:lnTo>
                  <a:lnTo>
                    <a:pt x="19767" y="1324"/>
                  </a:lnTo>
                  <a:lnTo>
                    <a:pt x="19659" y="1471"/>
                  </a:lnTo>
                  <a:lnTo>
                    <a:pt x="19388" y="1618"/>
                  </a:lnTo>
                  <a:lnTo>
                    <a:pt x="19008" y="1912"/>
                  </a:lnTo>
                  <a:lnTo>
                    <a:pt x="18575" y="2182"/>
                  </a:lnTo>
                  <a:lnTo>
                    <a:pt x="18250" y="2476"/>
                  </a:lnTo>
                  <a:lnTo>
                    <a:pt x="18033" y="2623"/>
                  </a:lnTo>
                  <a:lnTo>
                    <a:pt x="17816" y="2770"/>
                  </a:lnTo>
                  <a:lnTo>
                    <a:pt x="17663" y="2918"/>
                  </a:lnTo>
                  <a:lnTo>
                    <a:pt x="17392" y="3212"/>
                  </a:lnTo>
                  <a:lnTo>
                    <a:pt x="17121" y="3359"/>
                  </a:lnTo>
                  <a:lnTo>
                    <a:pt x="16796" y="4094"/>
                  </a:lnTo>
                  <a:lnTo>
                    <a:pt x="16633" y="4683"/>
                  </a:lnTo>
                  <a:lnTo>
                    <a:pt x="16579" y="5418"/>
                  </a:lnTo>
                  <a:lnTo>
                    <a:pt x="16579" y="6007"/>
                  </a:lnTo>
                  <a:lnTo>
                    <a:pt x="16633" y="6595"/>
                  </a:lnTo>
                  <a:lnTo>
                    <a:pt x="16633" y="7184"/>
                  </a:lnTo>
                  <a:lnTo>
                    <a:pt x="16633" y="7478"/>
                  </a:lnTo>
                  <a:lnTo>
                    <a:pt x="16471" y="7919"/>
                  </a:lnTo>
                  <a:lnTo>
                    <a:pt x="16200" y="8066"/>
                  </a:lnTo>
                  <a:lnTo>
                    <a:pt x="15875" y="7772"/>
                  </a:lnTo>
                  <a:lnTo>
                    <a:pt x="15496" y="7331"/>
                  </a:lnTo>
                  <a:lnTo>
                    <a:pt x="14963" y="6742"/>
                  </a:lnTo>
                  <a:lnTo>
                    <a:pt x="14421" y="6448"/>
                  </a:lnTo>
                  <a:lnTo>
                    <a:pt x="13933" y="6301"/>
                  </a:lnTo>
                  <a:lnTo>
                    <a:pt x="13717" y="6301"/>
                  </a:lnTo>
                  <a:lnTo>
                    <a:pt x="13608" y="6301"/>
                  </a:lnTo>
                  <a:lnTo>
                    <a:pt x="13446" y="6448"/>
                  </a:lnTo>
                  <a:lnTo>
                    <a:pt x="13175" y="6742"/>
                  </a:lnTo>
                  <a:lnTo>
                    <a:pt x="12633" y="7625"/>
                  </a:lnTo>
                  <a:lnTo>
                    <a:pt x="12425" y="8066"/>
                  </a:lnTo>
                  <a:lnTo>
                    <a:pt x="12209" y="8361"/>
                  </a:lnTo>
                  <a:lnTo>
                    <a:pt x="12046" y="8655"/>
                  </a:lnTo>
                  <a:lnTo>
                    <a:pt x="11992" y="8802"/>
                  </a:lnTo>
                  <a:lnTo>
                    <a:pt x="11938" y="8802"/>
                  </a:lnTo>
                  <a:lnTo>
                    <a:pt x="11829" y="8802"/>
                  </a:lnTo>
                  <a:lnTo>
                    <a:pt x="11613" y="8949"/>
                  </a:lnTo>
                  <a:lnTo>
                    <a:pt x="11396" y="8949"/>
                  </a:lnTo>
                  <a:lnTo>
                    <a:pt x="10963" y="9096"/>
                  </a:lnTo>
                  <a:lnTo>
                    <a:pt x="10800" y="9096"/>
                  </a:lnTo>
                  <a:lnTo>
                    <a:pt x="10637" y="8949"/>
                  </a:lnTo>
                  <a:lnTo>
                    <a:pt x="10475" y="8949"/>
                  </a:lnTo>
                  <a:lnTo>
                    <a:pt x="10204" y="8949"/>
                  </a:lnTo>
                  <a:lnTo>
                    <a:pt x="9888" y="8949"/>
                  </a:lnTo>
                  <a:lnTo>
                    <a:pt x="9509" y="9096"/>
                  </a:lnTo>
                  <a:lnTo>
                    <a:pt x="9184" y="9243"/>
                  </a:lnTo>
                  <a:lnTo>
                    <a:pt x="8859" y="9243"/>
                  </a:lnTo>
                  <a:lnTo>
                    <a:pt x="8642" y="9390"/>
                  </a:lnTo>
                  <a:lnTo>
                    <a:pt x="8533" y="9537"/>
                  </a:lnTo>
                  <a:lnTo>
                    <a:pt x="8479" y="9684"/>
                  </a:lnTo>
                  <a:lnTo>
                    <a:pt x="8317" y="9832"/>
                  </a:lnTo>
                  <a:lnTo>
                    <a:pt x="7937" y="9979"/>
                  </a:lnTo>
                  <a:lnTo>
                    <a:pt x="7558" y="10273"/>
                  </a:lnTo>
                  <a:lnTo>
                    <a:pt x="7396" y="10273"/>
                  </a:lnTo>
                  <a:lnTo>
                    <a:pt x="7296" y="10273"/>
                  </a:lnTo>
                  <a:lnTo>
                    <a:pt x="7188" y="10273"/>
                  </a:lnTo>
                  <a:lnTo>
                    <a:pt x="7025" y="10273"/>
                  </a:lnTo>
                  <a:lnTo>
                    <a:pt x="6809" y="10273"/>
                  </a:lnTo>
                  <a:lnTo>
                    <a:pt x="6538" y="10420"/>
                  </a:lnTo>
                  <a:lnTo>
                    <a:pt x="5996" y="10714"/>
                  </a:lnTo>
                  <a:lnTo>
                    <a:pt x="5779" y="11008"/>
                  </a:lnTo>
                  <a:lnTo>
                    <a:pt x="5563" y="11303"/>
                  </a:lnTo>
                  <a:lnTo>
                    <a:pt x="5400" y="11597"/>
                  </a:lnTo>
                  <a:lnTo>
                    <a:pt x="5237" y="11597"/>
                  </a:lnTo>
                  <a:lnTo>
                    <a:pt x="4858" y="11597"/>
                  </a:lnTo>
                  <a:lnTo>
                    <a:pt x="4542" y="11450"/>
                  </a:lnTo>
                  <a:lnTo>
                    <a:pt x="4163" y="11597"/>
                  </a:lnTo>
                  <a:lnTo>
                    <a:pt x="4000" y="11744"/>
                  </a:lnTo>
                  <a:lnTo>
                    <a:pt x="3892" y="12038"/>
                  </a:lnTo>
                  <a:lnTo>
                    <a:pt x="3838" y="12479"/>
                  </a:lnTo>
                  <a:lnTo>
                    <a:pt x="3784" y="13068"/>
                  </a:lnTo>
                  <a:lnTo>
                    <a:pt x="3729" y="13215"/>
                  </a:lnTo>
                  <a:lnTo>
                    <a:pt x="3675" y="13362"/>
                  </a:lnTo>
                  <a:lnTo>
                    <a:pt x="3513" y="13509"/>
                  </a:lnTo>
                  <a:lnTo>
                    <a:pt x="3133" y="13951"/>
                  </a:lnTo>
                  <a:lnTo>
                    <a:pt x="2700" y="14392"/>
                  </a:lnTo>
                  <a:lnTo>
                    <a:pt x="2321" y="14539"/>
                  </a:lnTo>
                  <a:lnTo>
                    <a:pt x="2005" y="14686"/>
                  </a:lnTo>
                  <a:lnTo>
                    <a:pt x="1625" y="15127"/>
                  </a:lnTo>
                  <a:lnTo>
                    <a:pt x="1355" y="15716"/>
                  </a:lnTo>
                  <a:lnTo>
                    <a:pt x="1246" y="15863"/>
                  </a:lnTo>
                  <a:lnTo>
                    <a:pt x="1192" y="16010"/>
                  </a:lnTo>
                  <a:lnTo>
                    <a:pt x="1138" y="16157"/>
                  </a:lnTo>
                  <a:lnTo>
                    <a:pt x="975" y="16157"/>
                  </a:lnTo>
                  <a:lnTo>
                    <a:pt x="867" y="16010"/>
                  </a:lnTo>
                  <a:lnTo>
                    <a:pt x="813" y="16010"/>
                  </a:lnTo>
                  <a:lnTo>
                    <a:pt x="0" y="16451"/>
                  </a:lnTo>
                  <a:lnTo>
                    <a:pt x="108" y="16893"/>
                  </a:lnTo>
                  <a:lnTo>
                    <a:pt x="379" y="17040"/>
                  </a:lnTo>
                  <a:lnTo>
                    <a:pt x="759" y="17040"/>
                  </a:lnTo>
                  <a:lnTo>
                    <a:pt x="1192" y="16746"/>
                  </a:lnTo>
                  <a:lnTo>
                    <a:pt x="1734" y="16451"/>
                  </a:lnTo>
                  <a:lnTo>
                    <a:pt x="2375" y="16010"/>
                  </a:lnTo>
                  <a:lnTo>
                    <a:pt x="3025" y="15422"/>
                  </a:lnTo>
                  <a:lnTo>
                    <a:pt x="3675" y="14686"/>
                  </a:lnTo>
                  <a:lnTo>
                    <a:pt x="4271" y="13951"/>
                  </a:lnTo>
                  <a:lnTo>
                    <a:pt x="4759" y="13362"/>
                  </a:lnTo>
                  <a:lnTo>
                    <a:pt x="5075" y="12921"/>
                  </a:lnTo>
                  <a:lnTo>
                    <a:pt x="5129" y="12774"/>
                  </a:lnTo>
                  <a:lnTo>
                    <a:pt x="5183" y="12774"/>
                  </a:lnTo>
                  <a:lnTo>
                    <a:pt x="5454" y="12774"/>
                  </a:lnTo>
                  <a:lnTo>
                    <a:pt x="5833" y="12627"/>
                  </a:lnTo>
                  <a:lnTo>
                    <a:pt x="6429" y="12185"/>
                  </a:lnTo>
                  <a:lnTo>
                    <a:pt x="7134" y="11744"/>
                  </a:lnTo>
                  <a:lnTo>
                    <a:pt x="7883" y="11303"/>
                  </a:lnTo>
                  <a:lnTo>
                    <a:pt x="8696" y="10861"/>
                  </a:lnTo>
                  <a:lnTo>
                    <a:pt x="9563" y="10567"/>
                  </a:lnTo>
                  <a:lnTo>
                    <a:pt x="10367" y="10420"/>
                  </a:lnTo>
                  <a:lnTo>
                    <a:pt x="10637" y="10420"/>
                  </a:lnTo>
                  <a:lnTo>
                    <a:pt x="10963" y="10714"/>
                  </a:lnTo>
                  <a:lnTo>
                    <a:pt x="11667" y="11303"/>
                  </a:lnTo>
                  <a:lnTo>
                    <a:pt x="12100" y="11744"/>
                  </a:lnTo>
                  <a:lnTo>
                    <a:pt x="12480" y="12332"/>
                  </a:lnTo>
                  <a:lnTo>
                    <a:pt x="12796" y="13068"/>
                  </a:lnTo>
                  <a:lnTo>
                    <a:pt x="13012" y="13803"/>
                  </a:lnTo>
                  <a:lnTo>
                    <a:pt x="13067" y="14392"/>
                  </a:lnTo>
                  <a:lnTo>
                    <a:pt x="12958" y="15127"/>
                  </a:lnTo>
                  <a:lnTo>
                    <a:pt x="12850" y="15422"/>
                  </a:lnTo>
                  <a:lnTo>
                    <a:pt x="12687" y="15716"/>
                  </a:lnTo>
                  <a:lnTo>
                    <a:pt x="12425" y="16010"/>
                  </a:lnTo>
                  <a:lnTo>
                    <a:pt x="12155" y="16304"/>
                  </a:lnTo>
                  <a:lnTo>
                    <a:pt x="11559" y="16746"/>
                  </a:lnTo>
                  <a:lnTo>
                    <a:pt x="11071" y="17187"/>
                  </a:lnTo>
                  <a:lnTo>
                    <a:pt x="10637" y="17628"/>
                  </a:lnTo>
                  <a:lnTo>
                    <a:pt x="10312" y="18217"/>
                  </a:lnTo>
                  <a:lnTo>
                    <a:pt x="10041" y="18511"/>
                  </a:lnTo>
                  <a:lnTo>
                    <a:pt x="9834" y="18952"/>
                  </a:lnTo>
                  <a:lnTo>
                    <a:pt x="9725" y="19393"/>
                  </a:lnTo>
                  <a:lnTo>
                    <a:pt x="9617" y="19835"/>
                  </a:lnTo>
                  <a:lnTo>
                    <a:pt x="9563" y="20423"/>
                  </a:lnTo>
                  <a:lnTo>
                    <a:pt x="9617" y="21012"/>
                  </a:lnTo>
                  <a:lnTo>
                    <a:pt x="9725" y="21306"/>
                  </a:lnTo>
                  <a:lnTo>
                    <a:pt x="9780" y="21453"/>
                  </a:lnTo>
                  <a:lnTo>
                    <a:pt x="9834" y="21600"/>
                  </a:lnTo>
                  <a:lnTo>
                    <a:pt x="9987" y="21600"/>
                  </a:lnTo>
                  <a:lnTo>
                    <a:pt x="10150" y="21453"/>
                  </a:lnTo>
                  <a:lnTo>
                    <a:pt x="10367" y="21453"/>
                  </a:lnTo>
                  <a:lnTo>
                    <a:pt x="10908" y="21306"/>
                  </a:lnTo>
                  <a:lnTo>
                    <a:pt x="11450" y="21159"/>
                  </a:lnTo>
                  <a:lnTo>
                    <a:pt x="11992" y="21159"/>
                  </a:lnTo>
                  <a:lnTo>
                    <a:pt x="12534" y="21012"/>
                  </a:lnTo>
                  <a:lnTo>
                    <a:pt x="12741" y="21012"/>
                  </a:lnTo>
                  <a:lnTo>
                    <a:pt x="12904" y="20864"/>
                  </a:lnTo>
                  <a:lnTo>
                    <a:pt x="13012" y="20864"/>
                  </a:lnTo>
                  <a:lnTo>
                    <a:pt x="13067" y="20864"/>
                  </a:lnTo>
                  <a:lnTo>
                    <a:pt x="13175" y="20717"/>
                  </a:lnTo>
                  <a:lnTo>
                    <a:pt x="13392" y="20423"/>
                  </a:lnTo>
                  <a:lnTo>
                    <a:pt x="13771" y="19982"/>
                  </a:lnTo>
                  <a:lnTo>
                    <a:pt x="14204" y="19393"/>
                  </a:lnTo>
                  <a:lnTo>
                    <a:pt x="15125" y="18217"/>
                  </a:lnTo>
                  <a:lnTo>
                    <a:pt x="15496" y="17775"/>
                  </a:lnTo>
                  <a:lnTo>
                    <a:pt x="15821" y="17481"/>
                  </a:lnTo>
                  <a:lnTo>
                    <a:pt x="16308" y="16893"/>
                  </a:lnTo>
                  <a:lnTo>
                    <a:pt x="16633" y="16010"/>
                  </a:lnTo>
                  <a:lnTo>
                    <a:pt x="16850" y="14980"/>
                  </a:lnTo>
                  <a:lnTo>
                    <a:pt x="17013" y="14245"/>
                  </a:lnTo>
                  <a:lnTo>
                    <a:pt x="17392" y="12627"/>
                  </a:lnTo>
                  <a:lnTo>
                    <a:pt x="17871" y="11008"/>
                  </a:lnTo>
                  <a:lnTo>
                    <a:pt x="18412" y="9537"/>
                  </a:lnTo>
                  <a:lnTo>
                    <a:pt x="19008" y="8361"/>
                  </a:lnTo>
                  <a:lnTo>
                    <a:pt x="19496" y="7331"/>
                  </a:lnTo>
                  <a:lnTo>
                    <a:pt x="19929" y="6595"/>
                  </a:lnTo>
                  <a:lnTo>
                    <a:pt x="20200" y="6007"/>
                  </a:lnTo>
                  <a:lnTo>
                    <a:pt x="20309" y="5860"/>
                  </a:lnTo>
                  <a:lnTo>
                    <a:pt x="21600" y="4094"/>
                  </a:lnTo>
                  <a:lnTo>
                    <a:pt x="21600" y="1471"/>
                  </a:lnTo>
                  <a:lnTo>
                    <a:pt x="21600" y="0"/>
                  </a:lnTo>
                  <a:lnTo>
                    <a:pt x="21167" y="441"/>
                  </a:lnTo>
                  <a:lnTo>
                    <a:pt x="20787" y="883"/>
                  </a:lnTo>
                  <a:close/>
                  <a:moveTo>
                    <a:pt x="20787" y="883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13" name="AutoShape 10"/>
            <p:cNvSpPr/>
            <p:nvPr/>
          </p:nvSpPr>
          <p:spPr>
            <a:xfrm>
              <a:off x="8666280" y="4184640"/>
              <a:ext cx="1303200" cy="58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8" y="20591"/>
                  </a:moveTo>
                  <a:lnTo>
                    <a:pt x="707" y="21096"/>
                  </a:lnTo>
                  <a:lnTo>
                    <a:pt x="236" y="21600"/>
                  </a:lnTo>
                  <a:lnTo>
                    <a:pt x="0" y="21600"/>
                  </a:lnTo>
                  <a:lnTo>
                    <a:pt x="11978" y="9497"/>
                  </a:lnTo>
                  <a:lnTo>
                    <a:pt x="20422" y="0"/>
                  </a:lnTo>
                  <a:lnTo>
                    <a:pt x="20657" y="504"/>
                  </a:lnTo>
                  <a:lnTo>
                    <a:pt x="21364" y="1513"/>
                  </a:lnTo>
                  <a:lnTo>
                    <a:pt x="21600" y="2017"/>
                  </a:lnTo>
                  <a:lnTo>
                    <a:pt x="21600" y="3026"/>
                  </a:lnTo>
                  <a:lnTo>
                    <a:pt x="21364" y="3530"/>
                  </a:lnTo>
                  <a:lnTo>
                    <a:pt x="20657" y="4539"/>
                  </a:lnTo>
                  <a:lnTo>
                    <a:pt x="20186" y="5043"/>
                  </a:lnTo>
                  <a:lnTo>
                    <a:pt x="19715" y="5547"/>
                  </a:lnTo>
                  <a:lnTo>
                    <a:pt x="17594" y="7060"/>
                  </a:lnTo>
                  <a:lnTo>
                    <a:pt x="15002" y="9497"/>
                  </a:lnTo>
                  <a:lnTo>
                    <a:pt x="11978" y="12019"/>
                  </a:lnTo>
                  <a:lnTo>
                    <a:pt x="8915" y="14540"/>
                  </a:lnTo>
                  <a:lnTo>
                    <a:pt x="5852" y="17061"/>
                  </a:lnTo>
                  <a:lnTo>
                    <a:pt x="3260" y="19079"/>
                  </a:lnTo>
                  <a:lnTo>
                    <a:pt x="1178" y="20591"/>
                  </a:lnTo>
                  <a:close/>
                  <a:moveTo>
                    <a:pt x="1178" y="20591"/>
                  </a:move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14" name="Freeform 11"/>
            <p:cNvSpPr/>
            <p:nvPr/>
          </p:nvSpPr>
          <p:spPr>
            <a:xfrm>
              <a:off x="8666280" y="3898800"/>
              <a:ext cx="1617480" cy="86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880" y="338"/>
                  </a:moveTo>
                  <a:lnTo>
                    <a:pt x="17739" y="2369"/>
                  </a:lnTo>
                  <a:lnTo>
                    <a:pt x="15536" y="4737"/>
                  </a:lnTo>
                  <a:lnTo>
                    <a:pt x="15355" y="5076"/>
                  </a:lnTo>
                  <a:lnTo>
                    <a:pt x="14631" y="5752"/>
                  </a:lnTo>
                  <a:lnTo>
                    <a:pt x="13726" y="6768"/>
                  </a:lnTo>
                  <a:lnTo>
                    <a:pt x="12821" y="7783"/>
                  </a:lnTo>
                  <a:lnTo>
                    <a:pt x="11192" y="9475"/>
                  </a:lnTo>
                  <a:lnTo>
                    <a:pt x="9231" y="11167"/>
                  </a:lnTo>
                  <a:lnTo>
                    <a:pt x="5611" y="14156"/>
                  </a:lnTo>
                  <a:lnTo>
                    <a:pt x="3952" y="15171"/>
                  </a:lnTo>
                  <a:lnTo>
                    <a:pt x="2685" y="16186"/>
                  </a:lnTo>
                  <a:lnTo>
                    <a:pt x="1599" y="17201"/>
                  </a:lnTo>
                  <a:lnTo>
                    <a:pt x="1086" y="17539"/>
                  </a:lnTo>
                  <a:lnTo>
                    <a:pt x="362" y="18555"/>
                  </a:lnTo>
                  <a:lnTo>
                    <a:pt x="0" y="19908"/>
                  </a:lnTo>
                  <a:lnTo>
                    <a:pt x="0" y="20923"/>
                  </a:lnTo>
                  <a:lnTo>
                    <a:pt x="0" y="21600"/>
                  </a:lnTo>
                  <a:lnTo>
                    <a:pt x="362" y="20923"/>
                  </a:lnTo>
                  <a:lnTo>
                    <a:pt x="905" y="19908"/>
                  </a:lnTo>
                  <a:lnTo>
                    <a:pt x="1599" y="18893"/>
                  </a:lnTo>
                  <a:lnTo>
                    <a:pt x="2323" y="17878"/>
                  </a:lnTo>
                  <a:lnTo>
                    <a:pt x="3047" y="17539"/>
                  </a:lnTo>
                  <a:lnTo>
                    <a:pt x="3952" y="16863"/>
                  </a:lnTo>
                  <a:lnTo>
                    <a:pt x="6154" y="15171"/>
                  </a:lnTo>
                  <a:lnTo>
                    <a:pt x="7240" y="14156"/>
                  </a:lnTo>
                  <a:lnTo>
                    <a:pt x="8145" y="13479"/>
                  </a:lnTo>
                  <a:lnTo>
                    <a:pt x="8869" y="12858"/>
                  </a:lnTo>
                  <a:lnTo>
                    <a:pt x="9412" y="12520"/>
                  </a:lnTo>
                  <a:lnTo>
                    <a:pt x="9955" y="11843"/>
                  </a:lnTo>
                  <a:lnTo>
                    <a:pt x="11011" y="10490"/>
                  </a:lnTo>
                  <a:lnTo>
                    <a:pt x="12640" y="8798"/>
                  </a:lnTo>
                  <a:lnTo>
                    <a:pt x="14269" y="6768"/>
                  </a:lnTo>
                  <a:lnTo>
                    <a:pt x="15898" y="5076"/>
                  </a:lnTo>
                  <a:lnTo>
                    <a:pt x="17377" y="3384"/>
                  </a:lnTo>
                  <a:lnTo>
                    <a:pt x="18463" y="2369"/>
                  </a:lnTo>
                  <a:lnTo>
                    <a:pt x="18975" y="2030"/>
                  </a:lnTo>
                  <a:lnTo>
                    <a:pt x="19518" y="1692"/>
                  </a:lnTo>
                  <a:lnTo>
                    <a:pt x="20423" y="1015"/>
                  </a:lnTo>
                  <a:lnTo>
                    <a:pt x="21147" y="338"/>
                  </a:lnTo>
                  <a:lnTo>
                    <a:pt x="21509" y="0"/>
                  </a:lnTo>
                  <a:lnTo>
                    <a:pt x="19880" y="338"/>
                  </a:lnTo>
                  <a:lnTo>
                    <a:pt x="21600" y="355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15" name="Freeform 12"/>
            <p:cNvSpPr/>
            <p:nvPr/>
          </p:nvSpPr>
          <p:spPr>
            <a:xfrm>
              <a:off x="7794720" y="5126040"/>
              <a:ext cx="718920" cy="5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8" y="21600"/>
                  </a:moveTo>
                  <a:lnTo>
                    <a:pt x="0" y="18720"/>
                  </a:lnTo>
                  <a:lnTo>
                    <a:pt x="21396" y="0"/>
                  </a:lnTo>
                  <a:lnTo>
                    <a:pt x="20581" y="2592"/>
                  </a:lnTo>
                  <a:lnTo>
                    <a:pt x="21600" y="403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16" name="AutoShape 13"/>
            <p:cNvSpPr/>
            <p:nvPr/>
          </p:nvSpPr>
          <p:spPr>
            <a:xfrm>
              <a:off x="0" y="6000840"/>
              <a:ext cx="5857920" cy="2106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166" y="15627"/>
                  </a:moveTo>
                  <a:lnTo>
                    <a:pt x="8740" y="15210"/>
                  </a:lnTo>
                  <a:lnTo>
                    <a:pt x="9514" y="15071"/>
                  </a:lnTo>
                  <a:lnTo>
                    <a:pt x="13160" y="15974"/>
                  </a:lnTo>
                  <a:lnTo>
                    <a:pt x="13509" y="17086"/>
                  </a:lnTo>
                  <a:lnTo>
                    <a:pt x="13909" y="16738"/>
                  </a:lnTo>
                  <a:lnTo>
                    <a:pt x="13784" y="15627"/>
                  </a:lnTo>
                  <a:lnTo>
                    <a:pt x="9789" y="14377"/>
                  </a:lnTo>
                  <a:lnTo>
                    <a:pt x="14958" y="12363"/>
                  </a:lnTo>
                  <a:lnTo>
                    <a:pt x="15432" y="13127"/>
                  </a:lnTo>
                  <a:lnTo>
                    <a:pt x="15657" y="13543"/>
                  </a:lnTo>
                  <a:lnTo>
                    <a:pt x="15557" y="14168"/>
                  </a:lnTo>
                  <a:lnTo>
                    <a:pt x="16606" y="19725"/>
                  </a:lnTo>
                  <a:lnTo>
                    <a:pt x="17505" y="19933"/>
                  </a:lnTo>
                  <a:lnTo>
                    <a:pt x="15723" y="12455"/>
                  </a:lnTo>
                  <a:lnTo>
                    <a:pt x="15674" y="12039"/>
                  </a:lnTo>
                  <a:lnTo>
                    <a:pt x="15582" y="11761"/>
                  </a:lnTo>
                  <a:lnTo>
                    <a:pt x="15332" y="11344"/>
                  </a:lnTo>
                  <a:lnTo>
                    <a:pt x="15033" y="11066"/>
                  </a:lnTo>
                  <a:lnTo>
                    <a:pt x="14733" y="10788"/>
                  </a:lnTo>
                  <a:lnTo>
                    <a:pt x="14583" y="10511"/>
                  </a:lnTo>
                  <a:lnTo>
                    <a:pt x="14483" y="10372"/>
                  </a:lnTo>
                  <a:lnTo>
                    <a:pt x="14533" y="10094"/>
                  </a:lnTo>
                  <a:lnTo>
                    <a:pt x="14633" y="10094"/>
                  </a:lnTo>
                  <a:lnTo>
                    <a:pt x="14833" y="9955"/>
                  </a:lnTo>
                  <a:lnTo>
                    <a:pt x="15232" y="9955"/>
                  </a:lnTo>
                  <a:lnTo>
                    <a:pt x="15432" y="9955"/>
                  </a:lnTo>
                  <a:lnTo>
                    <a:pt x="15624" y="9816"/>
                  </a:lnTo>
                  <a:lnTo>
                    <a:pt x="16023" y="9260"/>
                  </a:lnTo>
                  <a:lnTo>
                    <a:pt x="16273" y="9122"/>
                  </a:lnTo>
                  <a:lnTo>
                    <a:pt x="16473" y="9122"/>
                  </a:lnTo>
                  <a:lnTo>
                    <a:pt x="17080" y="9168"/>
                  </a:lnTo>
                  <a:lnTo>
                    <a:pt x="17030" y="10557"/>
                  </a:lnTo>
                  <a:lnTo>
                    <a:pt x="18753" y="16947"/>
                  </a:lnTo>
                  <a:lnTo>
                    <a:pt x="19428" y="18891"/>
                  </a:lnTo>
                  <a:lnTo>
                    <a:pt x="20102" y="21600"/>
                  </a:lnTo>
                  <a:lnTo>
                    <a:pt x="20227" y="21044"/>
                  </a:lnTo>
                  <a:lnTo>
                    <a:pt x="19952" y="19169"/>
                  </a:lnTo>
                  <a:lnTo>
                    <a:pt x="17430" y="9538"/>
                  </a:lnTo>
                  <a:lnTo>
                    <a:pt x="17380" y="9260"/>
                  </a:lnTo>
                  <a:lnTo>
                    <a:pt x="17280" y="8705"/>
                  </a:lnTo>
                  <a:lnTo>
                    <a:pt x="17030" y="8010"/>
                  </a:lnTo>
                  <a:lnTo>
                    <a:pt x="16772" y="7455"/>
                  </a:lnTo>
                  <a:lnTo>
                    <a:pt x="16622" y="7038"/>
                  </a:lnTo>
                  <a:lnTo>
                    <a:pt x="16473" y="6760"/>
                  </a:lnTo>
                  <a:lnTo>
                    <a:pt x="16373" y="6621"/>
                  </a:lnTo>
                  <a:lnTo>
                    <a:pt x="16423" y="6621"/>
                  </a:lnTo>
                  <a:lnTo>
                    <a:pt x="16523" y="6621"/>
                  </a:lnTo>
                  <a:lnTo>
                    <a:pt x="16722" y="6621"/>
                  </a:lnTo>
                  <a:lnTo>
                    <a:pt x="16980" y="6899"/>
                  </a:lnTo>
                  <a:lnTo>
                    <a:pt x="17330" y="7455"/>
                  </a:lnTo>
                  <a:lnTo>
                    <a:pt x="17680" y="8057"/>
                  </a:lnTo>
                  <a:lnTo>
                    <a:pt x="18304" y="8890"/>
                  </a:lnTo>
                  <a:lnTo>
                    <a:pt x="19353" y="9862"/>
                  </a:lnTo>
                  <a:lnTo>
                    <a:pt x="19927" y="10372"/>
                  </a:lnTo>
                  <a:lnTo>
                    <a:pt x="21001" y="12085"/>
                  </a:lnTo>
                  <a:lnTo>
                    <a:pt x="21600" y="11946"/>
                  </a:lnTo>
                  <a:lnTo>
                    <a:pt x="20326" y="10511"/>
                  </a:lnTo>
                  <a:lnTo>
                    <a:pt x="19877" y="9816"/>
                  </a:lnTo>
                  <a:lnTo>
                    <a:pt x="19369" y="8983"/>
                  </a:lnTo>
                  <a:lnTo>
                    <a:pt x="18470" y="7871"/>
                  </a:lnTo>
                  <a:lnTo>
                    <a:pt x="17530" y="6760"/>
                  </a:lnTo>
                  <a:lnTo>
                    <a:pt x="17080" y="6482"/>
                  </a:lnTo>
                  <a:lnTo>
                    <a:pt x="16672" y="6205"/>
                  </a:lnTo>
                  <a:lnTo>
                    <a:pt x="16273" y="6066"/>
                  </a:lnTo>
                  <a:lnTo>
                    <a:pt x="15973" y="6205"/>
                  </a:lnTo>
                  <a:lnTo>
                    <a:pt x="15624" y="6343"/>
                  </a:lnTo>
                  <a:lnTo>
                    <a:pt x="15083" y="6343"/>
                  </a:lnTo>
                  <a:lnTo>
                    <a:pt x="14583" y="6343"/>
                  </a:lnTo>
                  <a:lnTo>
                    <a:pt x="14175" y="6621"/>
                  </a:lnTo>
                  <a:lnTo>
                    <a:pt x="13826" y="6760"/>
                  </a:lnTo>
                  <a:lnTo>
                    <a:pt x="13576" y="7038"/>
                  </a:lnTo>
                  <a:lnTo>
                    <a:pt x="13376" y="7316"/>
                  </a:lnTo>
                  <a:lnTo>
                    <a:pt x="13276" y="7455"/>
                  </a:lnTo>
                  <a:lnTo>
                    <a:pt x="13226" y="7455"/>
                  </a:lnTo>
                  <a:lnTo>
                    <a:pt x="12486" y="7732"/>
                  </a:lnTo>
                  <a:lnTo>
                    <a:pt x="11728" y="8288"/>
                  </a:lnTo>
                  <a:lnTo>
                    <a:pt x="10288" y="9677"/>
                  </a:lnTo>
                  <a:lnTo>
                    <a:pt x="9589" y="10233"/>
                  </a:lnTo>
                  <a:lnTo>
                    <a:pt x="8831" y="10650"/>
                  </a:lnTo>
                  <a:lnTo>
                    <a:pt x="8041" y="10650"/>
                  </a:lnTo>
                  <a:lnTo>
                    <a:pt x="7641" y="10511"/>
                  </a:lnTo>
                  <a:lnTo>
                    <a:pt x="7242" y="10233"/>
                  </a:lnTo>
                  <a:lnTo>
                    <a:pt x="7142" y="10094"/>
                  </a:lnTo>
                  <a:lnTo>
                    <a:pt x="6892" y="9955"/>
                  </a:lnTo>
                  <a:lnTo>
                    <a:pt x="6584" y="9538"/>
                  </a:lnTo>
                  <a:lnTo>
                    <a:pt x="6185" y="8983"/>
                  </a:lnTo>
                  <a:lnTo>
                    <a:pt x="5743" y="8427"/>
                  </a:lnTo>
                  <a:lnTo>
                    <a:pt x="5294" y="7732"/>
                  </a:lnTo>
                  <a:lnTo>
                    <a:pt x="4287" y="6482"/>
                  </a:lnTo>
                  <a:lnTo>
                    <a:pt x="3887" y="5927"/>
                  </a:lnTo>
                  <a:lnTo>
                    <a:pt x="3687" y="5649"/>
                  </a:lnTo>
                  <a:lnTo>
                    <a:pt x="0" y="0"/>
                  </a:lnTo>
                  <a:lnTo>
                    <a:pt x="1024" y="2778"/>
                  </a:lnTo>
                  <a:lnTo>
                    <a:pt x="4869" y="9029"/>
                  </a:lnTo>
                  <a:lnTo>
                    <a:pt x="5893" y="10696"/>
                  </a:lnTo>
                  <a:lnTo>
                    <a:pt x="7067" y="12571"/>
                  </a:lnTo>
                  <a:lnTo>
                    <a:pt x="7342" y="13057"/>
                  </a:lnTo>
                  <a:lnTo>
                    <a:pt x="7466" y="14377"/>
                  </a:lnTo>
                  <a:lnTo>
                    <a:pt x="8166" y="15627"/>
                  </a:lnTo>
                  <a:close/>
                  <a:moveTo>
                    <a:pt x="8166" y="15627"/>
                  </a:move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17" name="AutoShape 14"/>
            <p:cNvSpPr/>
            <p:nvPr/>
          </p:nvSpPr>
          <p:spPr>
            <a:xfrm>
              <a:off x="0" y="6759720"/>
              <a:ext cx="6146640" cy="246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5920"/>
                  </a:moveTo>
                  <a:lnTo>
                    <a:pt x="21537" y="4752"/>
                  </a:lnTo>
                  <a:lnTo>
                    <a:pt x="21069" y="3861"/>
                  </a:lnTo>
                  <a:lnTo>
                    <a:pt x="18800" y="1425"/>
                  </a:lnTo>
                  <a:lnTo>
                    <a:pt x="18268" y="1069"/>
                  </a:lnTo>
                  <a:lnTo>
                    <a:pt x="20505" y="3682"/>
                  </a:lnTo>
                  <a:lnTo>
                    <a:pt x="20553" y="3801"/>
                  </a:lnTo>
                  <a:lnTo>
                    <a:pt x="20601" y="3920"/>
                  </a:lnTo>
                  <a:lnTo>
                    <a:pt x="20791" y="4514"/>
                  </a:lnTo>
                  <a:lnTo>
                    <a:pt x="20934" y="5108"/>
                  </a:lnTo>
                  <a:lnTo>
                    <a:pt x="20989" y="5346"/>
                  </a:lnTo>
                  <a:lnTo>
                    <a:pt x="20934" y="5464"/>
                  </a:lnTo>
                  <a:lnTo>
                    <a:pt x="20648" y="5583"/>
                  </a:lnTo>
                  <a:lnTo>
                    <a:pt x="20267" y="5583"/>
                  </a:lnTo>
                  <a:lnTo>
                    <a:pt x="19887" y="5464"/>
                  </a:lnTo>
                  <a:lnTo>
                    <a:pt x="19458" y="5227"/>
                  </a:lnTo>
                  <a:lnTo>
                    <a:pt x="18990" y="4870"/>
                  </a:lnTo>
                  <a:lnTo>
                    <a:pt x="18562" y="4395"/>
                  </a:lnTo>
                  <a:lnTo>
                    <a:pt x="18411" y="4276"/>
                  </a:lnTo>
                  <a:lnTo>
                    <a:pt x="18221" y="4039"/>
                  </a:lnTo>
                  <a:lnTo>
                    <a:pt x="17221" y="2495"/>
                  </a:lnTo>
                  <a:lnTo>
                    <a:pt x="17174" y="2376"/>
                  </a:lnTo>
                  <a:lnTo>
                    <a:pt x="17086" y="2019"/>
                  </a:lnTo>
                  <a:lnTo>
                    <a:pt x="16753" y="1307"/>
                  </a:lnTo>
                  <a:lnTo>
                    <a:pt x="16373" y="475"/>
                  </a:lnTo>
                  <a:lnTo>
                    <a:pt x="16230" y="119"/>
                  </a:lnTo>
                  <a:lnTo>
                    <a:pt x="16135" y="0"/>
                  </a:lnTo>
                  <a:lnTo>
                    <a:pt x="16563" y="1425"/>
                  </a:lnTo>
                  <a:lnTo>
                    <a:pt x="16706" y="2138"/>
                  </a:lnTo>
                  <a:lnTo>
                    <a:pt x="16706" y="2257"/>
                  </a:lnTo>
                  <a:lnTo>
                    <a:pt x="16753" y="2257"/>
                  </a:lnTo>
                  <a:lnTo>
                    <a:pt x="19085" y="10216"/>
                  </a:lnTo>
                  <a:lnTo>
                    <a:pt x="19133" y="10572"/>
                  </a:lnTo>
                  <a:lnTo>
                    <a:pt x="19133" y="10929"/>
                  </a:lnTo>
                  <a:lnTo>
                    <a:pt x="18990" y="11404"/>
                  </a:lnTo>
                  <a:lnTo>
                    <a:pt x="18752" y="11641"/>
                  </a:lnTo>
                  <a:lnTo>
                    <a:pt x="18411" y="11641"/>
                  </a:lnTo>
                  <a:lnTo>
                    <a:pt x="18078" y="11166"/>
                  </a:lnTo>
                  <a:lnTo>
                    <a:pt x="17745" y="10572"/>
                  </a:lnTo>
                  <a:lnTo>
                    <a:pt x="17459" y="9978"/>
                  </a:lnTo>
                  <a:lnTo>
                    <a:pt x="17412" y="9860"/>
                  </a:lnTo>
                  <a:lnTo>
                    <a:pt x="17364" y="9741"/>
                  </a:lnTo>
                  <a:lnTo>
                    <a:pt x="17221" y="9147"/>
                  </a:lnTo>
                  <a:lnTo>
                    <a:pt x="16991" y="8315"/>
                  </a:lnTo>
                  <a:lnTo>
                    <a:pt x="16658" y="7484"/>
                  </a:lnTo>
                  <a:lnTo>
                    <a:pt x="16325" y="6533"/>
                  </a:lnTo>
                  <a:lnTo>
                    <a:pt x="16182" y="6296"/>
                  </a:lnTo>
                  <a:lnTo>
                    <a:pt x="16087" y="5940"/>
                  </a:lnTo>
                  <a:lnTo>
                    <a:pt x="15936" y="5227"/>
                  </a:lnTo>
                  <a:lnTo>
                    <a:pt x="15793" y="4633"/>
                  </a:lnTo>
                  <a:lnTo>
                    <a:pt x="15746" y="4158"/>
                  </a:lnTo>
                  <a:lnTo>
                    <a:pt x="15651" y="3801"/>
                  </a:lnTo>
                  <a:lnTo>
                    <a:pt x="15603" y="3564"/>
                  </a:lnTo>
                  <a:lnTo>
                    <a:pt x="15460" y="3445"/>
                  </a:lnTo>
                  <a:lnTo>
                    <a:pt x="15127" y="3089"/>
                  </a:lnTo>
                  <a:lnTo>
                    <a:pt x="14754" y="2732"/>
                  </a:lnTo>
                  <a:lnTo>
                    <a:pt x="14564" y="2613"/>
                  </a:lnTo>
                  <a:lnTo>
                    <a:pt x="14469" y="2613"/>
                  </a:lnTo>
                  <a:lnTo>
                    <a:pt x="14326" y="2613"/>
                  </a:lnTo>
                  <a:lnTo>
                    <a:pt x="14278" y="2732"/>
                  </a:lnTo>
                  <a:lnTo>
                    <a:pt x="14231" y="2851"/>
                  </a:lnTo>
                  <a:lnTo>
                    <a:pt x="14612" y="3089"/>
                  </a:lnTo>
                  <a:lnTo>
                    <a:pt x="14850" y="3564"/>
                  </a:lnTo>
                  <a:lnTo>
                    <a:pt x="14984" y="4039"/>
                  </a:lnTo>
                  <a:lnTo>
                    <a:pt x="15032" y="4395"/>
                  </a:lnTo>
                  <a:lnTo>
                    <a:pt x="14984" y="4752"/>
                  </a:lnTo>
                  <a:lnTo>
                    <a:pt x="15080" y="5346"/>
                  </a:lnTo>
                  <a:lnTo>
                    <a:pt x="15222" y="6296"/>
                  </a:lnTo>
                  <a:lnTo>
                    <a:pt x="15413" y="7246"/>
                  </a:lnTo>
                  <a:lnTo>
                    <a:pt x="15793" y="9503"/>
                  </a:lnTo>
                  <a:lnTo>
                    <a:pt x="16031" y="10572"/>
                  </a:lnTo>
                  <a:lnTo>
                    <a:pt x="16182" y="11523"/>
                  </a:lnTo>
                  <a:lnTo>
                    <a:pt x="16373" y="12473"/>
                  </a:lnTo>
                  <a:lnTo>
                    <a:pt x="16468" y="13186"/>
                  </a:lnTo>
                  <a:lnTo>
                    <a:pt x="16515" y="13522"/>
                  </a:lnTo>
                  <a:lnTo>
                    <a:pt x="16420" y="13760"/>
                  </a:lnTo>
                  <a:lnTo>
                    <a:pt x="16277" y="13760"/>
                  </a:lnTo>
                  <a:lnTo>
                    <a:pt x="16031" y="13760"/>
                  </a:lnTo>
                  <a:lnTo>
                    <a:pt x="15841" y="13760"/>
                  </a:lnTo>
                  <a:lnTo>
                    <a:pt x="15651" y="13641"/>
                  </a:lnTo>
                  <a:lnTo>
                    <a:pt x="15508" y="13522"/>
                  </a:lnTo>
                  <a:lnTo>
                    <a:pt x="15460" y="13522"/>
                  </a:lnTo>
                  <a:lnTo>
                    <a:pt x="15460" y="13403"/>
                  </a:lnTo>
                  <a:lnTo>
                    <a:pt x="15413" y="13304"/>
                  </a:lnTo>
                  <a:lnTo>
                    <a:pt x="15175" y="12592"/>
                  </a:lnTo>
                  <a:lnTo>
                    <a:pt x="14326" y="6415"/>
                  </a:lnTo>
                  <a:lnTo>
                    <a:pt x="14088" y="6533"/>
                  </a:lnTo>
                  <a:lnTo>
                    <a:pt x="13850" y="6533"/>
                  </a:lnTo>
                  <a:lnTo>
                    <a:pt x="13509" y="6177"/>
                  </a:lnTo>
                  <a:lnTo>
                    <a:pt x="13271" y="5702"/>
                  </a:lnTo>
                  <a:lnTo>
                    <a:pt x="13223" y="5464"/>
                  </a:lnTo>
                  <a:lnTo>
                    <a:pt x="13128" y="5346"/>
                  </a:lnTo>
                  <a:lnTo>
                    <a:pt x="12985" y="5464"/>
                  </a:lnTo>
                  <a:lnTo>
                    <a:pt x="12938" y="5702"/>
                  </a:lnTo>
                  <a:lnTo>
                    <a:pt x="12890" y="6058"/>
                  </a:lnTo>
                  <a:lnTo>
                    <a:pt x="12890" y="6177"/>
                  </a:lnTo>
                  <a:lnTo>
                    <a:pt x="13033" y="6296"/>
                  </a:lnTo>
                  <a:lnTo>
                    <a:pt x="13128" y="6652"/>
                  </a:lnTo>
                  <a:lnTo>
                    <a:pt x="13223" y="7246"/>
                  </a:lnTo>
                  <a:lnTo>
                    <a:pt x="13271" y="7959"/>
                  </a:lnTo>
                  <a:lnTo>
                    <a:pt x="13271" y="8078"/>
                  </a:lnTo>
                  <a:lnTo>
                    <a:pt x="13271" y="8197"/>
                  </a:lnTo>
                  <a:lnTo>
                    <a:pt x="13612" y="15067"/>
                  </a:lnTo>
                  <a:lnTo>
                    <a:pt x="13612" y="15304"/>
                  </a:lnTo>
                  <a:lnTo>
                    <a:pt x="13612" y="15423"/>
                  </a:lnTo>
                  <a:lnTo>
                    <a:pt x="13557" y="15304"/>
                  </a:lnTo>
                  <a:lnTo>
                    <a:pt x="13509" y="14948"/>
                  </a:lnTo>
                  <a:lnTo>
                    <a:pt x="13461" y="14829"/>
                  </a:lnTo>
                  <a:lnTo>
                    <a:pt x="13414" y="14591"/>
                  </a:lnTo>
                  <a:lnTo>
                    <a:pt x="13319" y="14116"/>
                  </a:lnTo>
                  <a:lnTo>
                    <a:pt x="13176" y="13304"/>
                  </a:lnTo>
                  <a:lnTo>
                    <a:pt x="13033" y="12473"/>
                  </a:lnTo>
                  <a:lnTo>
                    <a:pt x="12795" y="11523"/>
                  </a:lnTo>
                  <a:lnTo>
                    <a:pt x="12605" y="10691"/>
                  </a:lnTo>
                  <a:lnTo>
                    <a:pt x="12375" y="10097"/>
                  </a:lnTo>
                  <a:lnTo>
                    <a:pt x="12184" y="9741"/>
                  </a:lnTo>
                  <a:lnTo>
                    <a:pt x="11851" y="9503"/>
                  </a:lnTo>
                  <a:lnTo>
                    <a:pt x="11470" y="9503"/>
                  </a:lnTo>
                  <a:lnTo>
                    <a:pt x="11082" y="9622"/>
                  </a:lnTo>
                  <a:lnTo>
                    <a:pt x="10701" y="9860"/>
                  </a:lnTo>
                  <a:lnTo>
                    <a:pt x="9900" y="10454"/>
                  </a:lnTo>
                  <a:lnTo>
                    <a:pt x="9186" y="11285"/>
                  </a:lnTo>
                  <a:lnTo>
                    <a:pt x="8757" y="11879"/>
                  </a:lnTo>
                  <a:lnTo>
                    <a:pt x="8226" y="12354"/>
                  </a:lnTo>
                  <a:lnTo>
                    <a:pt x="7901" y="12473"/>
                  </a:lnTo>
                  <a:lnTo>
                    <a:pt x="7520" y="12473"/>
                  </a:lnTo>
                  <a:lnTo>
                    <a:pt x="7139" y="12235"/>
                  </a:lnTo>
                  <a:lnTo>
                    <a:pt x="6663" y="11641"/>
                  </a:lnTo>
                  <a:lnTo>
                    <a:pt x="5664" y="10572"/>
                  </a:lnTo>
                  <a:lnTo>
                    <a:pt x="4617" y="9384"/>
                  </a:lnTo>
                  <a:lnTo>
                    <a:pt x="3514" y="8078"/>
                  </a:lnTo>
                  <a:lnTo>
                    <a:pt x="2523" y="6890"/>
                  </a:lnTo>
                  <a:lnTo>
                    <a:pt x="1571" y="5702"/>
                  </a:lnTo>
                  <a:lnTo>
                    <a:pt x="1182" y="5227"/>
                  </a:lnTo>
                  <a:lnTo>
                    <a:pt x="809" y="4752"/>
                  </a:lnTo>
                  <a:lnTo>
                    <a:pt x="0" y="3702"/>
                  </a:lnTo>
                  <a:lnTo>
                    <a:pt x="0" y="9107"/>
                  </a:lnTo>
                  <a:lnTo>
                    <a:pt x="286" y="9384"/>
                  </a:lnTo>
                  <a:lnTo>
                    <a:pt x="1182" y="10216"/>
                  </a:lnTo>
                  <a:lnTo>
                    <a:pt x="1713" y="10691"/>
                  </a:lnTo>
                  <a:lnTo>
                    <a:pt x="2285" y="11285"/>
                  </a:lnTo>
                  <a:lnTo>
                    <a:pt x="2760" y="11760"/>
                  </a:lnTo>
                  <a:lnTo>
                    <a:pt x="3141" y="12235"/>
                  </a:lnTo>
                  <a:lnTo>
                    <a:pt x="3427" y="12592"/>
                  </a:lnTo>
                  <a:lnTo>
                    <a:pt x="3657" y="12948"/>
                  </a:lnTo>
                  <a:lnTo>
                    <a:pt x="3998" y="13304"/>
                  </a:lnTo>
                  <a:lnTo>
                    <a:pt x="4664" y="13997"/>
                  </a:lnTo>
                  <a:lnTo>
                    <a:pt x="5426" y="14710"/>
                  </a:lnTo>
                  <a:lnTo>
                    <a:pt x="5751" y="14948"/>
                  </a:lnTo>
                  <a:lnTo>
                    <a:pt x="6037" y="15185"/>
                  </a:lnTo>
                  <a:lnTo>
                    <a:pt x="6568" y="15423"/>
                  </a:lnTo>
                  <a:lnTo>
                    <a:pt x="7092" y="15542"/>
                  </a:lnTo>
                  <a:lnTo>
                    <a:pt x="7663" y="15660"/>
                  </a:lnTo>
                  <a:lnTo>
                    <a:pt x="8178" y="15660"/>
                  </a:lnTo>
                  <a:lnTo>
                    <a:pt x="8662" y="15542"/>
                  </a:lnTo>
                  <a:lnTo>
                    <a:pt x="9091" y="15542"/>
                  </a:lnTo>
                  <a:lnTo>
                    <a:pt x="9329" y="15423"/>
                  </a:lnTo>
                  <a:lnTo>
                    <a:pt x="9424" y="15423"/>
                  </a:lnTo>
                  <a:lnTo>
                    <a:pt x="9804" y="15542"/>
                  </a:lnTo>
                  <a:lnTo>
                    <a:pt x="10138" y="15660"/>
                  </a:lnTo>
                  <a:lnTo>
                    <a:pt x="10368" y="15898"/>
                  </a:lnTo>
                  <a:lnTo>
                    <a:pt x="10606" y="16017"/>
                  </a:lnTo>
                  <a:lnTo>
                    <a:pt x="10939" y="16373"/>
                  </a:lnTo>
                  <a:lnTo>
                    <a:pt x="11137" y="16730"/>
                  </a:lnTo>
                  <a:lnTo>
                    <a:pt x="11232" y="17086"/>
                  </a:lnTo>
                  <a:lnTo>
                    <a:pt x="11232" y="17324"/>
                  </a:lnTo>
                  <a:lnTo>
                    <a:pt x="11232" y="17442"/>
                  </a:lnTo>
                  <a:lnTo>
                    <a:pt x="11232" y="17561"/>
                  </a:lnTo>
                  <a:lnTo>
                    <a:pt x="11185" y="17561"/>
                  </a:lnTo>
                  <a:lnTo>
                    <a:pt x="11082" y="17680"/>
                  </a:lnTo>
                  <a:lnTo>
                    <a:pt x="10939" y="17918"/>
                  </a:lnTo>
                  <a:lnTo>
                    <a:pt x="10796" y="18274"/>
                  </a:lnTo>
                  <a:lnTo>
                    <a:pt x="10748" y="18630"/>
                  </a:lnTo>
                  <a:lnTo>
                    <a:pt x="10796" y="19224"/>
                  </a:lnTo>
                  <a:lnTo>
                    <a:pt x="10844" y="19581"/>
                  </a:lnTo>
                  <a:lnTo>
                    <a:pt x="10986" y="19937"/>
                  </a:lnTo>
                  <a:lnTo>
                    <a:pt x="11137" y="20293"/>
                  </a:lnTo>
                  <a:lnTo>
                    <a:pt x="11375" y="20768"/>
                  </a:lnTo>
                  <a:lnTo>
                    <a:pt x="11613" y="21125"/>
                  </a:lnTo>
                  <a:lnTo>
                    <a:pt x="11851" y="21481"/>
                  </a:lnTo>
                  <a:lnTo>
                    <a:pt x="12327" y="21600"/>
                  </a:lnTo>
                  <a:lnTo>
                    <a:pt x="12747" y="21481"/>
                  </a:lnTo>
                  <a:lnTo>
                    <a:pt x="13176" y="21125"/>
                  </a:lnTo>
                  <a:lnTo>
                    <a:pt x="13461" y="20650"/>
                  </a:lnTo>
                  <a:lnTo>
                    <a:pt x="13755" y="20175"/>
                  </a:lnTo>
                  <a:lnTo>
                    <a:pt x="13898" y="19699"/>
                  </a:lnTo>
                  <a:lnTo>
                    <a:pt x="13945" y="19581"/>
                  </a:lnTo>
                  <a:lnTo>
                    <a:pt x="14374" y="19581"/>
                  </a:lnTo>
                  <a:lnTo>
                    <a:pt x="14754" y="19462"/>
                  </a:lnTo>
                  <a:lnTo>
                    <a:pt x="15127" y="19105"/>
                  </a:lnTo>
                  <a:lnTo>
                    <a:pt x="15413" y="18630"/>
                  </a:lnTo>
                  <a:lnTo>
                    <a:pt x="15651" y="18155"/>
                  </a:lnTo>
                  <a:lnTo>
                    <a:pt x="15889" y="17799"/>
                  </a:lnTo>
                  <a:lnTo>
                    <a:pt x="15984" y="17442"/>
                  </a:lnTo>
                  <a:lnTo>
                    <a:pt x="16031" y="17324"/>
                  </a:lnTo>
                  <a:lnTo>
                    <a:pt x="17459" y="17799"/>
                  </a:lnTo>
                  <a:lnTo>
                    <a:pt x="17792" y="17918"/>
                  </a:lnTo>
                  <a:lnTo>
                    <a:pt x="18030" y="17799"/>
                  </a:lnTo>
                  <a:lnTo>
                    <a:pt x="18459" y="17561"/>
                  </a:lnTo>
                  <a:lnTo>
                    <a:pt x="18752" y="17086"/>
                  </a:lnTo>
                  <a:lnTo>
                    <a:pt x="18943" y="16373"/>
                  </a:lnTo>
                  <a:lnTo>
                    <a:pt x="19038" y="15779"/>
                  </a:lnTo>
                  <a:lnTo>
                    <a:pt x="19038" y="15185"/>
                  </a:lnTo>
                  <a:lnTo>
                    <a:pt x="19038" y="14710"/>
                  </a:lnTo>
                  <a:lnTo>
                    <a:pt x="19038" y="14591"/>
                  </a:lnTo>
                  <a:lnTo>
                    <a:pt x="19181" y="14591"/>
                  </a:lnTo>
                  <a:lnTo>
                    <a:pt x="19323" y="14473"/>
                  </a:lnTo>
                  <a:lnTo>
                    <a:pt x="19601" y="13879"/>
                  </a:lnTo>
                  <a:lnTo>
                    <a:pt x="19934" y="13067"/>
                  </a:lnTo>
                  <a:lnTo>
                    <a:pt x="20267" y="11998"/>
                  </a:lnTo>
                  <a:lnTo>
                    <a:pt x="20553" y="10929"/>
                  </a:lnTo>
                  <a:lnTo>
                    <a:pt x="20791" y="9978"/>
                  </a:lnTo>
                  <a:lnTo>
                    <a:pt x="20934" y="9266"/>
                  </a:lnTo>
                  <a:lnTo>
                    <a:pt x="20989" y="9147"/>
                  </a:lnTo>
                  <a:lnTo>
                    <a:pt x="20989" y="9028"/>
                  </a:lnTo>
                  <a:lnTo>
                    <a:pt x="21362" y="7405"/>
                  </a:lnTo>
                  <a:lnTo>
                    <a:pt x="21600" y="5920"/>
                  </a:lnTo>
                  <a:close/>
                  <a:moveTo>
                    <a:pt x="21600" y="592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b9efee"/>
                </a:solidFill>
                <a:latin typeface="Lucida Grande"/>
              </a:rPr>
              <a:t>Click to edit the title text format</a:t>
            </a:r>
            <a:endParaRPr b="1" lang="en-US" sz="6200" spc="-1" strike="noStrike">
              <a:solidFill>
                <a:srgbClr val="b9efee"/>
              </a:solidFill>
              <a:latin typeface="Lucida Gran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8"/>
          </p:nvPr>
        </p:nvSpPr>
        <p:spPr>
          <a:xfrm>
            <a:off x="10648800" y="9207360"/>
            <a:ext cx="37152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CD2B-F9EF-4994-9100-F3D89B9887C1}" type="slidenum">
              <a: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1" marL="630360" indent="-285840">
              <a:spcBef>
                <a:spcPts val="11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2" marL="1030320" indent="-228600">
              <a:spcBef>
                <a:spcPts val="1100"/>
              </a:spcBef>
              <a:buClr>
                <a:srgbClr val="b9efe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3" marL="1487520" indent="-228600">
              <a:spcBef>
                <a:spcPts val="11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4" marL="1944720" indent="-228600">
              <a:spcBef>
                <a:spcPts val="1100"/>
              </a:spcBef>
              <a:buClr>
                <a:srgbClr val="ccff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5" marL="1944720" indent="-228600">
              <a:spcBef>
                <a:spcPts val="11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6" marL="1944720" indent="-228600">
              <a:spcBef>
                <a:spcPts val="11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15"/>
          <p:cNvGrpSpPr/>
          <p:nvPr/>
        </p:nvGrpSpPr>
        <p:grpSpPr>
          <a:xfrm>
            <a:off x="0" y="3467160"/>
            <a:ext cx="13004640" cy="5754600"/>
            <a:chOff x="0" y="3467160"/>
            <a:chExt cx="13004640" cy="5754600"/>
          </a:xfrm>
        </p:grpSpPr>
        <p:sp>
          <p:nvSpPr>
            <p:cNvPr id="358" name="Rectangle 1"/>
            <p:cNvSpPr/>
            <p:nvPr/>
          </p:nvSpPr>
          <p:spPr>
            <a:xfrm rot="20160000">
              <a:off x="4782960" y="5864400"/>
              <a:ext cx="6934320" cy="86364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3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59" name="AutoShape 2"/>
            <p:cNvSpPr/>
            <p:nvPr/>
          </p:nvSpPr>
          <p:spPr>
            <a:xfrm>
              <a:off x="0" y="6019920"/>
              <a:ext cx="6070680" cy="2768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714" y="9741"/>
                  </a:lnTo>
                  <a:lnTo>
                    <a:pt x="15814" y="4659"/>
                  </a:lnTo>
                  <a:lnTo>
                    <a:pt x="16296" y="4765"/>
                  </a:lnTo>
                  <a:lnTo>
                    <a:pt x="21383" y="9318"/>
                  </a:lnTo>
                  <a:lnTo>
                    <a:pt x="21600" y="11435"/>
                  </a:lnTo>
                  <a:lnTo>
                    <a:pt x="18514" y="19059"/>
                  </a:lnTo>
                  <a:lnTo>
                    <a:pt x="12729" y="21600"/>
                  </a:lnTo>
                  <a:lnTo>
                    <a:pt x="10414" y="16518"/>
                  </a:lnTo>
                  <a:lnTo>
                    <a:pt x="6943" y="18212"/>
                  </a:lnTo>
                  <a:lnTo>
                    <a:pt x="0" y="9741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0" name="AutoShape 3"/>
            <p:cNvSpPr/>
            <p:nvPr/>
          </p:nvSpPr>
          <p:spPr>
            <a:xfrm>
              <a:off x="7583400" y="3467160"/>
              <a:ext cx="5421240" cy="278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81" y="53"/>
                  </a:moveTo>
                  <a:lnTo>
                    <a:pt x="20511" y="53"/>
                  </a:lnTo>
                  <a:lnTo>
                    <a:pt x="19864" y="263"/>
                  </a:lnTo>
                  <a:lnTo>
                    <a:pt x="19216" y="473"/>
                  </a:lnTo>
                  <a:lnTo>
                    <a:pt x="19000" y="684"/>
                  </a:lnTo>
                  <a:lnTo>
                    <a:pt x="18784" y="999"/>
                  </a:lnTo>
                  <a:lnTo>
                    <a:pt x="18730" y="1105"/>
                  </a:lnTo>
                  <a:lnTo>
                    <a:pt x="18676" y="1210"/>
                  </a:lnTo>
                  <a:lnTo>
                    <a:pt x="17552" y="1736"/>
                  </a:lnTo>
                  <a:lnTo>
                    <a:pt x="17057" y="1946"/>
                  </a:lnTo>
                  <a:lnTo>
                    <a:pt x="16517" y="2051"/>
                  </a:lnTo>
                  <a:lnTo>
                    <a:pt x="15330" y="2367"/>
                  </a:lnTo>
                  <a:lnTo>
                    <a:pt x="14142" y="2682"/>
                  </a:lnTo>
                  <a:lnTo>
                    <a:pt x="12901" y="2893"/>
                  </a:lnTo>
                  <a:lnTo>
                    <a:pt x="11821" y="3103"/>
                  </a:lnTo>
                  <a:lnTo>
                    <a:pt x="11335" y="3208"/>
                  </a:lnTo>
                  <a:lnTo>
                    <a:pt x="10903" y="3314"/>
                  </a:lnTo>
                  <a:lnTo>
                    <a:pt x="10580" y="3314"/>
                  </a:lnTo>
                  <a:lnTo>
                    <a:pt x="10310" y="3419"/>
                  </a:lnTo>
                  <a:lnTo>
                    <a:pt x="10148" y="3419"/>
                  </a:lnTo>
                  <a:lnTo>
                    <a:pt x="10094" y="3419"/>
                  </a:lnTo>
                  <a:lnTo>
                    <a:pt x="10040" y="3524"/>
                  </a:lnTo>
                  <a:lnTo>
                    <a:pt x="9941" y="3629"/>
                  </a:lnTo>
                  <a:lnTo>
                    <a:pt x="9671" y="4050"/>
                  </a:lnTo>
                  <a:lnTo>
                    <a:pt x="9230" y="4576"/>
                  </a:lnTo>
                  <a:lnTo>
                    <a:pt x="8744" y="5102"/>
                  </a:lnTo>
                  <a:lnTo>
                    <a:pt x="8313" y="5628"/>
                  </a:lnTo>
                  <a:lnTo>
                    <a:pt x="7881" y="6049"/>
                  </a:lnTo>
                  <a:lnTo>
                    <a:pt x="7611" y="6364"/>
                  </a:lnTo>
                  <a:lnTo>
                    <a:pt x="7557" y="6469"/>
                  </a:lnTo>
                  <a:lnTo>
                    <a:pt x="7503" y="6469"/>
                  </a:lnTo>
                  <a:lnTo>
                    <a:pt x="6585" y="7311"/>
                  </a:lnTo>
                  <a:lnTo>
                    <a:pt x="5668" y="8030"/>
                  </a:lnTo>
                  <a:lnTo>
                    <a:pt x="5290" y="8345"/>
                  </a:lnTo>
                  <a:lnTo>
                    <a:pt x="4966" y="8556"/>
                  </a:lnTo>
                  <a:lnTo>
                    <a:pt x="4759" y="8766"/>
                  </a:lnTo>
                  <a:lnTo>
                    <a:pt x="4651" y="8871"/>
                  </a:lnTo>
                  <a:lnTo>
                    <a:pt x="4489" y="9187"/>
                  </a:lnTo>
                  <a:lnTo>
                    <a:pt x="4381" y="9503"/>
                  </a:lnTo>
                  <a:lnTo>
                    <a:pt x="4327" y="9818"/>
                  </a:lnTo>
                  <a:lnTo>
                    <a:pt x="4327" y="10134"/>
                  </a:lnTo>
                  <a:lnTo>
                    <a:pt x="4111" y="10344"/>
                  </a:lnTo>
                  <a:lnTo>
                    <a:pt x="3940" y="10449"/>
                  </a:lnTo>
                  <a:lnTo>
                    <a:pt x="3778" y="10765"/>
                  </a:lnTo>
                  <a:lnTo>
                    <a:pt x="3616" y="11186"/>
                  </a:lnTo>
                  <a:lnTo>
                    <a:pt x="3293" y="12238"/>
                  </a:lnTo>
                  <a:lnTo>
                    <a:pt x="3131" y="12764"/>
                  </a:lnTo>
                  <a:lnTo>
                    <a:pt x="2969" y="13290"/>
                  </a:lnTo>
                  <a:lnTo>
                    <a:pt x="2915" y="13605"/>
                  </a:lnTo>
                  <a:lnTo>
                    <a:pt x="2861" y="13710"/>
                  </a:lnTo>
                  <a:lnTo>
                    <a:pt x="2807" y="13816"/>
                  </a:lnTo>
                  <a:lnTo>
                    <a:pt x="2699" y="13921"/>
                  </a:lnTo>
                  <a:lnTo>
                    <a:pt x="2537" y="14131"/>
                  </a:lnTo>
                  <a:lnTo>
                    <a:pt x="2267" y="14447"/>
                  </a:lnTo>
                  <a:lnTo>
                    <a:pt x="1790" y="14973"/>
                  </a:lnTo>
                  <a:lnTo>
                    <a:pt x="1358" y="15499"/>
                  </a:lnTo>
                  <a:lnTo>
                    <a:pt x="756" y="16235"/>
                  </a:lnTo>
                  <a:lnTo>
                    <a:pt x="270" y="16866"/>
                  </a:lnTo>
                  <a:lnTo>
                    <a:pt x="108" y="17077"/>
                  </a:lnTo>
                  <a:lnTo>
                    <a:pt x="0" y="17392"/>
                  </a:lnTo>
                  <a:lnTo>
                    <a:pt x="0" y="17603"/>
                  </a:lnTo>
                  <a:lnTo>
                    <a:pt x="0" y="17918"/>
                  </a:lnTo>
                  <a:lnTo>
                    <a:pt x="108" y="18234"/>
                  </a:lnTo>
                  <a:lnTo>
                    <a:pt x="378" y="18339"/>
                  </a:lnTo>
                  <a:lnTo>
                    <a:pt x="756" y="18339"/>
                  </a:lnTo>
                  <a:lnTo>
                    <a:pt x="1188" y="18129"/>
                  </a:lnTo>
                  <a:lnTo>
                    <a:pt x="1736" y="17918"/>
                  </a:lnTo>
                  <a:lnTo>
                    <a:pt x="2375" y="17603"/>
                  </a:lnTo>
                  <a:lnTo>
                    <a:pt x="3023" y="17182"/>
                  </a:lnTo>
                  <a:lnTo>
                    <a:pt x="3670" y="16656"/>
                  </a:lnTo>
                  <a:lnTo>
                    <a:pt x="4273" y="16130"/>
                  </a:lnTo>
                  <a:lnTo>
                    <a:pt x="4759" y="15709"/>
                  </a:lnTo>
                  <a:lnTo>
                    <a:pt x="5074" y="15394"/>
                  </a:lnTo>
                  <a:lnTo>
                    <a:pt x="5128" y="15288"/>
                  </a:lnTo>
                  <a:lnTo>
                    <a:pt x="5182" y="15288"/>
                  </a:lnTo>
                  <a:lnTo>
                    <a:pt x="5452" y="15288"/>
                  </a:lnTo>
                  <a:lnTo>
                    <a:pt x="5830" y="15183"/>
                  </a:lnTo>
                  <a:lnTo>
                    <a:pt x="6423" y="14868"/>
                  </a:lnTo>
                  <a:lnTo>
                    <a:pt x="7134" y="14552"/>
                  </a:lnTo>
                  <a:lnTo>
                    <a:pt x="7881" y="14236"/>
                  </a:lnTo>
                  <a:lnTo>
                    <a:pt x="8690" y="13921"/>
                  </a:lnTo>
                  <a:lnTo>
                    <a:pt x="9563" y="13710"/>
                  </a:lnTo>
                  <a:lnTo>
                    <a:pt x="10364" y="13605"/>
                  </a:lnTo>
                  <a:lnTo>
                    <a:pt x="10903" y="13710"/>
                  </a:lnTo>
                  <a:lnTo>
                    <a:pt x="11551" y="14131"/>
                  </a:lnTo>
                  <a:lnTo>
                    <a:pt x="12208" y="14657"/>
                  </a:lnTo>
                  <a:lnTo>
                    <a:pt x="12739" y="15288"/>
                  </a:lnTo>
                  <a:lnTo>
                    <a:pt x="12901" y="15604"/>
                  </a:lnTo>
                  <a:lnTo>
                    <a:pt x="13063" y="15919"/>
                  </a:lnTo>
                  <a:lnTo>
                    <a:pt x="13171" y="16340"/>
                  </a:lnTo>
                  <a:lnTo>
                    <a:pt x="13171" y="16656"/>
                  </a:lnTo>
                  <a:lnTo>
                    <a:pt x="13117" y="16971"/>
                  </a:lnTo>
                  <a:lnTo>
                    <a:pt x="12955" y="17392"/>
                  </a:lnTo>
                  <a:lnTo>
                    <a:pt x="12685" y="17603"/>
                  </a:lnTo>
                  <a:lnTo>
                    <a:pt x="12316" y="17918"/>
                  </a:lnTo>
                  <a:lnTo>
                    <a:pt x="11713" y="18234"/>
                  </a:lnTo>
                  <a:lnTo>
                    <a:pt x="11227" y="18655"/>
                  </a:lnTo>
                  <a:lnTo>
                    <a:pt x="10796" y="18970"/>
                  </a:lnTo>
                  <a:lnTo>
                    <a:pt x="10418" y="19286"/>
                  </a:lnTo>
                  <a:lnTo>
                    <a:pt x="10148" y="19601"/>
                  </a:lnTo>
                  <a:lnTo>
                    <a:pt x="9986" y="19812"/>
                  </a:lnTo>
                  <a:lnTo>
                    <a:pt x="9833" y="20127"/>
                  </a:lnTo>
                  <a:lnTo>
                    <a:pt x="9725" y="20338"/>
                  </a:lnTo>
                  <a:lnTo>
                    <a:pt x="9617" y="20864"/>
                  </a:lnTo>
                  <a:lnTo>
                    <a:pt x="9671" y="21179"/>
                  </a:lnTo>
                  <a:lnTo>
                    <a:pt x="9725" y="21390"/>
                  </a:lnTo>
                  <a:lnTo>
                    <a:pt x="9779" y="21495"/>
                  </a:lnTo>
                  <a:lnTo>
                    <a:pt x="9833" y="21600"/>
                  </a:lnTo>
                  <a:lnTo>
                    <a:pt x="9986" y="21600"/>
                  </a:lnTo>
                  <a:lnTo>
                    <a:pt x="10148" y="21495"/>
                  </a:lnTo>
                  <a:lnTo>
                    <a:pt x="10364" y="21495"/>
                  </a:lnTo>
                  <a:lnTo>
                    <a:pt x="10903" y="21390"/>
                  </a:lnTo>
                  <a:lnTo>
                    <a:pt x="11443" y="21284"/>
                  </a:lnTo>
                  <a:lnTo>
                    <a:pt x="11983" y="21179"/>
                  </a:lnTo>
                  <a:lnTo>
                    <a:pt x="12532" y="20969"/>
                  </a:lnTo>
                  <a:lnTo>
                    <a:pt x="12739" y="20864"/>
                  </a:lnTo>
                  <a:lnTo>
                    <a:pt x="12901" y="20758"/>
                  </a:lnTo>
                  <a:lnTo>
                    <a:pt x="13009" y="20653"/>
                  </a:lnTo>
                  <a:lnTo>
                    <a:pt x="13063" y="20653"/>
                  </a:lnTo>
                  <a:lnTo>
                    <a:pt x="13171" y="20548"/>
                  </a:lnTo>
                  <a:lnTo>
                    <a:pt x="13386" y="20443"/>
                  </a:lnTo>
                  <a:lnTo>
                    <a:pt x="13764" y="20127"/>
                  </a:lnTo>
                  <a:lnTo>
                    <a:pt x="14196" y="19812"/>
                  </a:lnTo>
                  <a:lnTo>
                    <a:pt x="15123" y="19181"/>
                  </a:lnTo>
                  <a:lnTo>
                    <a:pt x="15492" y="18865"/>
                  </a:lnTo>
                  <a:lnTo>
                    <a:pt x="15815" y="18655"/>
                  </a:lnTo>
                  <a:lnTo>
                    <a:pt x="16301" y="18234"/>
                  </a:lnTo>
                  <a:lnTo>
                    <a:pt x="16625" y="17603"/>
                  </a:lnTo>
                  <a:lnTo>
                    <a:pt x="16841" y="16866"/>
                  </a:lnTo>
                  <a:lnTo>
                    <a:pt x="17003" y="16340"/>
                  </a:lnTo>
                  <a:lnTo>
                    <a:pt x="17381" y="15183"/>
                  </a:lnTo>
                  <a:lnTo>
                    <a:pt x="17867" y="14026"/>
                  </a:lnTo>
                  <a:lnTo>
                    <a:pt x="18406" y="12974"/>
                  </a:lnTo>
                  <a:lnTo>
                    <a:pt x="19000" y="12132"/>
                  </a:lnTo>
                  <a:lnTo>
                    <a:pt x="19486" y="11396"/>
                  </a:lnTo>
                  <a:lnTo>
                    <a:pt x="19918" y="10870"/>
                  </a:lnTo>
                  <a:lnTo>
                    <a:pt x="20188" y="10449"/>
                  </a:lnTo>
                  <a:lnTo>
                    <a:pt x="20305" y="10344"/>
                  </a:lnTo>
                  <a:lnTo>
                    <a:pt x="21591" y="9082"/>
                  </a:lnTo>
                  <a:lnTo>
                    <a:pt x="21591" y="999"/>
                  </a:lnTo>
                  <a:lnTo>
                    <a:pt x="21600" y="0"/>
                  </a:lnTo>
                  <a:lnTo>
                    <a:pt x="20781" y="53"/>
                  </a:lnTo>
                  <a:close/>
                  <a:moveTo>
                    <a:pt x="20781" y="53"/>
                  </a:moveTo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1" name="Freeform 4"/>
            <p:cNvSpPr/>
            <p:nvPr/>
          </p:nvSpPr>
          <p:spPr>
            <a:xfrm>
              <a:off x="8559720" y="3467160"/>
              <a:ext cx="4444920" cy="1719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591" y="4677"/>
                  </a:moveTo>
                  <a:lnTo>
                    <a:pt x="7639" y="5669"/>
                  </a:lnTo>
                  <a:lnTo>
                    <a:pt x="7606" y="6718"/>
                  </a:lnTo>
                  <a:lnTo>
                    <a:pt x="10141" y="7313"/>
                  </a:lnTo>
                  <a:lnTo>
                    <a:pt x="10899" y="7569"/>
                  </a:lnTo>
                  <a:lnTo>
                    <a:pt x="7474" y="8249"/>
                  </a:lnTo>
                  <a:lnTo>
                    <a:pt x="6948" y="8759"/>
                  </a:lnTo>
                  <a:lnTo>
                    <a:pt x="7079" y="9524"/>
                  </a:lnTo>
                  <a:lnTo>
                    <a:pt x="7376" y="9950"/>
                  </a:lnTo>
                  <a:lnTo>
                    <a:pt x="10800" y="9439"/>
                  </a:lnTo>
                  <a:lnTo>
                    <a:pt x="11854" y="10120"/>
                  </a:lnTo>
                  <a:lnTo>
                    <a:pt x="6849" y="13946"/>
                  </a:lnTo>
                  <a:lnTo>
                    <a:pt x="6761" y="15194"/>
                  </a:lnTo>
                  <a:lnTo>
                    <a:pt x="88" y="20523"/>
                  </a:lnTo>
                  <a:lnTo>
                    <a:pt x="0" y="21430"/>
                  </a:lnTo>
                  <a:lnTo>
                    <a:pt x="296" y="21600"/>
                  </a:lnTo>
                  <a:lnTo>
                    <a:pt x="7288" y="15987"/>
                  </a:lnTo>
                  <a:lnTo>
                    <a:pt x="9395" y="17008"/>
                  </a:lnTo>
                  <a:lnTo>
                    <a:pt x="12710" y="14372"/>
                  </a:lnTo>
                  <a:lnTo>
                    <a:pt x="15739" y="13181"/>
                  </a:lnTo>
                  <a:lnTo>
                    <a:pt x="17254" y="10431"/>
                  </a:lnTo>
                  <a:lnTo>
                    <a:pt x="18790" y="9638"/>
                  </a:lnTo>
                  <a:lnTo>
                    <a:pt x="20371" y="9298"/>
                  </a:lnTo>
                  <a:lnTo>
                    <a:pt x="21600" y="9354"/>
                  </a:lnTo>
                  <a:lnTo>
                    <a:pt x="21600" y="0"/>
                  </a:lnTo>
                  <a:lnTo>
                    <a:pt x="21227" y="85"/>
                  </a:lnTo>
                  <a:lnTo>
                    <a:pt x="20107" y="142"/>
                  </a:lnTo>
                  <a:lnTo>
                    <a:pt x="18461" y="992"/>
                  </a:lnTo>
                  <a:lnTo>
                    <a:pt x="18033" y="2041"/>
                  </a:lnTo>
                  <a:lnTo>
                    <a:pt x="15278" y="3373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2" name="AutoShape 5"/>
            <p:cNvSpPr/>
            <p:nvPr/>
          </p:nvSpPr>
          <p:spPr>
            <a:xfrm>
              <a:off x="8124840" y="5591160"/>
              <a:ext cx="42084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080"/>
                  </a:lnTo>
                  <a:lnTo>
                    <a:pt x="21600" y="3240"/>
                  </a:lnTo>
                  <a:lnTo>
                    <a:pt x="21600" y="6480"/>
                  </a:lnTo>
                  <a:lnTo>
                    <a:pt x="20899" y="9720"/>
                  </a:lnTo>
                  <a:lnTo>
                    <a:pt x="18798" y="12960"/>
                  </a:lnTo>
                  <a:lnTo>
                    <a:pt x="15996" y="17280"/>
                  </a:lnTo>
                  <a:lnTo>
                    <a:pt x="11792" y="19440"/>
                  </a:lnTo>
                  <a:lnTo>
                    <a:pt x="5488" y="21600"/>
                  </a:lnTo>
                  <a:lnTo>
                    <a:pt x="3386" y="21600"/>
                  </a:lnTo>
                  <a:lnTo>
                    <a:pt x="1985" y="20520"/>
                  </a:lnTo>
                  <a:lnTo>
                    <a:pt x="0" y="17280"/>
                  </a:lnTo>
                  <a:lnTo>
                    <a:pt x="0" y="14040"/>
                  </a:lnTo>
                  <a:lnTo>
                    <a:pt x="0" y="1296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3" name="AutoShape 6"/>
            <p:cNvSpPr/>
            <p:nvPr/>
          </p:nvSpPr>
          <p:spPr>
            <a:xfrm>
              <a:off x="8531280" y="5402160"/>
              <a:ext cx="417600" cy="2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080"/>
                  </a:lnTo>
                  <a:lnTo>
                    <a:pt x="20899" y="4320"/>
                  </a:lnTo>
                  <a:lnTo>
                    <a:pt x="19498" y="7560"/>
                  </a:lnTo>
                  <a:lnTo>
                    <a:pt x="17397" y="11880"/>
                  </a:lnTo>
                  <a:lnTo>
                    <a:pt x="15295" y="16200"/>
                  </a:lnTo>
                  <a:lnTo>
                    <a:pt x="11909" y="19440"/>
                  </a:lnTo>
                  <a:lnTo>
                    <a:pt x="7706" y="21600"/>
                  </a:lnTo>
                  <a:lnTo>
                    <a:pt x="2102" y="21600"/>
                  </a:lnTo>
                  <a:lnTo>
                    <a:pt x="0" y="1080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4" name="AutoShape 7"/>
            <p:cNvSpPr/>
            <p:nvPr/>
          </p:nvSpPr>
          <p:spPr>
            <a:xfrm>
              <a:off x="8666280" y="4145040"/>
              <a:ext cx="1193760" cy="62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0" y="21129"/>
                  </a:lnTo>
                  <a:lnTo>
                    <a:pt x="246" y="19715"/>
                  </a:lnTo>
                  <a:lnTo>
                    <a:pt x="246" y="18772"/>
                  </a:lnTo>
                  <a:lnTo>
                    <a:pt x="493" y="17830"/>
                  </a:lnTo>
                  <a:lnTo>
                    <a:pt x="739" y="17359"/>
                  </a:lnTo>
                  <a:lnTo>
                    <a:pt x="1478" y="16887"/>
                  </a:lnTo>
                  <a:lnTo>
                    <a:pt x="3162" y="15945"/>
                  </a:lnTo>
                  <a:lnTo>
                    <a:pt x="5626" y="14060"/>
                  </a:lnTo>
                  <a:lnTo>
                    <a:pt x="8583" y="11232"/>
                  </a:lnTo>
                  <a:lnTo>
                    <a:pt x="10307" y="9425"/>
                  </a:lnTo>
                  <a:lnTo>
                    <a:pt x="12278" y="7540"/>
                  </a:lnTo>
                  <a:lnTo>
                    <a:pt x="16179" y="3770"/>
                  </a:lnTo>
                  <a:lnTo>
                    <a:pt x="18151" y="2356"/>
                  </a:lnTo>
                  <a:lnTo>
                    <a:pt x="19629" y="943"/>
                  </a:lnTo>
                  <a:lnTo>
                    <a:pt x="20614" y="471"/>
                  </a:lnTo>
                  <a:lnTo>
                    <a:pt x="21354" y="0"/>
                  </a:lnTo>
                  <a:lnTo>
                    <a:pt x="21600" y="0"/>
                  </a:lnTo>
                  <a:lnTo>
                    <a:pt x="21354" y="471"/>
                  </a:lnTo>
                  <a:lnTo>
                    <a:pt x="20861" y="943"/>
                  </a:lnTo>
                  <a:lnTo>
                    <a:pt x="19875" y="1885"/>
                  </a:lnTo>
                  <a:lnTo>
                    <a:pt x="18890" y="3299"/>
                  </a:lnTo>
                  <a:lnTo>
                    <a:pt x="17904" y="4241"/>
                  </a:lnTo>
                  <a:lnTo>
                    <a:pt x="16179" y="6127"/>
                  </a:lnTo>
                  <a:lnTo>
                    <a:pt x="13962" y="8483"/>
                  </a:lnTo>
                  <a:lnTo>
                    <a:pt x="11293" y="11232"/>
                  </a:lnTo>
                  <a:lnTo>
                    <a:pt x="5379" y="17359"/>
                  </a:lnTo>
                  <a:lnTo>
                    <a:pt x="2669" y="19715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5" name="AutoShape 8"/>
            <p:cNvSpPr/>
            <p:nvPr/>
          </p:nvSpPr>
          <p:spPr>
            <a:xfrm>
              <a:off x="8299440" y="4548240"/>
              <a:ext cx="1627200" cy="690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44" y="15247"/>
                  </a:moveTo>
                  <a:lnTo>
                    <a:pt x="903" y="17788"/>
                  </a:lnTo>
                  <a:lnTo>
                    <a:pt x="361" y="19906"/>
                  </a:lnTo>
                  <a:lnTo>
                    <a:pt x="181" y="21176"/>
                  </a:lnTo>
                  <a:lnTo>
                    <a:pt x="0" y="21600"/>
                  </a:lnTo>
                  <a:lnTo>
                    <a:pt x="1444" y="19482"/>
                  </a:lnTo>
                  <a:lnTo>
                    <a:pt x="2527" y="17788"/>
                  </a:lnTo>
                  <a:lnTo>
                    <a:pt x="3249" y="16518"/>
                  </a:lnTo>
                  <a:lnTo>
                    <a:pt x="3610" y="16094"/>
                  </a:lnTo>
                  <a:lnTo>
                    <a:pt x="3791" y="16094"/>
                  </a:lnTo>
                  <a:lnTo>
                    <a:pt x="4332" y="15671"/>
                  </a:lnTo>
                  <a:lnTo>
                    <a:pt x="5054" y="15247"/>
                  </a:lnTo>
                  <a:lnTo>
                    <a:pt x="5957" y="14400"/>
                  </a:lnTo>
                  <a:lnTo>
                    <a:pt x="8273" y="12706"/>
                  </a:lnTo>
                  <a:lnTo>
                    <a:pt x="11161" y="11012"/>
                  </a:lnTo>
                  <a:lnTo>
                    <a:pt x="13869" y="8894"/>
                  </a:lnTo>
                  <a:lnTo>
                    <a:pt x="16365" y="7200"/>
                  </a:lnTo>
                  <a:lnTo>
                    <a:pt x="17268" y="6353"/>
                  </a:lnTo>
                  <a:lnTo>
                    <a:pt x="18170" y="5929"/>
                  </a:lnTo>
                  <a:lnTo>
                    <a:pt x="18712" y="5506"/>
                  </a:lnTo>
                  <a:lnTo>
                    <a:pt x="18892" y="5082"/>
                  </a:lnTo>
                  <a:lnTo>
                    <a:pt x="19073" y="4659"/>
                  </a:lnTo>
                  <a:lnTo>
                    <a:pt x="19614" y="4235"/>
                  </a:lnTo>
                  <a:lnTo>
                    <a:pt x="20878" y="2118"/>
                  </a:lnTo>
                  <a:lnTo>
                    <a:pt x="21419" y="1271"/>
                  </a:lnTo>
                  <a:lnTo>
                    <a:pt x="21600" y="424"/>
                  </a:lnTo>
                  <a:lnTo>
                    <a:pt x="21419" y="0"/>
                  </a:lnTo>
                  <a:lnTo>
                    <a:pt x="20697" y="0"/>
                  </a:lnTo>
                  <a:lnTo>
                    <a:pt x="18892" y="0"/>
                  </a:lnTo>
                  <a:lnTo>
                    <a:pt x="17448" y="0"/>
                  </a:lnTo>
                  <a:lnTo>
                    <a:pt x="16365" y="0"/>
                  </a:lnTo>
                  <a:lnTo>
                    <a:pt x="15463" y="1271"/>
                  </a:lnTo>
                  <a:lnTo>
                    <a:pt x="14591" y="2965"/>
                  </a:lnTo>
                  <a:lnTo>
                    <a:pt x="14049" y="3812"/>
                  </a:lnTo>
                  <a:lnTo>
                    <a:pt x="13508" y="4235"/>
                  </a:lnTo>
                  <a:lnTo>
                    <a:pt x="12786" y="4235"/>
                  </a:lnTo>
                  <a:lnTo>
                    <a:pt x="11703" y="4659"/>
                  </a:lnTo>
                  <a:lnTo>
                    <a:pt x="10439" y="5929"/>
                  </a:lnTo>
                  <a:lnTo>
                    <a:pt x="9356" y="7624"/>
                  </a:lnTo>
                  <a:lnTo>
                    <a:pt x="8634" y="8894"/>
                  </a:lnTo>
                  <a:lnTo>
                    <a:pt x="8273" y="9318"/>
                  </a:lnTo>
                  <a:lnTo>
                    <a:pt x="7731" y="9741"/>
                  </a:lnTo>
                  <a:lnTo>
                    <a:pt x="6648" y="9741"/>
                  </a:lnTo>
                  <a:lnTo>
                    <a:pt x="5596" y="9741"/>
                  </a:lnTo>
                  <a:lnTo>
                    <a:pt x="5415" y="9741"/>
                  </a:lnTo>
                  <a:lnTo>
                    <a:pt x="5235" y="9741"/>
                  </a:lnTo>
                  <a:lnTo>
                    <a:pt x="3430" y="11435"/>
                  </a:lnTo>
                  <a:lnTo>
                    <a:pt x="1444" y="15247"/>
                  </a:lnTo>
                  <a:close/>
                  <a:moveTo>
                    <a:pt x="1444" y="15247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6" name="AutoShape 9"/>
            <p:cNvSpPr/>
            <p:nvPr/>
          </p:nvSpPr>
          <p:spPr>
            <a:xfrm>
              <a:off x="7580160" y="4267440"/>
              <a:ext cx="5423040" cy="198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787" y="883"/>
                  </a:moveTo>
                  <a:lnTo>
                    <a:pt x="20462" y="1177"/>
                  </a:lnTo>
                  <a:lnTo>
                    <a:pt x="20146" y="1324"/>
                  </a:lnTo>
                  <a:lnTo>
                    <a:pt x="19875" y="1324"/>
                  </a:lnTo>
                  <a:lnTo>
                    <a:pt x="19821" y="1324"/>
                  </a:lnTo>
                  <a:lnTo>
                    <a:pt x="19767" y="1324"/>
                  </a:lnTo>
                  <a:lnTo>
                    <a:pt x="19659" y="1471"/>
                  </a:lnTo>
                  <a:lnTo>
                    <a:pt x="19388" y="1618"/>
                  </a:lnTo>
                  <a:lnTo>
                    <a:pt x="19008" y="1912"/>
                  </a:lnTo>
                  <a:lnTo>
                    <a:pt x="18575" y="2182"/>
                  </a:lnTo>
                  <a:lnTo>
                    <a:pt x="18250" y="2476"/>
                  </a:lnTo>
                  <a:lnTo>
                    <a:pt x="18033" y="2623"/>
                  </a:lnTo>
                  <a:lnTo>
                    <a:pt x="17816" y="2770"/>
                  </a:lnTo>
                  <a:lnTo>
                    <a:pt x="17663" y="2918"/>
                  </a:lnTo>
                  <a:lnTo>
                    <a:pt x="17392" y="3212"/>
                  </a:lnTo>
                  <a:lnTo>
                    <a:pt x="17121" y="3359"/>
                  </a:lnTo>
                  <a:lnTo>
                    <a:pt x="16796" y="4094"/>
                  </a:lnTo>
                  <a:lnTo>
                    <a:pt x="16633" y="4683"/>
                  </a:lnTo>
                  <a:lnTo>
                    <a:pt x="16579" y="5418"/>
                  </a:lnTo>
                  <a:lnTo>
                    <a:pt x="16579" y="6007"/>
                  </a:lnTo>
                  <a:lnTo>
                    <a:pt x="16633" y="6595"/>
                  </a:lnTo>
                  <a:lnTo>
                    <a:pt x="16633" y="7184"/>
                  </a:lnTo>
                  <a:lnTo>
                    <a:pt x="16633" y="7478"/>
                  </a:lnTo>
                  <a:lnTo>
                    <a:pt x="16471" y="7919"/>
                  </a:lnTo>
                  <a:lnTo>
                    <a:pt x="16200" y="8066"/>
                  </a:lnTo>
                  <a:lnTo>
                    <a:pt x="15875" y="7772"/>
                  </a:lnTo>
                  <a:lnTo>
                    <a:pt x="15496" y="7331"/>
                  </a:lnTo>
                  <a:lnTo>
                    <a:pt x="14963" y="6742"/>
                  </a:lnTo>
                  <a:lnTo>
                    <a:pt x="14421" y="6448"/>
                  </a:lnTo>
                  <a:lnTo>
                    <a:pt x="13933" y="6301"/>
                  </a:lnTo>
                  <a:lnTo>
                    <a:pt x="13717" y="6301"/>
                  </a:lnTo>
                  <a:lnTo>
                    <a:pt x="13608" y="6301"/>
                  </a:lnTo>
                  <a:lnTo>
                    <a:pt x="13446" y="6448"/>
                  </a:lnTo>
                  <a:lnTo>
                    <a:pt x="13175" y="6742"/>
                  </a:lnTo>
                  <a:lnTo>
                    <a:pt x="12633" y="7625"/>
                  </a:lnTo>
                  <a:lnTo>
                    <a:pt x="12425" y="8066"/>
                  </a:lnTo>
                  <a:lnTo>
                    <a:pt x="12209" y="8361"/>
                  </a:lnTo>
                  <a:lnTo>
                    <a:pt x="12046" y="8655"/>
                  </a:lnTo>
                  <a:lnTo>
                    <a:pt x="11992" y="8802"/>
                  </a:lnTo>
                  <a:lnTo>
                    <a:pt x="11938" y="8802"/>
                  </a:lnTo>
                  <a:lnTo>
                    <a:pt x="11829" y="8802"/>
                  </a:lnTo>
                  <a:lnTo>
                    <a:pt x="11613" y="8949"/>
                  </a:lnTo>
                  <a:lnTo>
                    <a:pt x="11396" y="8949"/>
                  </a:lnTo>
                  <a:lnTo>
                    <a:pt x="10963" y="9096"/>
                  </a:lnTo>
                  <a:lnTo>
                    <a:pt x="10800" y="9096"/>
                  </a:lnTo>
                  <a:lnTo>
                    <a:pt x="10637" y="8949"/>
                  </a:lnTo>
                  <a:lnTo>
                    <a:pt x="10475" y="8949"/>
                  </a:lnTo>
                  <a:lnTo>
                    <a:pt x="10204" y="8949"/>
                  </a:lnTo>
                  <a:lnTo>
                    <a:pt x="9888" y="8949"/>
                  </a:lnTo>
                  <a:lnTo>
                    <a:pt x="9509" y="9096"/>
                  </a:lnTo>
                  <a:lnTo>
                    <a:pt x="9184" y="9243"/>
                  </a:lnTo>
                  <a:lnTo>
                    <a:pt x="8859" y="9243"/>
                  </a:lnTo>
                  <a:lnTo>
                    <a:pt x="8642" y="9390"/>
                  </a:lnTo>
                  <a:lnTo>
                    <a:pt x="8533" y="9537"/>
                  </a:lnTo>
                  <a:lnTo>
                    <a:pt x="8479" y="9684"/>
                  </a:lnTo>
                  <a:lnTo>
                    <a:pt x="8317" y="9832"/>
                  </a:lnTo>
                  <a:lnTo>
                    <a:pt x="7937" y="9979"/>
                  </a:lnTo>
                  <a:lnTo>
                    <a:pt x="7558" y="10273"/>
                  </a:lnTo>
                  <a:lnTo>
                    <a:pt x="7396" y="10273"/>
                  </a:lnTo>
                  <a:lnTo>
                    <a:pt x="7296" y="10273"/>
                  </a:lnTo>
                  <a:lnTo>
                    <a:pt x="7188" y="10273"/>
                  </a:lnTo>
                  <a:lnTo>
                    <a:pt x="7025" y="10273"/>
                  </a:lnTo>
                  <a:lnTo>
                    <a:pt x="6809" y="10273"/>
                  </a:lnTo>
                  <a:lnTo>
                    <a:pt x="6538" y="10420"/>
                  </a:lnTo>
                  <a:lnTo>
                    <a:pt x="5996" y="10714"/>
                  </a:lnTo>
                  <a:lnTo>
                    <a:pt x="5779" y="11008"/>
                  </a:lnTo>
                  <a:lnTo>
                    <a:pt x="5563" y="11303"/>
                  </a:lnTo>
                  <a:lnTo>
                    <a:pt x="5400" y="11597"/>
                  </a:lnTo>
                  <a:lnTo>
                    <a:pt x="5237" y="11597"/>
                  </a:lnTo>
                  <a:lnTo>
                    <a:pt x="4858" y="11597"/>
                  </a:lnTo>
                  <a:lnTo>
                    <a:pt x="4542" y="11450"/>
                  </a:lnTo>
                  <a:lnTo>
                    <a:pt x="4163" y="11597"/>
                  </a:lnTo>
                  <a:lnTo>
                    <a:pt x="4000" y="11744"/>
                  </a:lnTo>
                  <a:lnTo>
                    <a:pt x="3892" y="12038"/>
                  </a:lnTo>
                  <a:lnTo>
                    <a:pt x="3838" y="12479"/>
                  </a:lnTo>
                  <a:lnTo>
                    <a:pt x="3784" y="13068"/>
                  </a:lnTo>
                  <a:lnTo>
                    <a:pt x="3729" y="13215"/>
                  </a:lnTo>
                  <a:lnTo>
                    <a:pt x="3675" y="13362"/>
                  </a:lnTo>
                  <a:lnTo>
                    <a:pt x="3513" y="13509"/>
                  </a:lnTo>
                  <a:lnTo>
                    <a:pt x="3133" y="13951"/>
                  </a:lnTo>
                  <a:lnTo>
                    <a:pt x="2700" y="14392"/>
                  </a:lnTo>
                  <a:lnTo>
                    <a:pt x="2321" y="14539"/>
                  </a:lnTo>
                  <a:lnTo>
                    <a:pt x="2005" y="14686"/>
                  </a:lnTo>
                  <a:lnTo>
                    <a:pt x="1625" y="15127"/>
                  </a:lnTo>
                  <a:lnTo>
                    <a:pt x="1355" y="15716"/>
                  </a:lnTo>
                  <a:lnTo>
                    <a:pt x="1246" y="15863"/>
                  </a:lnTo>
                  <a:lnTo>
                    <a:pt x="1192" y="16010"/>
                  </a:lnTo>
                  <a:lnTo>
                    <a:pt x="1138" y="16157"/>
                  </a:lnTo>
                  <a:lnTo>
                    <a:pt x="975" y="16157"/>
                  </a:lnTo>
                  <a:lnTo>
                    <a:pt x="867" y="16010"/>
                  </a:lnTo>
                  <a:lnTo>
                    <a:pt x="813" y="16010"/>
                  </a:lnTo>
                  <a:lnTo>
                    <a:pt x="0" y="16451"/>
                  </a:lnTo>
                  <a:lnTo>
                    <a:pt x="108" y="16893"/>
                  </a:lnTo>
                  <a:lnTo>
                    <a:pt x="379" y="17040"/>
                  </a:lnTo>
                  <a:lnTo>
                    <a:pt x="759" y="17040"/>
                  </a:lnTo>
                  <a:lnTo>
                    <a:pt x="1192" y="16746"/>
                  </a:lnTo>
                  <a:lnTo>
                    <a:pt x="1734" y="16451"/>
                  </a:lnTo>
                  <a:lnTo>
                    <a:pt x="2375" y="16010"/>
                  </a:lnTo>
                  <a:lnTo>
                    <a:pt x="3025" y="15422"/>
                  </a:lnTo>
                  <a:lnTo>
                    <a:pt x="3675" y="14686"/>
                  </a:lnTo>
                  <a:lnTo>
                    <a:pt x="4271" y="13951"/>
                  </a:lnTo>
                  <a:lnTo>
                    <a:pt x="4759" y="13362"/>
                  </a:lnTo>
                  <a:lnTo>
                    <a:pt x="5075" y="12921"/>
                  </a:lnTo>
                  <a:lnTo>
                    <a:pt x="5129" y="12774"/>
                  </a:lnTo>
                  <a:lnTo>
                    <a:pt x="5183" y="12774"/>
                  </a:lnTo>
                  <a:lnTo>
                    <a:pt x="5454" y="12774"/>
                  </a:lnTo>
                  <a:lnTo>
                    <a:pt x="5833" y="12627"/>
                  </a:lnTo>
                  <a:lnTo>
                    <a:pt x="6429" y="12185"/>
                  </a:lnTo>
                  <a:lnTo>
                    <a:pt x="7134" y="11744"/>
                  </a:lnTo>
                  <a:lnTo>
                    <a:pt x="7883" y="11303"/>
                  </a:lnTo>
                  <a:lnTo>
                    <a:pt x="8696" y="10861"/>
                  </a:lnTo>
                  <a:lnTo>
                    <a:pt x="9563" y="10567"/>
                  </a:lnTo>
                  <a:lnTo>
                    <a:pt x="10367" y="10420"/>
                  </a:lnTo>
                  <a:lnTo>
                    <a:pt x="10637" y="10420"/>
                  </a:lnTo>
                  <a:lnTo>
                    <a:pt x="10963" y="10714"/>
                  </a:lnTo>
                  <a:lnTo>
                    <a:pt x="11667" y="11303"/>
                  </a:lnTo>
                  <a:lnTo>
                    <a:pt x="12100" y="11744"/>
                  </a:lnTo>
                  <a:lnTo>
                    <a:pt x="12480" y="12332"/>
                  </a:lnTo>
                  <a:lnTo>
                    <a:pt x="12796" y="13068"/>
                  </a:lnTo>
                  <a:lnTo>
                    <a:pt x="13012" y="13803"/>
                  </a:lnTo>
                  <a:lnTo>
                    <a:pt x="13067" y="14392"/>
                  </a:lnTo>
                  <a:lnTo>
                    <a:pt x="12958" y="15127"/>
                  </a:lnTo>
                  <a:lnTo>
                    <a:pt x="12850" y="15422"/>
                  </a:lnTo>
                  <a:lnTo>
                    <a:pt x="12687" y="15716"/>
                  </a:lnTo>
                  <a:lnTo>
                    <a:pt x="12425" y="16010"/>
                  </a:lnTo>
                  <a:lnTo>
                    <a:pt x="12155" y="16304"/>
                  </a:lnTo>
                  <a:lnTo>
                    <a:pt x="11559" y="16746"/>
                  </a:lnTo>
                  <a:lnTo>
                    <a:pt x="11071" y="17187"/>
                  </a:lnTo>
                  <a:lnTo>
                    <a:pt x="10637" y="17628"/>
                  </a:lnTo>
                  <a:lnTo>
                    <a:pt x="10312" y="18217"/>
                  </a:lnTo>
                  <a:lnTo>
                    <a:pt x="10041" y="18511"/>
                  </a:lnTo>
                  <a:lnTo>
                    <a:pt x="9834" y="18952"/>
                  </a:lnTo>
                  <a:lnTo>
                    <a:pt x="9725" y="19393"/>
                  </a:lnTo>
                  <a:lnTo>
                    <a:pt x="9617" y="19835"/>
                  </a:lnTo>
                  <a:lnTo>
                    <a:pt x="9563" y="20423"/>
                  </a:lnTo>
                  <a:lnTo>
                    <a:pt x="9617" y="21012"/>
                  </a:lnTo>
                  <a:lnTo>
                    <a:pt x="9725" y="21306"/>
                  </a:lnTo>
                  <a:lnTo>
                    <a:pt x="9780" y="21453"/>
                  </a:lnTo>
                  <a:lnTo>
                    <a:pt x="9834" y="21600"/>
                  </a:lnTo>
                  <a:lnTo>
                    <a:pt x="9987" y="21600"/>
                  </a:lnTo>
                  <a:lnTo>
                    <a:pt x="10150" y="21453"/>
                  </a:lnTo>
                  <a:lnTo>
                    <a:pt x="10367" y="21453"/>
                  </a:lnTo>
                  <a:lnTo>
                    <a:pt x="10908" y="21306"/>
                  </a:lnTo>
                  <a:lnTo>
                    <a:pt x="11450" y="21159"/>
                  </a:lnTo>
                  <a:lnTo>
                    <a:pt x="11992" y="21159"/>
                  </a:lnTo>
                  <a:lnTo>
                    <a:pt x="12534" y="21012"/>
                  </a:lnTo>
                  <a:lnTo>
                    <a:pt x="12741" y="21012"/>
                  </a:lnTo>
                  <a:lnTo>
                    <a:pt x="12904" y="20864"/>
                  </a:lnTo>
                  <a:lnTo>
                    <a:pt x="13012" y="20864"/>
                  </a:lnTo>
                  <a:lnTo>
                    <a:pt x="13067" y="20864"/>
                  </a:lnTo>
                  <a:lnTo>
                    <a:pt x="13175" y="20717"/>
                  </a:lnTo>
                  <a:lnTo>
                    <a:pt x="13392" y="20423"/>
                  </a:lnTo>
                  <a:lnTo>
                    <a:pt x="13771" y="19982"/>
                  </a:lnTo>
                  <a:lnTo>
                    <a:pt x="14204" y="19393"/>
                  </a:lnTo>
                  <a:lnTo>
                    <a:pt x="15125" y="18217"/>
                  </a:lnTo>
                  <a:lnTo>
                    <a:pt x="15496" y="17775"/>
                  </a:lnTo>
                  <a:lnTo>
                    <a:pt x="15821" y="17481"/>
                  </a:lnTo>
                  <a:lnTo>
                    <a:pt x="16308" y="16893"/>
                  </a:lnTo>
                  <a:lnTo>
                    <a:pt x="16633" y="16010"/>
                  </a:lnTo>
                  <a:lnTo>
                    <a:pt x="16850" y="14980"/>
                  </a:lnTo>
                  <a:lnTo>
                    <a:pt x="17013" y="14245"/>
                  </a:lnTo>
                  <a:lnTo>
                    <a:pt x="17392" y="12627"/>
                  </a:lnTo>
                  <a:lnTo>
                    <a:pt x="17871" y="11008"/>
                  </a:lnTo>
                  <a:lnTo>
                    <a:pt x="18412" y="9537"/>
                  </a:lnTo>
                  <a:lnTo>
                    <a:pt x="19008" y="8361"/>
                  </a:lnTo>
                  <a:lnTo>
                    <a:pt x="19496" y="7331"/>
                  </a:lnTo>
                  <a:lnTo>
                    <a:pt x="19929" y="6595"/>
                  </a:lnTo>
                  <a:lnTo>
                    <a:pt x="20200" y="6007"/>
                  </a:lnTo>
                  <a:lnTo>
                    <a:pt x="20309" y="5860"/>
                  </a:lnTo>
                  <a:lnTo>
                    <a:pt x="21600" y="4094"/>
                  </a:lnTo>
                  <a:lnTo>
                    <a:pt x="21600" y="1471"/>
                  </a:lnTo>
                  <a:lnTo>
                    <a:pt x="21600" y="0"/>
                  </a:lnTo>
                  <a:lnTo>
                    <a:pt x="21167" y="441"/>
                  </a:lnTo>
                  <a:lnTo>
                    <a:pt x="20787" y="883"/>
                  </a:lnTo>
                  <a:close/>
                  <a:moveTo>
                    <a:pt x="20787" y="883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7" name="AutoShape 10"/>
            <p:cNvSpPr/>
            <p:nvPr/>
          </p:nvSpPr>
          <p:spPr>
            <a:xfrm>
              <a:off x="8666280" y="4184640"/>
              <a:ext cx="1303200" cy="58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78" y="20591"/>
                  </a:moveTo>
                  <a:lnTo>
                    <a:pt x="707" y="21096"/>
                  </a:lnTo>
                  <a:lnTo>
                    <a:pt x="236" y="21600"/>
                  </a:lnTo>
                  <a:lnTo>
                    <a:pt x="0" y="21600"/>
                  </a:lnTo>
                  <a:lnTo>
                    <a:pt x="11978" y="9497"/>
                  </a:lnTo>
                  <a:lnTo>
                    <a:pt x="20422" y="0"/>
                  </a:lnTo>
                  <a:lnTo>
                    <a:pt x="20657" y="504"/>
                  </a:lnTo>
                  <a:lnTo>
                    <a:pt x="21364" y="1513"/>
                  </a:lnTo>
                  <a:lnTo>
                    <a:pt x="21600" y="2017"/>
                  </a:lnTo>
                  <a:lnTo>
                    <a:pt x="21600" y="3026"/>
                  </a:lnTo>
                  <a:lnTo>
                    <a:pt x="21364" y="3530"/>
                  </a:lnTo>
                  <a:lnTo>
                    <a:pt x="20657" y="4539"/>
                  </a:lnTo>
                  <a:lnTo>
                    <a:pt x="20186" y="5043"/>
                  </a:lnTo>
                  <a:lnTo>
                    <a:pt x="19715" y="5547"/>
                  </a:lnTo>
                  <a:lnTo>
                    <a:pt x="17594" y="7060"/>
                  </a:lnTo>
                  <a:lnTo>
                    <a:pt x="15002" y="9497"/>
                  </a:lnTo>
                  <a:lnTo>
                    <a:pt x="11978" y="12019"/>
                  </a:lnTo>
                  <a:lnTo>
                    <a:pt x="8915" y="14540"/>
                  </a:lnTo>
                  <a:lnTo>
                    <a:pt x="5852" y="17061"/>
                  </a:lnTo>
                  <a:lnTo>
                    <a:pt x="3260" y="19079"/>
                  </a:lnTo>
                  <a:lnTo>
                    <a:pt x="1178" y="20591"/>
                  </a:lnTo>
                  <a:close/>
                  <a:moveTo>
                    <a:pt x="1178" y="20591"/>
                  </a:move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8" name="Freeform 11"/>
            <p:cNvSpPr/>
            <p:nvPr/>
          </p:nvSpPr>
          <p:spPr>
            <a:xfrm>
              <a:off x="8666280" y="3898800"/>
              <a:ext cx="1617480" cy="86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9880" y="338"/>
                  </a:moveTo>
                  <a:lnTo>
                    <a:pt x="17739" y="2369"/>
                  </a:lnTo>
                  <a:lnTo>
                    <a:pt x="15536" y="4737"/>
                  </a:lnTo>
                  <a:lnTo>
                    <a:pt x="15355" y="5076"/>
                  </a:lnTo>
                  <a:lnTo>
                    <a:pt x="14631" y="5752"/>
                  </a:lnTo>
                  <a:lnTo>
                    <a:pt x="13726" y="6768"/>
                  </a:lnTo>
                  <a:lnTo>
                    <a:pt x="12821" y="7783"/>
                  </a:lnTo>
                  <a:lnTo>
                    <a:pt x="11192" y="9475"/>
                  </a:lnTo>
                  <a:lnTo>
                    <a:pt x="9231" y="11167"/>
                  </a:lnTo>
                  <a:lnTo>
                    <a:pt x="5611" y="14156"/>
                  </a:lnTo>
                  <a:lnTo>
                    <a:pt x="3952" y="15171"/>
                  </a:lnTo>
                  <a:lnTo>
                    <a:pt x="2685" y="16186"/>
                  </a:lnTo>
                  <a:lnTo>
                    <a:pt x="1599" y="17201"/>
                  </a:lnTo>
                  <a:lnTo>
                    <a:pt x="1086" y="17539"/>
                  </a:lnTo>
                  <a:lnTo>
                    <a:pt x="362" y="18555"/>
                  </a:lnTo>
                  <a:lnTo>
                    <a:pt x="0" y="19908"/>
                  </a:lnTo>
                  <a:lnTo>
                    <a:pt x="0" y="20923"/>
                  </a:lnTo>
                  <a:lnTo>
                    <a:pt x="0" y="21600"/>
                  </a:lnTo>
                  <a:lnTo>
                    <a:pt x="362" y="20923"/>
                  </a:lnTo>
                  <a:lnTo>
                    <a:pt x="905" y="19908"/>
                  </a:lnTo>
                  <a:lnTo>
                    <a:pt x="1599" y="18893"/>
                  </a:lnTo>
                  <a:lnTo>
                    <a:pt x="2323" y="17878"/>
                  </a:lnTo>
                  <a:lnTo>
                    <a:pt x="3047" y="17539"/>
                  </a:lnTo>
                  <a:lnTo>
                    <a:pt x="3952" y="16863"/>
                  </a:lnTo>
                  <a:lnTo>
                    <a:pt x="6154" y="15171"/>
                  </a:lnTo>
                  <a:lnTo>
                    <a:pt x="7240" y="14156"/>
                  </a:lnTo>
                  <a:lnTo>
                    <a:pt x="8145" y="13479"/>
                  </a:lnTo>
                  <a:lnTo>
                    <a:pt x="8869" y="12858"/>
                  </a:lnTo>
                  <a:lnTo>
                    <a:pt x="9412" y="12520"/>
                  </a:lnTo>
                  <a:lnTo>
                    <a:pt x="9955" y="11843"/>
                  </a:lnTo>
                  <a:lnTo>
                    <a:pt x="11011" y="10490"/>
                  </a:lnTo>
                  <a:lnTo>
                    <a:pt x="12640" y="8798"/>
                  </a:lnTo>
                  <a:lnTo>
                    <a:pt x="14269" y="6768"/>
                  </a:lnTo>
                  <a:lnTo>
                    <a:pt x="15898" y="5076"/>
                  </a:lnTo>
                  <a:lnTo>
                    <a:pt x="17377" y="3384"/>
                  </a:lnTo>
                  <a:lnTo>
                    <a:pt x="18463" y="2369"/>
                  </a:lnTo>
                  <a:lnTo>
                    <a:pt x="18975" y="2030"/>
                  </a:lnTo>
                  <a:lnTo>
                    <a:pt x="19518" y="1692"/>
                  </a:lnTo>
                  <a:lnTo>
                    <a:pt x="20423" y="1015"/>
                  </a:lnTo>
                  <a:lnTo>
                    <a:pt x="21147" y="338"/>
                  </a:lnTo>
                  <a:lnTo>
                    <a:pt x="21509" y="0"/>
                  </a:lnTo>
                  <a:lnTo>
                    <a:pt x="19880" y="338"/>
                  </a:lnTo>
                  <a:lnTo>
                    <a:pt x="21600" y="355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69" name="Freeform 12"/>
            <p:cNvSpPr/>
            <p:nvPr/>
          </p:nvSpPr>
          <p:spPr>
            <a:xfrm>
              <a:off x="7794720" y="5126040"/>
              <a:ext cx="718920" cy="507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08" y="21600"/>
                  </a:moveTo>
                  <a:lnTo>
                    <a:pt x="0" y="18720"/>
                  </a:lnTo>
                  <a:lnTo>
                    <a:pt x="21396" y="0"/>
                  </a:lnTo>
                  <a:lnTo>
                    <a:pt x="20581" y="2592"/>
                  </a:lnTo>
                  <a:lnTo>
                    <a:pt x="21600" y="403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70" name="AutoShape 13"/>
            <p:cNvSpPr/>
            <p:nvPr/>
          </p:nvSpPr>
          <p:spPr>
            <a:xfrm>
              <a:off x="0" y="6000840"/>
              <a:ext cx="5857920" cy="2106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8166" y="15627"/>
                  </a:moveTo>
                  <a:lnTo>
                    <a:pt x="8740" y="15210"/>
                  </a:lnTo>
                  <a:lnTo>
                    <a:pt x="9514" y="15071"/>
                  </a:lnTo>
                  <a:lnTo>
                    <a:pt x="13160" y="15974"/>
                  </a:lnTo>
                  <a:lnTo>
                    <a:pt x="13509" y="17086"/>
                  </a:lnTo>
                  <a:lnTo>
                    <a:pt x="13909" y="16738"/>
                  </a:lnTo>
                  <a:lnTo>
                    <a:pt x="13784" y="15627"/>
                  </a:lnTo>
                  <a:lnTo>
                    <a:pt x="9789" y="14377"/>
                  </a:lnTo>
                  <a:lnTo>
                    <a:pt x="14958" y="12363"/>
                  </a:lnTo>
                  <a:lnTo>
                    <a:pt x="15432" y="13127"/>
                  </a:lnTo>
                  <a:lnTo>
                    <a:pt x="15657" y="13543"/>
                  </a:lnTo>
                  <a:lnTo>
                    <a:pt x="15557" y="14168"/>
                  </a:lnTo>
                  <a:lnTo>
                    <a:pt x="16606" y="19725"/>
                  </a:lnTo>
                  <a:lnTo>
                    <a:pt x="17505" y="19933"/>
                  </a:lnTo>
                  <a:lnTo>
                    <a:pt x="15723" y="12455"/>
                  </a:lnTo>
                  <a:lnTo>
                    <a:pt x="15674" y="12039"/>
                  </a:lnTo>
                  <a:lnTo>
                    <a:pt x="15582" y="11761"/>
                  </a:lnTo>
                  <a:lnTo>
                    <a:pt x="15332" y="11344"/>
                  </a:lnTo>
                  <a:lnTo>
                    <a:pt x="15033" y="11066"/>
                  </a:lnTo>
                  <a:lnTo>
                    <a:pt x="14733" y="10788"/>
                  </a:lnTo>
                  <a:lnTo>
                    <a:pt x="14583" y="10511"/>
                  </a:lnTo>
                  <a:lnTo>
                    <a:pt x="14483" y="10372"/>
                  </a:lnTo>
                  <a:lnTo>
                    <a:pt x="14533" y="10094"/>
                  </a:lnTo>
                  <a:lnTo>
                    <a:pt x="14633" y="10094"/>
                  </a:lnTo>
                  <a:lnTo>
                    <a:pt x="14833" y="9955"/>
                  </a:lnTo>
                  <a:lnTo>
                    <a:pt x="15232" y="9955"/>
                  </a:lnTo>
                  <a:lnTo>
                    <a:pt x="15432" y="9955"/>
                  </a:lnTo>
                  <a:lnTo>
                    <a:pt x="15624" y="9816"/>
                  </a:lnTo>
                  <a:lnTo>
                    <a:pt x="16023" y="9260"/>
                  </a:lnTo>
                  <a:lnTo>
                    <a:pt x="16273" y="9122"/>
                  </a:lnTo>
                  <a:lnTo>
                    <a:pt x="16473" y="9122"/>
                  </a:lnTo>
                  <a:lnTo>
                    <a:pt x="17080" y="9168"/>
                  </a:lnTo>
                  <a:lnTo>
                    <a:pt x="17030" y="10557"/>
                  </a:lnTo>
                  <a:lnTo>
                    <a:pt x="18753" y="16947"/>
                  </a:lnTo>
                  <a:lnTo>
                    <a:pt x="19428" y="18891"/>
                  </a:lnTo>
                  <a:lnTo>
                    <a:pt x="20102" y="21600"/>
                  </a:lnTo>
                  <a:lnTo>
                    <a:pt x="20227" y="21044"/>
                  </a:lnTo>
                  <a:lnTo>
                    <a:pt x="19952" y="19169"/>
                  </a:lnTo>
                  <a:lnTo>
                    <a:pt x="17430" y="9538"/>
                  </a:lnTo>
                  <a:lnTo>
                    <a:pt x="17380" y="9260"/>
                  </a:lnTo>
                  <a:lnTo>
                    <a:pt x="17280" y="8705"/>
                  </a:lnTo>
                  <a:lnTo>
                    <a:pt x="17030" y="8010"/>
                  </a:lnTo>
                  <a:lnTo>
                    <a:pt x="16772" y="7455"/>
                  </a:lnTo>
                  <a:lnTo>
                    <a:pt x="16622" y="7038"/>
                  </a:lnTo>
                  <a:lnTo>
                    <a:pt x="16473" y="6760"/>
                  </a:lnTo>
                  <a:lnTo>
                    <a:pt x="16373" y="6621"/>
                  </a:lnTo>
                  <a:lnTo>
                    <a:pt x="16423" y="6621"/>
                  </a:lnTo>
                  <a:lnTo>
                    <a:pt x="16523" y="6621"/>
                  </a:lnTo>
                  <a:lnTo>
                    <a:pt x="16722" y="6621"/>
                  </a:lnTo>
                  <a:lnTo>
                    <a:pt x="16980" y="6899"/>
                  </a:lnTo>
                  <a:lnTo>
                    <a:pt x="17330" y="7455"/>
                  </a:lnTo>
                  <a:lnTo>
                    <a:pt x="17680" y="8057"/>
                  </a:lnTo>
                  <a:lnTo>
                    <a:pt x="18304" y="8890"/>
                  </a:lnTo>
                  <a:lnTo>
                    <a:pt x="19353" y="9862"/>
                  </a:lnTo>
                  <a:lnTo>
                    <a:pt x="19927" y="10372"/>
                  </a:lnTo>
                  <a:lnTo>
                    <a:pt x="21001" y="12085"/>
                  </a:lnTo>
                  <a:lnTo>
                    <a:pt x="21600" y="11946"/>
                  </a:lnTo>
                  <a:lnTo>
                    <a:pt x="20326" y="10511"/>
                  </a:lnTo>
                  <a:lnTo>
                    <a:pt x="19877" y="9816"/>
                  </a:lnTo>
                  <a:lnTo>
                    <a:pt x="19369" y="8983"/>
                  </a:lnTo>
                  <a:lnTo>
                    <a:pt x="18470" y="7871"/>
                  </a:lnTo>
                  <a:lnTo>
                    <a:pt x="17530" y="6760"/>
                  </a:lnTo>
                  <a:lnTo>
                    <a:pt x="17080" y="6482"/>
                  </a:lnTo>
                  <a:lnTo>
                    <a:pt x="16672" y="6205"/>
                  </a:lnTo>
                  <a:lnTo>
                    <a:pt x="16273" y="6066"/>
                  </a:lnTo>
                  <a:lnTo>
                    <a:pt x="15973" y="6205"/>
                  </a:lnTo>
                  <a:lnTo>
                    <a:pt x="15624" y="6343"/>
                  </a:lnTo>
                  <a:lnTo>
                    <a:pt x="15083" y="6343"/>
                  </a:lnTo>
                  <a:lnTo>
                    <a:pt x="14583" y="6343"/>
                  </a:lnTo>
                  <a:lnTo>
                    <a:pt x="14175" y="6621"/>
                  </a:lnTo>
                  <a:lnTo>
                    <a:pt x="13826" y="6760"/>
                  </a:lnTo>
                  <a:lnTo>
                    <a:pt x="13576" y="7038"/>
                  </a:lnTo>
                  <a:lnTo>
                    <a:pt x="13376" y="7316"/>
                  </a:lnTo>
                  <a:lnTo>
                    <a:pt x="13276" y="7455"/>
                  </a:lnTo>
                  <a:lnTo>
                    <a:pt x="13226" y="7455"/>
                  </a:lnTo>
                  <a:lnTo>
                    <a:pt x="12486" y="7732"/>
                  </a:lnTo>
                  <a:lnTo>
                    <a:pt x="11728" y="8288"/>
                  </a:lnTo>
                  <a:lnTo>
                    <a:pt x="10288" y="9677"/>
                  </a:lnTo>
                  <a:lnTo>
                    <a:pt x="9589" y="10233"/>
                  </a:lnTo>
                  <a:lnTo>
                    <a:pt x="8831" y="10650"/>
                  </a:lnTo>
                  <a:lnTo>
                    <a:pt x="8041" y="10650"/>
                  </a:lnTo>
                  <a:lnTo>
                    <a:pt x="7641" y="10511"/>
                  </a:lnTo>
                  <a:lnTo>
                    <a:pt x="7242" y="10233"/>
                  </a:lnTo>
                  <a:lnTo>
                    <a:pt x="7142" y="10094"/>
                  </a:lnTo>
                  <a:lnTo>
                    <a:pt x="6892" y="9955"/>
                  </a:lnTo>
                  <a:lnTo>
                    <a:pt x="6584" y="9538"/>
                  </a:lnTo>
                  <a:lnTo>
                    <a:pt x="6185" y="8983"/>
                  </a:lnTo>
                  <a:lnTo>
                    <a:pt x="5743" y="8427"/>
                  </a:lnTo>
                  <a:lnTo>
                    <a:pt x="5294" y="7732"/>
                  </a:lnTo>
                  <a:lnTo>
                    <a:pt x="4287" y="6482"/>
                  </a:lnTo>
                  <a:lnTo>
                    <a:pt x="3887" y="5927"/>
                  </a:lnTo>
                  <a:lnTo>
                    <a:pt x="3687" y="5649"/>
                  </a:lnTo>
                  <a:lnTo>
                    <a:pt x="0" y="0"/>
                  </a:lnTo>
                  <a:lnTo>
                    <a:pt x="1024" y="2778"/>
                  </a:lnTo>
                  <a:lnTo>
                    <a:pt x="4869" y="9029"/>
                  </a:lnTo>
                  <a:lnTo>
                    <a:pt x="5893" y="10696"/>
                  </a:lnTo>
                  <a:lnTo>
                    <a:pt x="7067" y="12571"/>
                  </a:lnTo>
                  <a:lnTo>
                    <a:pt x="7342" y="13057"/>
                  </a:lnTo>
                  <a:lnTo>
                    <a:pt x="7466" y="14377"/>
                  </a:lnTo>
                  <a:lnTo>
                    <a:pt x="8166" y="15627"/>
                  </a:lnTo>
                  <a:close/>
                  <a:moveTo>
                    <a:pt x="8166" y="15627"/>
                  </a:move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  <p:sp>
          <p:nvSpPr>
            <p:cNvPr id="371" name="AutoShape 14"/>
            <p:cNvSpPr/>
            <p:nvPr/>
          </p:nvSpPr>
          <p:spPr>
            <a:xfrm>
              <a:off x="0" y="6759720"/>
              <a:ext cx="6146640" cy="246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5920"/>
                  </a:moveTo>
                  <a:lnTo>
                    <a:pt x="21537" y="4752"/>
                  </a:lnTo>
                  <a:lnTo>
                    <a:pt x="21069" y="3861"/>
                  </a:lnTo>
                  <a:lnTo>
                    <a:pt x="18800" y="1425"/>
                  </a:lnTo>
                  <a:lnTo>
                    <a:pt x="18268" y="1069"/>
                  </a:lnTo>
                  <a:lnTo>
                    <a:pt x="20505" y="3682"/>
                  </a:lnTo>
                  <a:lnTo>
                    <a:pt x="20553" y="3801"/>
                  </a:lnTo>
                  <a:lnTo>
                    <a:pt x="20601" y="3920"/>
                  </a:lnTo>
                  <a:lnTo>
                    <a:pt x="20791" y="4514"/>
                  </a:lnTo>
                  <a:lnTo>
                    <a:pt x="20934" y="5108"/>
                  </a:lnTo>
                  <a:lnTo>
                    <a:pt x="20989" y="5346"/>
                  </a:lnTo>
                  <a:lnTo>
                    <a:pt x="20934" y="5464"/>
                  </a:lnTo>
                  <a:lnTo>
                    <a:pt x="20648" y="5583"/>
                  </a:lnTo>
                  <a:lnTo>
                    <a:pt x="20267" y="5583"/>
                  </a:lnTo>
                  <a:lnTo>
                    <a:pt x="19887" y="5464"/>
                  </a:lnTo>
                  <a:lnTo>
                    <a:pt x="19458" y="5227"/>
                  </a:lnTo>
                  <a:lnTo>
                    <a:pt x="18990" y="4870"/>
                  </a:lnTo>
                  <a:lnTo>
                    <a:pt x="18562" y="4395"/>
                  </a:lnTo>
                  <a:lnTo>
                    <a:pt x="18411" y="4276"/>
                  </a:lnTo>
                  <a:lnTo>
                    <a:pt x="18221" y="4039"/>
                  </a:lnTo>
                  <a:lnTo>
                    <a:pt x="17221" y="2495"/>
                  </a:lnTo>
                  <a:lnTo>
                    <a:pt x="17174" y="2376"/>
                  </a:lnTo>
                  <a:lnTo>
                    <a:pt x="17086" y="2019"/>
                  </a:lnTo>
                  <a:lnTo>
                    <a:pt x="16753" y="1307"/>
                  </a:lnTo>
                  <a:lnTo>
                    <a:pt x="16373" y="475"/>
                  </a:lnTo>
                  <a:lnTo>
                    <a:pt x="16230" y="119"/>
                  </a:lnTo>
                  <a:lnTo>
                    <a:pt x="16135" y="0"/>
                  </a:lnTo>
                  <a:lnTo>
                    <a:pt x="16563" y="1425"/>
                  </a:lnTo>
                  <a:lnTo>
                    <a:pt x="16706" y="2138"/>
                  </a:lnTo>
                  <a:lnTo>
                    <a:pt x="16706" y="2257"/>
                  </a:lnTo>
                  <a:lnTo>
                    <a:pt x="16753" y="2257"/>
                  </a:lnTo>
                  <a:lnTo>
                    <a:pt x="19085" y="10216"/>
                  </a:lnTo>
                  <a:lnTo>
                    <a:pt x="19133" y="10572"/>
                  </a:lnTo>
                  <a:lnTo>
                    <a:pt x="19133" y="10929"/>
                  </a:lnTo>
                  <a:lnTo>
                    <a:pt x="18990" y="11404"/>
                  </a:lnTo>
                  <a:lnTo>
                    <a:pt x="18752" y="11641"/>
                  </a:lnTo>
                  <a:lnTo>
                    <a:pt x="18411" y="11641"/>
                  </a:lnTo>
                  <a:lnTo>
                    <a:pt x="18078" y="11166"/>
                  </a:lnTo>
                  <a:lnTo>
                    <a:pt x="17745" y="10572"/>
                  </a:lnTo>
                  <a:lnTo>
                    <a:pt x="17459" y="9978"/>
                  </a:lnTo>
                  <a:lnTo>
                    <a:pt x="17412" y="9860"/>
                  </a:lnTo>
                  <a:lnTo>
                    <a:pt x="17364" y="9741"/>
                  </a:lnTo>
                  <a:lnTo>
                    <a:pt x="17221" y="9147"/>
                  </a:lnTo>
                  <a:lnTo>
                    <a:pt x="16991" y="8315"/>
                  </a:lnTo>
                  <a:lnTo>
                    <a:pt x="16658" y="7484"/>
                  </a:lnTo>
                  <a:lnTo>
                    <a:pt x="16325" y="6533"/>
                  </a:lnTo>
                  <a:lnTo>
                    <a:pt x="16182" y="6296"/>
                  </a:lnTo>
                  <a:lnTo>
                    <a:pt x="16087" y="5940"/>
                  </a:lnTo>
                  <a:lnTo>
                    <a:pt x="15936" y="5227"/>
                  </a:lnTo>
                  <a:lnTo>
                    <a:pt x="15793" y="4633"/>
                  </a:lnTo>
                  <a:lnTo>
                    <a:pt x="15746" y="4158"/>
                  </a:lnTo>
                  <a:lnTo>
                    <a:pt x="15651" y="3801"/>
                  </a:lnTo>
                  <a:lnTo>
                    <a:pt x="15603" y="3564"/>
                  </a:lnTo>
                  <a:lnTo>
                    <a:pt x="15460" y="3445"/>
                  </a:lnTo>
                  <a:lnTo>
                    <a:pt x="15127" y="3089"/>
                  </a:lnTo>
                  <a:lnTo>
                    <a:pt x="14754" y="2732"/>
                  </a:lnTo>
                  <a:lnTo>
                    <a:pt x="14564" y="2613"/>
                  </a:lnTo>
                  <a:lnTo>
                    <a:pt x="14469" y="2613"/>
                  </a:lnTo>
                  <a:lnTo>
                    <a:pt x="14326" y="2613"/>
                  </a:lnTo>
                  <a:lnTo>
                    <a:pt x="14278" y="2732"/>
                  </a:lnTo>
                  <a:lnTo>
                    <a:pt x="14231" y="2851"/>
                  </a:lnTo>
                  <a:lnTo>
                    <a:pt x="14612" y="3089"/>
                  </a:lnTo>
                  <a:lnTo>
                    <a:pt x="14850" y="3564"/>
                  </a:lnTo>
                  <a:lnTo>
                    <a:pt x="14984" y="4039"/>
                  </a:lnTo>
                  <a:lnTo>
                    <a:pt x="15032" y="4395"/>
                  </a:lnTo>
                  <a:lnTo>
                    <a:pt x="14984" y="4752"/>
                  </a:lnTo>
                  <a:lnTo>
                    <a:pt x="15080" y="5346"/>
                  </a:lnTo>
                  <a:lnTo>
                    <a:pt x="15222" y="6296"/>
                  </a:lnTo>
                  <a:lnTo>
                    <a:pt x="15413" y="7246"/>
                  </a:lnTo>
                  <a:lnTo>
                    <a:pt x="15793" y="9503"/>
                  </a:lnTo>
                  <a:lnTo>
                    <a:pt x="16031" y="10572"/>
                  </a:lnTo>
                  <a:lnTo>
                    <a:pt x="16182" y="11523"/>
                  </a:lnTo>
                  <a:lnTo>
                    <a:pt x="16373" y="12473"/>
                  </a:lnTo>
                  <a:lnTo>
                    <a:pt x="16468" y="13186"/>
                  </a:lnTo>
                  <a:lnTo>
                    <a:pt x="16515" y="13522"/>
                  </a:lnTo>
                  <a:lnTo>
                    <a:pt x="16420" y="13760"/>
                  </a:lnTo>
                  <a:lnTo>
                    <a:pt x="16277" y="13760"/>
                  </a:lnTo>
                  <a:lnTo>
                    <a:pt x="16031" y="13760"/>
                  </a:lnTo>
                  <a:lnTo>
                    <a:pt x="15841" y="13760"/>
                  </a:lnTo>
                  <a:lnTo>
                    <a:pt x="15651" y="13641"/>
                  </a:lnTo>
                  <a:lnTo>
                    <a:pt x="15508" y="13522"/>
                  </a:lnTo>
                  <a:lnTo>
                    <a:pt x="15460" y="13522"/>
                  </a:lnTo>
                  <a:lnTo>
                    <a:pt x="15460" y="13403"/>
                  </a:lnTo>
                  <a:lnTo>
                    <a:pt x="15413" y="13304"/>
                  </a:lnTo>
                  <a:lnTo>
                    <a:pt x="15175" y="12592"/>
                  </a:lnTo>
                  <a:lnTo>
                    <a:pt x="14326" y="6415"/>
                  </a:lnTo>
                  <a:lnTo>
                    <a:pt x="14088" y="6533"/>
                  </a:lnTo>
                  <a:lnTo>
                    <a:pt x="13850" y="6533"/>
                  </a:lnTo>
                  <a:lnTo>
                    <a:pt x="13509" y="6177"/>
                  </a:lnTo>
                  <a:lnTo>
                    <a:pt x="13271" y="5702"/>
                  </a:lnTo>
                  <a:lnTo>
                    <a:pt x="13223" y="5464"/>
                  </a:lnTo>
                  <a:lnTo>
                    <a:pt x="13128" y="5346"/>
                  </a:lnTo>
                  <a:lnTo>
                    <a:pt x="12985" y="5464"/>
                  </a:lnTo>
                  <a:lnTo>
                    <a:pt x="12938" y="5702"/>
                  </a:lnTo>
                  <a:lnTo>
                    <a:pt x="12890" y="6058"/>
                  </a:lnTo>
                  <a:lnTo>
                    <a:pt x="12890" y="6177"/>
                  </a:lnTo>
                  <a:lnTo>
                    <a:pt x="13033" y="6296"/>
                  </a:lnTo>
                  <a:lnTo>
                    <a:pt x="13128" y="6652"/>
                  </a:lnTo>
                  <a:lnTo>
                    <a:pt x="13223" y="7246"/>
                  </a:lnTo>
                  <a:lnTo>
                    <a:pt x="13271" y="7959"/>
                  </a:lnTo>
                  <a:lnTo>
                    <a:pt x="13271" y="8078"/>
                  </a:lnTo>
                  <a:lnTo>
                    <a:pt x="13271" y="8197"/>
                  </a:lnTo>
                  <a:lnTo>
                    <a:pt x="13612" y="15067"/>
                  </a:lnTo>
                  <a:lnTo>
                    <a:pt x="13612" y="15304"/>
                  </a:lnTo>
                  <a:lnTo>
                    <a:pt x="13612" y="15423"/>
                  </a:lnTo>
                  <a:lnTo>
                    <a:pt x="13557" y="15304"/>
                  </a:lnTo>
                  <a:lnTo>
                    <a:pt x="13509" y="14948"/>
                  </a:lnTo>
                  <a:lnTo>
                    <a:pt x="13461" y="14829"/>
                  </a:lnTo>
                  <a:lnTo>
                    <a:pt x="13414" y="14591"/>
                  </a:lnTo>
                  <a:lnTo>
                    <a:pt x="13319" y="14116"/>
                  </a:lnTo>
                  <a:lnTo>
                    <a:pt x="13176" y="13304"/>
                  </a:lnTo>
                  <a:lnTo>
                    <a:pt x="13033" y="12473"/>
                  </a:lnTo>
                  <a:lnTo>
                    <a:pt x="12795" y="11523"/>
                  </a:lnTo>
                  <a:lnTo>
                    <a:pt x="12605" y="10691"/>
                  </a:lnTo>
                  <a:lnTo>
                    <a:pt x="12375" y="10097"/>
                  </a:lnTo>
                  <a:lnTo>
                    <a:pt x="12184" y="9741"/>
                  </a:lnTo>
                  <a:lnTo>
                    <a:pt x="11851" y="9503"/>
                  </a:lnTo>
                  <a:lnTo>
                    <a:pt x="11470" y="9503"/>
                  </a:lnTo>
                  <a:lnTo>
                    <a:pt x="11082" y="9622"/>
                  </a:lnTo>
                  <a:lnTo>
                    <a:pt x="10701" y="9860"/>
                  </a:lnTo>
                  <a:lnTo>
                    <a:pt x="9900" y="10454"/>
                  </a:lnTo>
                  <a:lnTo>
                    <a:pt x="9186" y="11285"/>
                  </a:lnTo>
                  <a:lnTo>
                    <a:pt x="8757" y="11879"/>
                  </a:lnTo>
                  <a:lnTo>
                    <a:pt x="8226" y="12354"/>
                  </a:lnTo>
                  <a:lnTo>
                    <a:pt x="7901" y="12473"/>
                  </a:lnTo>
                  <a:lnTo>
                    <a:pt x="7520" y="12473"/>
                  </a:lnTo>
                  <a:lnTo>
                    <a:pt x="7139" y="12235"/>
                  </a:lnTo>
                  <a:lnTo>
                    <a:pt x="6663" y="11641"/>
                  </a:lnTo>
                  <a:lnTo>
                    <a:pt x="5664" y="10572"/>
                  </a:lnTo>
                  <a:lnTo>
                    <a:pt x="4617" y="9384"/>
                  </a:lnTo>
                  <a:lnTo>
                    <a:pt x="3514" y="8078"/>
                  </a:lnTo>
                  <a:lnTo>
                    <a:pt x="2523" y="6890"/>
                  </a:lnTo>
                  <a:lnTo>
                    <a:pt x="1571" y="5702"/>
                  </a:lnTo>
                  <a:lnTo>
                    <a:pt x="1182" y="5227"/>
                  </a:lnTo>
                  <a:lnTo>
                    <a:pt x="809" y="4752"/>
                  </a:lnTo>
                  <a:lnTo>
                    <a:pt x="0" y="3702"/>
                  </a:lnTo>
                  <a:lnTo>
                    <a:pt x="0" y="9107"/>
                  </a:lnTo>
                  <a:lnTo>
                    <a:pt x="286" y="9384"/>
                  </a:lnTo>
                  <a:lnTo>
                    <a:pt x="1182" y="10216"/>
                  </a:lnTo>
                  <a:lnTo>
                    <a:pt x="1713" y="10691"/>
                  </a:lnTo>
                  <a:lnTo>
                    <a:pt x="2285" y="11285"/>
                  </a:lnTo>
                  <a:lnTo>
                    <a:pt x="2760" y="11760"/>
                  </a:lnTo>
                  <a:lnTo>
                    <a:pt x="3141" y="12235"/>
                  </a:lnTo>
                  <a:lnTo>
                    <a:pt x="3427" y="12592"/>
                  </a:lnTo>
                  <a:lnTo>
                    <a:pt x="3657" y="12948"/>
                  </a:lnTo>
                  <a:lnTo>
                    <a:pt x="3998" y="13304"/>
                  </a:lnTo>
                  <a:lnTo>
                    <a:pt x="4664" y="13997"/>
                  </a:lnTo>
                  <a:lnTo>
                    <a:pt x="5426" y="14710"/>
                  </a:lnTo>
                  <a:lnTo>
                    <a:pt x="5751" y="14948"/>
                  </a:lnTo>
                  <a:lnTo>
                    <a:pt x="6037" y="15185"/>
                  </a:lnTo>
                  <a:lnTo>
                    <a:pt x="6568" y="15423"/>
                  </a:lnTo>
                  <a:lnTo>
                    <a:pt x="7092" y="15542"/>
                  </a:lnTo>
                  <a:lnTo>
                    <a:pt x="7663" y="15660"/>
                  </a:lnTo>
                  <a:lnTo>
                    <a:pt x="8178" y="15660"/>
                  </a:lnTo>
                  <a:lnTo>
                    <a:pt x="8662" y="15542"/>
                  </a:lnTo>
                  <a:lnTo>
                    <a:pt x="9091" y="15542"/>
                  </a:lnTo>
                  <a:lnTo>
                    <a:pt x="9329" y="15423"/>
                  </a:lnTo>
                  <a:lnTo>
                    <a:pt x="9424" y="15423"/>
                  </a:lnTo>
                  <a:lnTo>
                    <a:pt x="9804" y="15542"/>
                  </a:lnTo>
                  <a:lnTo>
                    <a:pt x="10138" y="15660"/>
                  </a:lnTo>
                  <a:lnTo>
                    <a:pt x="10368" y="15898"/>
                  </a:lnTo>
                  <a:lnTo>
                    <a:pt x="10606" y="16017"/>
                  </a:lnTo>
                  <a:lnTo>
                    <a:pt x="10939" y="16373"/>
                  </a:lnTo>
                  <a:lnTo>
                    <a:pt x="11137" y="16730"/>
                  </a:lnTo>
                  <a:lnTo>
                    <a:pt x="11232" y="17086"/>
                  </a:lnTo>
                  <a:lnTo>
                    <a:pt x="11232" y="17324"/>
                  </a:lnTo>
                  <a:lnTo>
                    <a:pt x="11232" y="17442"/>
                  </a:lnTo>
                  <a:lnTo>
                    <a:pt x="11232" y="17561"/>
                  </a:lnTo>
                  <a:lnTo>
                    <a:pt x="11185" y="17561"/>
                  </a:lnTo>
                  <a:lnTo>
                    <a:pt x="11082" y="17680"/>
                  </a:lnTo>
                  <a:lnTo>
                    <a:pt x="10939" y="17918"/>
                  </a:lnTo>
                  <a:lnTo>
                    <a:pt x="10796" y="18274"/>
                  </a:lnTo>
                  <a:lnTo>
                    <a:pt x="10748" y="18630"/>
                  </a:lnTo>
                  <a:lnTo>
                    <a:pt x="10796" y="19224"/>
                  </a:lnTo>
                  <a:lnTo>
                    <a:pt x="10844" y="19581"/>
                  </a:lnTo>
                  <a:lnTo>
                    <a:pt x="10986" y="19937"/>
                  </a:lnTo>
                  <a:lnTo>
                    <a:pt x="11137" y="20293"/>
                  </a:lnTo>
                  <a:lnTo>
                    <a:pt x="11375" y="20768"/>
                  </a:lnTo>
                  <a:lnTo>
                    <a:pt x="11613" y="21125"/>
                  </a:lnTo>
                  <a:lnTo>
                    <a:pt x="11851" y="21481"/>
                  </a:lnTo>
                  <a:lnTo>
                    <a:pt x="12327" y="21600"/>
                  </a:lnTo>
                  <a:lnTo>
                    <a:pt x="12747" y="21481"/>
                  </a:lnTo>
                  <a:lnTo>
                    <a:pt x="13176" y="21125"/>
                  </a:lnTo>
                  <a:lnTo>
                    <a:pt x="13461" y="20650"/>
                  </a:lnTo>
                  <a:lnTo>
                    <a:pt x="13755" y="20175"/>
                  </a:lnTo>
                  <a:lnTo>
                    <a:pt x="13898" y="19699"/>
                  </a:lnTo>
                  <a:lnTo>
                    <a:pt x="13945" y="19581"/>
                  </a:lnTo>
                  <a:lnTo>
                    <a:pt x="14374" y="19581"/>
                  </a:lnTo>
                  <a:lnTo>
                    <a:pt x="14754" y="19462"/>
                  </a:lnTo>
                  <a:lnTo>
                    <a:pt x="15127" y="19105"/>
                  </a:lnTo>
                  <a:lnTo>
                    <a:pt x="15413" y="18630"/>
                  </a:lnTo>
                  <a:lnTo>
                    <a:pt x="15651" y="18155"/>
                  </a:lnTo>
                  <a:lnTo>
                    <a:pt x="15889" y="17799"/>
                  </a:lnTo>
                  <a:lnTo>
                    <a:pt x="15984" y="17442"/>
                  </a:lnTo>
                  <a:lnTo>
                    <a:pt x="16031" y="17324"/>
                  </a:lnTo>
                  <a:lnTo>
                    <a:pt x="17459" y="17799"/>
                  </a:lnTo>
                  <a:lnTo>
                    <a:pt x="17792" y="17918"/>
                  </a:lnTo>
                  <a:lnTo>
                    <a:pt x="18030" y="17799"/>
                  </a:lnTo>
                  <a:lnTo>
                    <a:pt x="18459" y="17561"/>
                  </a:lnTo>
                  <a:lnTo>
                    <a:pt x="18752" y="17086"/>
                  </a:lnTo>
                  <a:lnTo>
                    <a:pt x="18943" y="16373"/>
                  </a:lnTo>
                  <a:lnTo>
                    <a:pt x="19038" y="15779"/>
                  </a:lnTo>
                  <a:lnTo>
                    <a:pt x="19038" y="15185"/>
                  </a:lnTo>
                  <a:lnTo>
                    <a:pt x="19038" y="14710"/>
                  </a:lnTo>
                  <a:lnTo>
                    <a:pt x="19038" y="14591"/>
                  </a:lnTo>
                  <a:lnTo>
                    <a:pt x="19181" y="14591"/>
                  </a:lnTo>
                  <a:lnTo>
                    <a:pt x="19323" y="14473"/>
                  </a:lnTo>
                  <a:lnTo>
                    <a:pt x="19601" y="13879"/>
                  </a:lnTo>
                  <a:lnTo>
                    <a:pt x="19934" y="13067"/>
                  </a:lnTo>
                  <a:lnTo>
                    <a:pt x="20267" y="11998"/>
                  </a:lnTo>
                  <a:lnTo>
                    <a:pt x="20553" y="10929"/>
                  </a:lnTo>
                  <a:lnTo>
                    <a:pt x="20791" y="9978"/>
                  </a:lnTo>
                  <a:lnTo>
                    <a:pt x="20934" y="9266"/>
                  </a:lnTo>
                  <a:lnTo>
                    <a:pt x="20989" y="9147"/>
                  </a:lnTo>
                  <a:lnTo>
                    <a:pt x="20989" y="9028"/>
                  </a:lnTo>
                  <a:lnTo>
                    <a:pt x="21362" y="7405"/>
                  </a:lnTo>
                  <a:lnTo>
                    <a:pt x="21600" y="5920"/>
                  </a:lnTo>
                  <a:close/>
                  <a:moveTo>
                    <a:pt x="21600" y="5920"/>
                  </a:moveTo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330000"/>
                </a:solidFill>
                <a:latin typeface="Big Caslo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b9efee"/>
                </a:solidFill>
                <a:latin typeface="Lucida Grande"/>
              </a:rPr>
              <a:t>Click to edit the title text format</a:t>
            </a:r>
            <a:endParaRPr b="1" lang="en-US" sz="6200" spc="-1" strike="noStrike">
              <a:solidFill>
                <a:srgbClr val="b9efee"/>
              </a:solidFill>
              <a:latin typeface="Lucida Gran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ldNum" idx="9"/>
          </p:nvPr>
        </p:nvSpPr>
        <p:spPr>
          <a:xfrm>
            <a:off x="10648800" y="9207360"/>
            <a:ext cx="371520" cy="3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844E-6432-4FD1-B948-9EC111608C0F}" type="slidenum">
              <a:rPr b="0" lang="en-US" sz="16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1" marL="630360" indent="-285840">
              <a:spcBef>
                <a:spcPts val="11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2" marL="1030320" indent="-228600">
              <a:spcBef>
                <a:spcPts val="1100"/>
              </a:spcBef>
              <a:buClr>
                <a:srgbClr val="b9efee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3" marL="1487520" indent="-228600">
              <a:spcBef>
                <a:spcPts val="1100"/>
              </a:spcBef>
              <a:buClr>
                <a:srgbClr val="ffffff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4" marL="1944720" indent="-228600">
              <a:spcBef>
                <a:spcPts val="1100"/>
              </a:spcBef>
              <a:buClr>
                <a:srgbClr val="ccff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5" marL="1944720" indent="-228600">
              <a:spcBef>
                <a:spcPts val="11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  <a:p>
            <a:pPr lvl="6" marL="1944720" indent="-228600">
              <a:spcBef>
                <a:spcPts val="11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20000"/>
                </a:solidFill>
                <a:latin typeface="Big Caslon"/>
              </a:rPr>
              <a:t>Bell Ringer 9-11</a:t>
            </a:r>
            <a:r>
              <a:rPr b="0" lang="en-US" sz="6200" spc="-1" strike="noStrike">
                <a:solidFill>
                  <a:srgbClr val="320000"/>
                </a:solidFill>
                <a:latin typeface="Big Caslon"/>
              </a:rPr>
              <a:t>	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What is the difference between latitude and longitude?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10518840" y="8889840"/>
            <a:ext cx="307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3166-F7E8-40C6-9EB9-0BBFB94A8CE0}" type="slidenum">
              <a:rPr b="0" lang="en-US" sz="1800" spc="-1" strike="noStrike">
                <a:solidFill>
                  <a:srgbClr val="330000"/>
                </a:solidFill>
                <a:latin typeface="Big Caslon"/>
                <a:ea typeface="Big Caslon"/>
              </a:rPr>
              <a:t>1</a:t>
            </a:fld>
            <a:endParaRPr b="0" lang="en-US" sz="1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3dcc"/>
                </a:solidFill>
                <a:latin typeface="Big Caslon"/>
              </a:rPr>
              <a:t>HUMAN-ENVIRONMENT INTERACTION</a:t>
            </a:r>
            <a:endParaRPr b="0" lang="en-US" sz="56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00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How humans and the environment affect each other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546120" y="7365960"/>
            <a:ext cx="1320840" cy="2387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9105840" y="4991040"/>
            <a:ext cx="2387520" cy="23875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" descr=""/>
          <p:cNvPicPr/>
          <p:nvPr/>
        </p:nvPicPr>
        <p:blipFill>
          <a:blip r:embed="rId4"/>
          <a:stretch/>
        </p:blipFill>
        <p:spPr>
          <a:xfrm>
            <a:off x="3467160" y="5359320"/>
            <a:ext cx="346716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7562880" presetSubtype="917285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20000"/>
                </a:solidFill>
                <a:latin typeface="Big Caslon"/>
              </a:rPr>
              <a:t>TOC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Pg13: Postcard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marL="382680" indent="-343080">
              <a:spcBef>
                <a:spcPts val="1100"/>
              </a:spcBef>
              <a:buClr>
                <a:srgbClr val="330000"/>
              </a:buClr>
              <a:buFont typeface="Big Casl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Pg14: 5 themes of geo c-n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10518840" y="8889840"/>
            <a:ext cx="307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9ACF-61FB-4D1B-A1DF-660B2099EFBB}" type="slidenum">
              <a:rPr b="0" lang="en-US" sz="1800" spc="-1" strike="noStrike">
                <a:solidFill>
                  <a:srgbClr val="330000"/>
                </a:solidFill>
                <a:latin typeface="Big Caslon"/>
                <a:ea typeface="Big Caslon"/>
              </a:rPr>
              <a:t>&lt;number&gt;</a:t>
            </a:fld>
            <a:endParaRPr b="0" lang="en-US" sz="1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77760" y="343080"/>
            <a:ext cx="11049120" cy="248904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44fe"/>
                </a:solidFill>
                <a:latin typeface="Big Caslon"/>
              </a:rPr>
              <a:t>Five themes-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Big Caslon"/>
              </a:rPr>
              <a:t>Tools geographers use to study features on earth.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cc6018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ig Caslon"/>
              </a:rPr>
              <a:t>Location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cc6018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ig Caslon"/>
              </a:rPr>
              <a:t>Place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cc6018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ig Caslon"/>
              </a:rPr>
              <a:t>Movement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cc6018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ig Caslon"/>
              </a:rPr>
              <a:t>Region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cc6018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ig Caslon"/>
              </a:rPr>
              <a:t>Human Environment Interaction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44fe"/>
                </a:solidFill>
                <a:latin typeface="Big Caslon"/>
              </a:rPr>
              <a:t>Location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1100"/>
              </a:spcBef>
              <a:buSzPct val="10276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d90b00"/>
                </a:solidFill>
                <a:latin typeface="Big Caslon"/>
              </a:rPr>
              <a:t>Describes where places are on earth.</a:t>
            </a:r>
            <a:endParaRPr b="0" lang="en-US" sz="3100" spc="-1" strike="noStrike">
              <a:solidFill>
                <a:srgbClr val="330000"/>
              </a:solidFill>
              <a:latin typeface="Big Caslon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SzPct val="10276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3dcc"/>
                </a:solidFill>
                <a:latin typeface="Big Caslon"/>
              </a:rPr>
              <a:t>Types of Location:</a:t>
            </a:r>
            <a:endParaRPr b="0" lang="en-US" sz="31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130a96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0b00"/>
                </a:solidFill>
                <a:latin typeface="Big Caslon"/>
              </a:rPr>
              <a:t>ABSOLUTE: (lat/long)</a:t>
            </a:r>
            <a:endParaRPr b="0" lang="en-US" sz="25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130a96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0b00"/>
                </a:solidFill>
                <a:latin typeface="Big Caslon"/>
              </a:rPr>
              <a:t>RELATIVE: compared to another place (direction)</a:t>
            </a:r>
            <a:endParaRPr b="0" lang="en-US" sz="25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130a96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ig Caslon"/>
              </a:rPr>
              <a:t>Bojangles example</a:t>
            </a:r>
            <a:endParaRPr b="0" lang="en-US" sz="25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Big Caslon"/>
              </a:rPr>
              <a:t>Place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11049120" cy="69343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712"/>
                </a:solidFill>
                <a:latin typeface="Big Caslon"/>
              </a:rPr>
              <a:t>defined by it’s unique characteristics.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cc6018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ig Caslon"/>
              </a:rPr>
              <a:t>Physical characteristics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cc6018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Big Caslon"/>
              </a:rPr>
              <a:t>Cultural characteristics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Big Caslon"/>
              </a:rPr>
              <a:t>Physical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17520" y="2514240"/>
            <a:ext cx="12864960" cy="64897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cc6018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Big Caslon"/>
              </a:rPr>
              <a:t>The way a place looks (nature-mountains)</a:t>
            </a:r>
            <a:endParaRPr b="0" lang="en-US" sz="2800" spc="-1" strike="noStrike">
              <a:solidFill>
                <a:srgbClr val="330000"/>
              </a:solidFill>
              <a:latin typeface="Big Caslon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1a1a1a"/>
                </a:solidFill>
                <a:latin typeface="Big Caslon"/>
              </a:rPr>
              <a:t>Examples:</a:t>
            </a:r>
            <a:endParaRPr b="0" lang="en-US" sz="34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1a1a1a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1a"/>
                </a:solidFill>
                <a:latin typeface="Big Caslon"/>
              </a:rPr>
              <a:t>Andes Mountains are in South America.</a:t>
            </a:r>
            <a:endParaRPr b="0" lang="en-US" sz="2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1a1a1a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1a"/>
                </a:solidFill>
                <a:latin typeface="Big Caslon"/>
              </a:rPr>
              <a:t>Amazon River flows through Brazil.</a:t>
            </a:r>
            <a:endParaRPr b="0" lang="en-US" sz="2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1a1a1a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1a"/>
                </a:solidFill>
                <a:latin typeface="Big Caslon"/>
              </a:rPr>
              <a:t>Pampas are located in Argentina.</a:t>
            </a:r>
            <a:endParaRPr b="0" lang="en-US" sz="2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1a1a1a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1a"/>
                </a:solidFill>
                <a:latin typeface="Big Caslon"/>
              </a:rPr>
              <a:t>The isthmus of Panama connects Central &amp; South America. </a:t>
            </a:r>
            <a:endParaRPr b="0" lang="en-US" sz="2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Big Caslon"/>
              </a:rPr>
              <a:t>Cultural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0000"/>
              </a:solidFill>
              <a:latin typeface="Big Caslon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Big Caslon"/>
              </a:rPr>
              <a:t>Man-made/invented.</a:t>
            </a:r>
            <a:endParaRPr b="0" lang="en-US" sz="3400" spc="-1" strike="noStrike">
              <a:solidFill>
                <a:srgbClr val="330000"/>
              </a:solidFill>
              <a:latin typeface="Big Caslon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Big Caslon"/>
              </a:rPr>
              <a:t>Examples:</a:t>
            </a:r>
            <a:r>
              <a:rPr b="0" lang="en-US" sz="3800" spc="-1" strike="noStrike">
                <a:solidFill>
                  <a:srgbClr val="000000"/>
                </a:solidFill>
                <a:latin typeface="Big Caslon"/>
              </a:rPr>
              <a:t> 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Big Caslon"/>
              </a:rPr>
              <a:t>Portuguese is the official language of Brazil.</a:t>
            </a:r>
            <a:endParaRPr b="0" lang="en-US" sz="2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Big Caslon"/>
              </a:rPr>
              <a:t>Many Mexicans are Catholic.</a:t>
            </a:r>
            <a:endParaRPr b="0" lang="en-US" sz="2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Big Caslon"/>
              </a:rPr>
              <a:t>Mayan ruins are located in Mexico. </a:t>
            </a:r>
            <a:endParaRPr b="0" lang="en-US" sz="2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90000"/>
              </a:lnSpc>
              <a:spcBef>
                <a:spcPts val="1001"/>
              </a:spcBef>
              <a:buClr>
                <a:srgbClr val="330000"/>
              </a:buClr>
              <a:buFont typeface="Big Casl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Big Caslon"/>
              </a:rPr>
              <a:t>Cinco de Mayo is a national holiday in Mexico.</a:t>
            </a:r>
            <a:endParaRPr b="0" lang="en-US" sz="2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Big Caslon"/>
              </a:rPr>
              <a:t>MOVEMENT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77760" y="2819160"/>
            <a:ext cx="1104912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Big Caslon"/>
              </a:rPr>
              <a:t>How people, goods, ideas moved from place to place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marL="382680" indent="-343080">
              <a:spcBef>
                <a:spcPts val="1100"/>
              </a:spcBef>
              <a:buClr>
                <a:srgbClr val="00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Big Caslon"/>
              </a:rPr>
              <a:t>Human</a:t>
            </a:r>
            <a:r>
              <a:rPr b="0" lang="en-US" sz="4400" spc="-1" strike="noStrike">
                <a:solidFill>
                  <a:srgbClr val="330000"/>
                </a:solidFill>
                <a:latin typeface="Big Caslon"/>
              </a:rPr>
              <a:t> </a:t>
            </a:r>
            <a:r>
              <a:rPr b="0" lang="en-US" sz="4400" spc="-1" strike="noStrike">
                <a:solidFill>
                  <a:srgbClr val="d90b00"/>
                </a:solidFill>
                <a:latin typeface="Big Caslon"/>
              </a:rPr>
              <a:t>(car)</a:t>
            </a:r>
            <a:endParaRPr b="0" lang="en-US" sz="44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90b00"/>
                </a:solidFill>
                <a:latin typeface="Big Caslon"/>
              </a:rPr>
              <a:t>Information</a:t>
            </a:r>
            <a:r>
              <a:rPr b="0" lang="en-US" sz="3800" spc="-1" strike="noStrike">
                <a:solidFill>
                  <a:srgbClr val="330000"/>
                </a:solidFill>
                <a:latin typeface="Big Caslon"/>
              </a:rPr>
              <a:t> </a:t>
            </a:r>
            <a:r>
              <a:rPr b="0" lang="en-US" sz="3800" spc="-1" strike="noStrike">
                <a:solidFill>
                  <a:srgbClr val="d90b00"/>
                </a:solidFill>
                <a:latin typeface="Big Caslon"/>
              </a:rPr>
              <a:t>(phone)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90b00"/>
                </a:solidFill>
                <a:latin typeface="Big Caslon"/>
              </a:rPr>
              <a:t>Idea</a:t>
            </a:r>
            <a:r>
              <a:rPr b="0" lang="en-US" sz="3800" spc="-1" strike="noStrike">
                <a:solidFill>
                  <a:srgbClr val="330000"/>
                </a:solidFill>
                <a:latin typeface="Big Caslon"/>
              </a:rPr>
              <a:t> </a:t>
            </a:r>
            <a:r>
              <a:rPr b="0" lang="en-US" sz="3800" spc="-1" strike="noStrike">
                <a:solidFill>
                  <a:srgbClr val="d90b00"/>
                </a:solidFill>
                <a:latin typeface="Big Caslon"/>
              </a:rPr>
              <a:t>(TV)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2"/>
          <a:stretch/>
        </p:blipFill>
        <p:spPr>
          <a:xfrm>
            <a:off x="6985080" y="3568680"/>
            <a:ext cx="3082680" cy="20574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"/>
          <p:cNvPicPr/>
          <p:nvPr/>
        </p:nvPicPr>
        <p:blipFill>
          <a:blip r:embed="rId3"/>
          <a:stretch/>
        </p:blipFill>
        <p:spPr>
          <a:xfrm>
            <a:off x="9779040" y="3772080"/>
            <a:ext cx="2730600" cy="18190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"/>
          <p:cNvPicPr/>
          <p:nvPr/>
        </p:nvPicPr>
        <p:blipFill>
          <a:blip r:embed="rId4"/>
          <a:stretch/>
        </p:blipFill>
        <p:spPr>
          <a:xfrm>
            <a:off x="8242200" y="5423040"/>
            <a:ext cx="2616480" cy="17348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"/>
          <p:cNvPicPr/>
          <p:nvPr/>
        </p:nvPicPr>
        <p:blipFill>
          <a:blip r:embed="rId5"/>
          <a:stretch/>
        </p:blipFill>
        <p:spPr>
          <a:xfrm>
            <a:off x="6388200" y="7797960"/>
            <a:ext cx="1752480" cy="1682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8" descr=""/>
          <p:cNvPicPr/>
          <p:nvPr/>
        </p:nvPicPr>
        <p:blipFill>
          <a:blip r:embed="rId6"/>
          <a:stretch/>
        </p:blipFill>
        <p:spPr>
          <a:xfrm>
            <a:off x="9423360" y="7264440"/>
            <a:ext cx="1735200" cy="22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77760" y="329760"/>
            <a:ext cx="11049120" cy="24894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Big Caslon"/>
              </a:rPr>
              <a:t>REGIONS</a:t>
            </a:r>
            <a:endParaRPr b="0" lang="en-US" sz="6200" spc="-1" strike="noStrike">
              <a:solidFill>
                <a:srgbClr val="320000"/>
              </a:solidFill>
              <a:latin typeface="Big Caslo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3022200"/>
            <a:ext cx="11925360" cy="748044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How places are similar to and different from other places</a:t>
            </a:r>
            <a:r>
              <a:rPr b="1" lang="en-US" sz="3800" spc="-1" strike="noStrike">
                <a:solidFill>
                  <a:srgbClr val="330000"/>
                </a:solidFill>
                <a:latin typeface="Lucida Grande"/>
                <a:ea typeface="Lucida Grande"/>
              </a:rPr>
              <a:t>?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spcBef>
                <a:spcPts val="10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Big Caslon"/>
              </a:rPr>
              <a:t>Formal (NC/SC)</a:t>
            </a:r>
            <a:endParaRPr b="0" lang="en-US" sz="34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Functional</a:t>
            </a:r>
            <a:r>
              <a:rPr b="0" lang="en-US" sz="3400" spc="-1" strike="noStrike">
                <a:solidFill>
                  <a:srgbClr val="330000"/>
                </a:solidFill>
                <a:latin typeface="Lucida Grande"/>
                <a:ea typeface="Lucida Grande"/>
              </a:rPr>
              <a:t> </a:t>
            </a:r>
            <a:r>
              <a:rPr b="0" lang="en-US" sz="3800" spc="-1" strike="noStrike">
                <a:solidFill>
                  <a:srgbClr val="d90b00"/>
                </a:solidFill>
                <a:latin typeface="Big Caslon"/>
              </a:rPr>
              <a:t>(cell phone)</a:t>
            </a:r>
            <a:r>
              <a:rPr b="0" lang="en-US" sz="3800" spc="-1" strike="noStrike">
                <a:solidFill>
                  <a:srgbClr val="330000"/>
                </a:solidFill>
                <a:latin typeface="Big Caslon"/>
              </a:rPr>
              <a:t>.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  <a:p>
            <a:pPr lvl="1" marL="782640" indent="-285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Vernacular</a:t>
            </a:r>
            <a:r>
              <a:rPr b="1" lang="en-US" sz="34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 (</a:t>
            </a:r>
            <a:r>
              <a:rPr b="0" lang="en-US" sz="3800" spc="-1" strike="noStrike">
                <a:solidFill>
                  <a:srgbClr val="ff2712"/>
                </a:solidFill>
                <a:latin typeface="Big Caslon"/>
              </a:rPr>
              <a:t>perception</a:t>
            </a:r>
            <a:endParaRPr b="0" lang="en-US" sz="3800" spc="-1" strike="noStrike">
              <a:solidFill>
                <a:srgbClr val="330000"/>
              </a:solidFill>
              <a:latin typeface="Big Caslo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ylerDaughtry</cp:lastModifiedBy>
  <dcterms:modified xsi:type="dcterms:W3CDTF">2013-09-11T15:20:24Z</dcterms:modified>
  <cp:revision>4</cp:revision>
  <dc:subject/>
  <dc:title>Bell Ringer 9-11 </dc:title>
</cp:coreProperties>
</file>